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BAD-009F-48B3-828C-FE3F2E2B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4140-76EB-47C7-8D16-9740C0BC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3CA5-7FF8-4792-815B-CDD35CA1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FE7-CF70-409F-A698-3B595A78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7E41-01A6-4A7A-8C3A-897C64C9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5DC7-BD97-4E2B-BE32-56E9B6F2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362-5965-4A83-A71C-EF0C58AD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81A-274D-4948-8B03-12748807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264-FE33-4AE9-8F8B-41F633EB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E54D-78E3-4FED-A7AA-3B21B5FD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D13-98B0-47CE-B305-954AFC9A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AB6-8507-4996-9154-92A63F9B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1A1F-51B9-4D5C-963C-F05C9B240F5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6.20100601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6-01T02:30:16Z</dcterms:modified>
  <cp:revision>97</cp:revision>
  <dc:subject/>
  <dc:title>投影片 1</dc:title>
</cp:coreProperties>
</file>