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B95-5F5D-4D49-A244-4C2BCF6F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6DA8-0635-48CC-B5F5-990C2791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75E-629E-4AC1-A51F-C1988722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82F-359F-4F78-8B1F-6B8D66F5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5A2-5F88-4277-95EB-AFB440E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1E6-48E5-49F2-8CD7-C6668D40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FE87-4062-4F5E-9392-3D0123AF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4AD-42A0-42DC-A570-2D00713C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04C-641E-4D30-9042-B772CC50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675-E2A6-44A5-85B6-F8F3A54B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2B0-5452-4D04-B2C9-D60DFF87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113-2FDE-4E3B-AAF0-10799A9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863C-1A9B-4795-9B4B-B1F97D7C296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601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6-01T02:30:16Z</dcterms:modified>
  <cp:revision>97</cp:revision>
  <dc:subject/>
  <dc:title>投影片 1</dc:title>
</cp:coreProperties>
</file>