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19E-9E58-40DB-808F-16A8CF05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A1E-87AD-42D4-87D9-D06CB74B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C33-8617-41D5-AEB6-42FF0A45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0C7-3DFC-4A45-97CB-6E626E24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E1AD-5B29-4825-941D-93EBE901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51B-CD6D-4BBA-B614-6ADD1588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9AC0-AD49-423B-A1F9-2388E271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14F-B813-4EE0-960C-84CA54B3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859-C3C7-4EE5-B738-08919EBF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91F-8053-493C-B57C-5E2FD5AD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603-FCCA-42B3-BFF4-8B52053C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89B-1BA7-4280-A672-74228F10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7564-BCD6-4039-8EFF-FD50C2DF781E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0006.20100601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6-01T02:30:16Z</dcterms:modified>
  <cp:revision>97</cp:revision>
  <dc:subject/>
  <dc:title>投影片 1</dc:title>
</cp:coreProperties>
</file>