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BA4-5E99-4A25-A70F-0E3F0622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A4D-B338-491A-96D0-3E20E4DD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C2B-04AA-47B9-A9AE-B6A90D59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546-9A5F-4FC6-9487-C9A5500A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AD1-EAF8-46C3-B2F8-6616B79A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F0F-116C-4E32-A808-030CBDBD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A33-EAAF-4337-8F05-EA38C24D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B80-27E4-4069-8A44-7565383B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776-19EF-43B5-8849-79D7B120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CEC-8F82-4466-A852-15D4B409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C08-54E7-468F-AC5C-7977AF85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107-0533-4B82-AE89-B52E6A63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7AA3-5514-4161-B77D-71079741699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601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6-01T02:30:16Z</dcterms:modified>
  <cp:revision>97</cp:revision>
  <dc:subject/>
  <dc:title>投影片 1</dc:title>
</cp:coreProperties>
</file>