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DDA-D661-4C28-ABD2-3D506B74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C68-0B4B-46F6-97E8-63E91F7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F5E-7737-41D7-8453-7BF18BA8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43B-138D-4154-9590-39429D08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E89E-A339-4B37-B595-58B46E6E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C702-085A-4759-907E-1E12CA9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4612-92F6-4654-A685-8B3BA86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19E-9F5E-402C-B7A6-2C04FE0D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B71B-3DCB-4BB7-9CFB-C0C853D0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8EA7-B7C9-474D-8A45-114AFBA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E61-6FDA-4AA2-B9A2-DC9AF5D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059-6032-4469-AA69-03391BE1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CA6-248B-466B-871E-11F85F4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9E2A-41D7-4486-BAEF-6690275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00D-82AA-475C-9BE2-A54E8741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7432-FC27-4F51-B1A8-B353C0C3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9C41-3A89-49C2-871F-E2DE71E7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AC0B-09A7-4E05-9B1D-89882AED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0BDA-D242-4B5C-9F69-DADD002C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0A7F-6871-49C5-BA60-0BBF5E01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507B-6314-4E0F-AF8F-CB8640E0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5A1F-1198-4C28-B586-861789A3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DD1-C331-44A9-A80C-7A94B9CC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FB06-510A-49BE-A479-DEB554F8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0557-6D94-4F78-9E81-3220457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3F35-C34B-4754-9221-9B3293A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F24F-0172-4F06-986E-DCA09D0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BF66-67D3-4385-B260-23A880C1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A06F-2475-40CF-A7EA-149C86FE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EDD3-604F-46C9-8458-87516FA6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663-E3C6-481F-9E7D-1F4428C2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47A-84DE-415D-855A-AD809A52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E45-033C-4AE6-8D62-79DC571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4B6-E6EF-4FE5-A719-BD88F55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D48-BDEB-46AF-A40E-78B8D29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C0D-09C7-4ADD-A921-5A00414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6737-DCC2-468B-8BEF-C7FCD39F0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56B-B944-46F7-A1CF-3EA1DCC2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22C-F175-4D5E-B687-37C0B6F6B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hyperlink" Target="http://image.baidu.com/i?ct=503316480&amp;z=261380753&amp;tn=baiduimagedetail&amp;word=&#27491;&#20116;&#36793;&#24418;&amp;in=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16360" y="2997360"/>
            <a:ext cx="668160" cy="66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195640" y="3935520"/>
            <a:ext cx="216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档案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92720" y="1122480"/>
            <a:ext cx="41148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幼圆"/>
              </a:rPr>
              <a:t>卷首语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幼圆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  <a:ea typeface="幼圆"/>
              </a:rPr>
              <a:t>每一个孩子都是幸福的天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  <a:ea typeface="幼圆"/>
              </a:rPr>
              <a:t>在自己的城堡建造属于自己的童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我们惊喜地观赏孩子们的童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耐心地记录他们成长的点滴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给他们留下最美的记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留下童年的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和最真切的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rcRect l="10216" t="0" r="21789" b="0"/>
          <a:stretch/>
        </p:blipFill>
        <p:spPr>
          <a:xfrm>
            <a:off x="4716360" y="1125360"/>
            <a:ext cx="612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320" y="1773360"/>
            <a:ext cx="67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__________________________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03600"/>
            <a:ext cx="80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64104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————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0" y="407592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ff"/>
                </a:solidFill>
                <a:latin typeface="Arial"/>
                <a:ea typeface="幼圆"/>
              </a:rPr>
              <a:t>记录生活中的点滴趣事，留下一个个最童真的足迹。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70400" y="515700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记录人：</a:t>
            </a: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65000" y="5660280"/>
            <a:ext cx="38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  <a:ea typeface="幼圆"/>
              </a:rPr>
              <a:t>                             </a:t>
            </a: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日   期：</a:t>
            </a: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_________ </a:t>
            </a:r>
            <a:r>
              <a:rPr b="0" i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624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童年的世界，梦想如诗如画，如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月星辰般灿烂，幼儿园的世界是你们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现蔚蓝色梦想的摇篮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幼圆"/>
              </a:rPr>
              <a:t>,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我愿是轻抚摇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的双手，我愿是流淌在你们心间的甜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童谣，陪伴你们在这梦开始的地方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成长！祝福你们，亲爱的孩子，愿你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存留住最美好的时光，健康茁壮地成长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幼圆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637080" y="117360"/>
            <a:ext cx="22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方正少儿_GBK"/>
              </a:rPr>
              <a:t>结束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方正少儿_GBK"/>
              <a:ea typeface="方正少儿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6" descr="88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3060720" y="2852640"/>
            <a:ext cx="4114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名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年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幼儿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班级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爱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梦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70172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71640" y="981000"/>
            <a:ext cx="41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是谁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700360" y="1052640"/>
            <a:ext cx="259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快乐的一家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55640" y="549360"/>
            <a:ext cx="27781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楷体_GB2312"/>
              </a:rPr>
              <a:t>快乐的一家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1916280"/>
            <a:ext cx="59756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我爱我的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幼儿园里朋友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又唱歌来又跳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大家一起多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79280" y="115920"/>
            <a:ext cx="403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我和我的伙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27840" y="262080"/>
            <a:ext cx="273528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637080" y="1844640"/>
            <a:ext cx="2520720" cy="2661840"/>
            <a:chOff x="3637080" y="1844640"/>
            <a:chExt cx="2520720" cy="2661840"/>
          </a:xfrm>
        </p:grpSpPr>
        <p:pic>
          <p:nvPicPr>
            <p:cNvPr id="14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7080" y="1844640"/>
              <a:ext cx="2520720" cy="26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336200" y="2492280"/>
              <a:ext cx="1120320" cy="1294920"/>
            </a:xfrm>
            <a:prstGeom prst="pentagon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图片 15" descr=""/>
          <p:cNvPicPr/>
          <p:nvPr/>
        </p:nvPicPr>
        <p:blipFill>
          <a:blip r:embed="rId5"/>
          <a:stretch/>
        </p:blipFill>
        <p:spPr>
          <a:xfrm>
            <a:off x="5940360" y="3790800"/>
            <a:ext cx="3168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193840" cy="292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117360"/>
            <a:ext cx="223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我的作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2749680"/>
            <a:ext cx="4038480" cy="2226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4920" y="117360"/>
            <a:ext cx="38512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精彩瞬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95280" y="117360"/>
            <a:ext cx="33480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生活中的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6299280" y="1843200"/>
            <a:ext cx="2233440" cy="1003320"/>
          </a:xfrm>
          <a:prstGeom prst="wedgeEllipseCallout">
            <a:avLst>
              <a:gd name="adj1" fmla="val -56046"/>
              <a:gd name="adj2" fmla="val 4432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2852640"/>
            <a:ext cx="2089080" cy="1008000"/>
          </a:xfrm>
          <a:prstGeom prst="wedgeEllipseCallout">
            <a:avLst>
              <a:gd name="adj1" fmla="val -60638"/>
              <a:gd name="adj2" fmla="val 284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3933720"/>
            <a:ext cx="2232000" cy="936720"/>
          </a:xfrm>
          <a:prstGeom prst="wedgeEllipseCallout">
            <a:avLst>
              <a:gd name="adj1" fmla="val -62875"/>
              <a:gd name="adj2" fmla="val 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77080" y="2133360"/>
            <a:ext cx="129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你看我多能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321300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你看我多认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422100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你看我多漂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564000" y="4005360"/>
            <a:ext cx="3095640" cy="2520720"/>
            <a:chOff x="3564000" y="4005360"/>
            <a:chExt cx="3095640" cy="2520720"/>
          </a:xfrm>
        </p:grpSpPr>
        <p:pic>
          <p:nvPicPr>
            <p:cNvPr id="163" name="图片 5" descr=""/>
            <p:cNvPicPr/>
            <p:nvPr/>
          </p:nvPicPr>
          <p:blipFill>
            <a:blip r:embed="rId2"/>
            <a:stretch/>
          </p:blipFill>
          <p:spPr>
            <a:xfrm>
              <a:off x="3564000" y="4005360"/>
              <a:ext cx="309564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20"/>
            <p:cNvSpPr/>
            <p:nvPr/>
          </p:nvSpPr>
          <p:spPr>
            <a:xfrm>
              <a:off x="4041360" y="4199400"/>
              <a:ext cx="2363040" cy="9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08000" y="2854440"/>
            <a:ext cx="3381480" cy="2593800"/>
            <a:chOff x="1908000" y="2854440"/>
            <a:chExt cx="3381480" cy="2593800"/>
          </a:xfrm>
        </p:grpSpPr>
        <p:pic>
          <p:nvPicPr>
            <p:cNvPr id="166" name="图片 5" descr=""/>
            <p:cNvPicPr/>
            <p:nvPr/>
          </p:nvPicPr>
          <p:blipFill>
            <a:blip r:embed="rId3"/>
            <a:stretch/>
          </p:blipFill>
          <p:spPr>
            <a:xfrm>
              <a:off x="1908000" y="2854440"/>
              <a:ext cx="3381480" cy="25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20"/>
            <p:cNvSpPr/>
            <p:nvPr/>
          </p:nvSpPr>
          <p:spPr>
            <a:xfrm>
              <a:off x="2429640" y="3053880"/>
              <a:ext cx="258120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32000" y="1198440"/>
            <a:ext cx="2952720" cy="2592360"/>
            <a:chOff x="1332000" y="1198440"/>
            <a:chExt cx="2952720" cy="2592360"/>
          </a:xfrm>
        </p:grpSpPr>
        <p:pic>
          <p:nvPicPr>
            <p:cNvPr id="169" name="图片 2" descr=""/>
            <p:cNvPicPr/>
            <p:nvPr/>
          </p:nvPicPr>
          <p:blipFill>
            <a:blip r:embed="rId4"/>
            <a:stretch/>
          </p:blipFill>
          <p:spPr>
            <a:xfrm>
              <a:off x="1332000" y="1198440"/>
              <a:ext cx="2952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20"/>
            <p:cNvSpPr/>
            <p:nvPr/>
          </p:nvSpPr>
          <p:spPr>
            <a:xfrm>
              <a:off x="1709640" y="1432800"/>
              <a:ext cx="220788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62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4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75040" y="1176480"/>
            <a:ext cx="332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403560"/>
            <a:ext cx="29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45080" y="2059920"/>
            <a:ext cx="439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 rot="1572000">
            <a:off x="6229440" y="479520"/>
            <a:ext cx="26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_GB2312"/>
              </a:rPr>
              <a:t>教师的话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微软用户</cp:lastModifiedBy>
  <cp:lastPrinted>1899-12-30T00:00:00Z</cp:lastPrinted>
  <dcterms:modified xsi:type="dcterms:W3CDTF">2012-09-19T12:34:08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