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20F43-B9AB-4BE8-B05E-1F8FAF0915D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ypppt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290FC-D913-4964-A18B-F5CCE0B8B8F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D081-CE58-4059-8DE4-C6C37377E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B6ED-1A13-4C28-8283-25F28CBCD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0B03F2-8264-4F0C-8E48-D9F2CBDF8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D17109-CDD7-4546-BB3D-C868732B6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AC779C-D9FC-4387-93F9-338AE1DF9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BE3AD5-84E8-4CCA-8B34-7D15673D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310C57-6E44-455C-B2F2-DE5D3827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15AFCC-2027-435F-8DD6-33376578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2022F5-E447-4C26-9D25-807E72946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BC3254-278B-4210-86AE-14D9109D8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78809A-B50E-4ACD-94C0-B1DFE1E91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B9DCA5-3C96-476A-B62C-A0F3BEAE4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CC2D-84A3-4DDD-A940-A81B1588E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58E68D-C5CC-48BD-8041-19D195887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1AB934-81B2-4474-BD8F-48F669E75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DA5AB6-19F5-4CA4-B522-25165EBBA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31C9C0-1076-41A7-8C78-B6BE1B3D5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00D3E7-59F7-4B11-B75E-9D2886B8D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5E5987-B91E-468E-97CE-61D9E52A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7BD301-2724-476C-AFEA-0A8C65F3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3CF60D-025E-4C55-BEA6-C9076737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E27179-3C0E-4EC9-9FBC-B5741AF5E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BC78A6-381E-4968-B32D-5124C49CE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244B-E176-4C88-8E12-D7248D529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3D8599-C90C-485B-B6EF-60F64A5DB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9AC9C8-F893-4879-8746-436EEAAA6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4E27EC-5108-4F34-8C80-0E556C123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D05D9A-791A-4DF2-9610-D3CF241F1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45E6E9-8606-47E6-83AD-482FA64C1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06F17B-F94F-44B4-9F2D-6B6BCAF3B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335143-ED63-4111-8A2E-3DEAAC5B6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E07A95-41AB-4904-95EF-A66EC3F4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9C1742-565D-45EB-B3AA-1AA2CA21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B294CE-07F6-4EFA-B888-623371CF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AA493-E78F-43F0-96B5-2985A5850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4A1169-7BF2-43CF-B1F6-9547984DE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8D0F57-BEE2-4B63-AF93-C72A9DB41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726E0F-23D6-4613-98D1-E5B01A0DA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F535D5-46F6-4D37-9671-30E20BCDC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184A90-CDCA-4973-BC94-158196CF2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AEB3DF-B8DB-4B09-ABC0-8C90B5662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C03D6A-69EE-4D74-BF10-4A0521C11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C12326-C549-4F91-848F-80D22BA7A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9FEBF9-9C4E-4727-AEAD-403CB926C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A13C88-9011-45BA-B50A-61C95D8C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91973-6A72-4ABE-9AAA-CF0FAA748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B8672D-3F8B-4D21-BEA6-7EB13176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744A5B-7484-4559-9FCB-BAF05F03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182899-2CF5-4689-8AE0-54A5C8C9B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C4C145-8504-4799-8E4A-F3312D4DD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B31A58-D670-4119-8A3F-C9DA35C86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800386-090D-44AA-9399-2C7D27E3B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39AA35-B006-4B98-AA01-85A8C7AE0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0D8A0B-7807-4728-8DEF-94945A29B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74DAF4-FEFD-4489-93D2-48C669741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2FE5C0-AACD-4F9D-8CFF-A4C6F63A8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B5005-BE0A-40D0-BDAD-13B25687E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17140B-BD2D-4D16-A9DE-299889C88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498DA5-57B5-4BFA-A5C4-551C9911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A8DC0B-E287-4983-942D-31733401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4D98A4-D99B-413F-BD43-A0F07A72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F842EC-F83B-4DF1-BDB9-713AC4140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559BC7-2552-49EA-A835-E096B3B4D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3EAAED-D0AA-4EA6-B1C7-5425E7FD7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5370E-51CB-4C1C-90B7-7FFB92F60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8311F-15AD-4B72-BDDF-0BE011FC0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315D2-2845-4331-9A4A-27C1DC734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D4C6F-0D03-4ADC-9A68-2254DA6E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AA59-F04E-4C0F-A90C-7D8DD99BC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A170A-7DE1-4103-8181-A8F79759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24451-7EB2-4928-B924-C94DE334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4A86E-8651-4CE3-8C51-2E887A164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C490B-19FA-4DA1-A3DC-DC4283014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B679B-1DB0-4452-8827-B46B46702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E6E9D-5461-4A69-BEFA-FF4C9EACB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1C45B-7237-42FA-9C33-F723EEDB2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4EB44-B1D7-4DCD-9899-2A1BDCD12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AD5F2-294D-4D33-B39F-A104CCC33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B3742-56DA-4F45-AB80-3D3830050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D796-3FB0-4402-BB6E-3A8697CE0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5341E-8D8F-446B-8985-4F24A7564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35664-E496-4C18-BDDC-CAA2A42A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B6D39-5F9C-4213-AEC1-2FE9021D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A6BDA-9F9C-49A4-AC38-6ABEB8A7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C6273-8670-482D-BB75-0BF989E96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58B5D-8A13-4418-915A-5119A13E7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C3359-B18D-45AD-9903-4FDA4297B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C44A9-56D1-46BD-A846-0E35F0ADA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67ACA-B0FE-4027-9397-63ABB1D5F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3325F-60A9-47B0-836B-DA7B7AA94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53DA-AF8B-4B42-BC1F-A0FA83913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9FD35-34F5-493E-9281-2C5BBA5E3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3EB9C-4DBD-4D91-BE4A-4FDBDDEC7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7B8A9-0192-445A-842B-C11C20F44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C5481-E283-4201-8DFF-05DC94DA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659C5-D928-46E3-94CB-66FF3E6B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4A894-E779-49F0-8039-8719D94D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F10A9-D795-4759-8BA8-A8F632F57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A51F3-59E9-4E1A-9A1C-01785CDEA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DF8DC-6AB6-401C-A72F-8E3AFEE4B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08EDC-755F-4C0C-B2DF-4D04DF578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D8B8-CC6F-464C-B0DA-DAB2B5C46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CE535-08A2-48CD-A0F4-4203FEFA8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20981-8FF6-4A61-94AB-3B722C256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F3793-6A46-46D4-89AC-CB076DA12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85634-FAF7-4EE7-8A10-A8CE781A5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F424C-267F-4E3A-8CCD-83DCC6C5E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35028-9191-4A3D-8DA6-6BBE21E4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476CD-5DA9-474D-84B7-60D9345C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E0055-2C74-4533-80C4-1250A793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57B7D-8F9E-4BA8-82B8-BC1844042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D4F3C-CEF9-4FD2-B4D0-F35C6CDC0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747B-20DA-480B-9C32-B3860DB0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C647A-9BD1-4609-8EBF-87FB9C76A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DE2D09-4729-4538-9AAD-C68370969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7ED05-C6AF-4797-910D-88288175B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897992-FB04-483B-BADC-DAB3384C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FEE2C-3AD6-4230-B959-1D20AF8EF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7A764-4E42-4A28-BFB2-8DA8DE3B9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78F78-383B-4105-A24B-F68E04C18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1DA85B-8ECC-4B7C-ABD5-CBCA306B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7D1C2-C747-401E-8549-91AF5EA1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95BCB-D31C-49A4-A0D3-CBCAC892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074E-44A3-4ABA-81DF-625D4596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2FF96-6C33-49FF-9C80-D3C75FA6A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D1AB7-5F14-4E9A-BB29-552B8B245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E3B8A-1769-486A-B32F-9F541918D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C594D-0446-4F63-820B-0E356C1AB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68285-FD06-4ED7-B0D0-C2119DA1D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272563-EEC8-4334-A5F7-7FD3FF9F2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C721A-5F06-4DD4-B967-C95EAF54A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704E9-7DC1-4378-9FF1-97494D030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04A5A-72AA-4E06-93ED-BB5C8BDBE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302F7A-C602-4AE4-AC32-E8EEA4A7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A5E6-9499-452F-B0FE-41E85407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207B1-B7BA-46FF-A6D5-3D83D216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5A4DE-A219-42AB-8CD7-14B28E74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CAB80-47E8-44A9-A1DE-1249DC0A2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17788-DB36-4C84-ABE5-53A508AA3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A6681E-AA53-4D7B-91D0-EC25EA727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1F70E-82AF-47F5-B650-10AF670CF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A120BC-479D-4285-B9C4-3862BEE3E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1A6D76-8C6A-4D5B-8B0F-231E5E9CD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2527DE-4014-4465-BCB4-2D20E6568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87DDD3-F91E-4FE8-AF32-A821AC79F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B916-9C41-40B4-9506-AC764524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DF8903-050F-4237-856A-EB421AEAC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EA4B94-DF2A-4D29-8F74-B1B547C6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C4B9FF-82B7-4143-8792-AB86475A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14F4A3-44D3-41B4-9D04-AA798206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7CB227-D3DB-42EF-9B35-3F00BA235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166F7D-54D7-46AA-B528-31659FD87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C5415A-83EB-4126-B1C5-5E2328CE3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D4EFF1-C415-4A84-A21B-F75CF0E9F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920115-16C9-4D7D-9A30-1501233C3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90EF10-C076-4319-A3EC-776CCE7B2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5202C-6CB5-4F2B-A50B-13296D2879A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A5338-F184-4A05-91F4-7A379F053A79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1B0F5-5961-4CA6-8D38-A076B7B39CC0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14896-FCE4-4306-A0BC-72D500202756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14ACF-6D9D-4955-83BD-1654561B3FD2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52702-BC0B-4D02-90E9-9D4DCFCC550C}" type="slidenum">
              <a:rPr b="0" lang="zh-CN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2021A-2294-4B48-9B3B-A62BD2A9B35B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A0ECB-EAA6-4C6D-9BB4-D5112A3DE0A0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DA8A6-92EA-4762-84EB-FB70D70EF856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7A956-777A-4E53-A48E-C2B1B4A4DED2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FC54C-5CBD-4307-820E-5E699D30E6BB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E47F0-6763-468B-BAD2-878CB33D53CE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5B721-082B-416D-AF4E-A1BC183FB83B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40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371600" y="2914560"/>
            <a:ext cx="640080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42" name="图片 3" descr="照片 001.jpg"/>
          <p:cNvPicPr/>
          <p:nvPr/>
        </p:nvPicPr>
        <p:blipFill>
          <a:blip r:embed="rId1"/>
          <a:stretch/>
        </p:blipFill>
        <p:spPr>
          <a:xfrm>
            <a:off x="1620720" y="0"/>
            <a:ext cx="590256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0" name="内容占位符 3" descr=""/>
          <p:cNvPicPr/>
          <p:nvPr/>
        </p:nvPicPr>
        <p:blipFill>
          <a:blip r:embed="rId1"/>
          <a:stretch/>
        </p:blipFill>
        <p:spPr>
          <a:xfrm>
            <a:off x="0" y="504720"/>
            <a:ext cx="914400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2" name="内容占位符 3" descr="照片 011.jpg"/>
          <p:cNvPicPr/>
          <p:nvPr/>
        </p:nvPicPr>
        <p:blipFill>
          <a:blip r:embed="rId1"/>
          <a:stretch/>
        </p:blipFill>
        <p:spPr>
          <a:xfrm>
            <a:off x="0" y="501480"/>
            <a:ext cx="914400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4" name="内容占位符 3" descr="照片 012.jpg"/>
          <p:cNvPicPr/>
          <p:nvPr/>
        </p:nvPicPr>
        <p:blipFill>
          <a:blip r:embed="rId1"/>
          <a:stretch/>
        </p:blipFill>
        <p:spPr>
          <a:xfrm>
            <a:off x="0" y="501480"/>
            <a:ext cx="914400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6" name="内容占位符 3" descr=""/>
          <p:cNvPicPr/>
          <p:nvPr/>
        </p:nvPicPr>
        <p:blipFill>
          <a:blip r:embed="rId1"/>
          <a:stretch/>
        </p:blipFill>
        <p:spPr>
          <a:xfrm>
            <a:off x="0" y="504720"/>
            <a:ext cx="914400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8" name="内容占位符 3" descr="照片 014.jpg"/>
          <p:cNvPicPr/>
          <p:nvPr/>
        </p:nvPicPr>
        <p:blipFill>
          <a:blip r:embed="rId1"/>
          <a:stretch/>
        </p:blipFill>
        <p:spPr>
          <a:xfrm>
            <a:off x="0" y="501480"/>
            <a:ext cx="914400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0" name="内容占位符 3" descr="照片 015.jpg"/>
          <p:cNvPicPr/>
          <p:nvPr/>
        </p:nvPicPr>
        <p:blipFill>
          <a:blip r:embed="rId1"/>
          <a:stretch/>
        </p:blipFill>
        <p:spPr>
          <a:xfrm>
            <a:off x="1619280" y="0"/>
            <a:ext cx="590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任意多边形 2"/>
          <p:cNvSpPr/>
          <p:nvPr/>
        </p:nvSpPr>
        <p:spPr>
          <a:xfrm>
            <a:off x="1681200" y="2209680"/>
            <a:ext cx="447480" cy="492120"/>
          </a:xfrm>
          <a:custGeom>
            <a:avLst/>
            <a:gdLst/>
            <a:ahLst/>
            <a:rect l="l" t="t" r="r" b="b"/>
            <a:pathLst>
              <a:path w="576448" h="576263">
                <a:moveTo>
                  <a:pt x="0" y="0"/>
                </a:moveTo>
                <a:lnTo>
                  <a:pt x="575933" y="576263"/>
                </a:lnTo>
                <a:cubicBezTo>
                  <a:pt x="577576" y="384175"/>
                  <a:pt x="574620" y="192088"/>
                  <a:pt x="57626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6194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矩形 3"/>
          <p:cNvSpPr/>
          <p:nvPr/>
        </p:nvSpPr>
        <p:spPr>
          <a:xfrm>
            <a:off x="2124000" y="2212920"/>
            <a:ext cx="7020000" cy="4921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5000" rIns="135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ypppt.com/gushi/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矩形 6"/>
          <p:cNvSpPr/>
          <p:nvPr/>
        </p:nvSpPr>
        <p:spPr>
          <a:xfrm>
            <a:off x="0" y="1636560"/>
            <a:ext cx="6985080" cy="5810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  </a:t>
            </a:r>
            <a:r>
              <a:rPr b="0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绘本故事</a:t>
            </a:r>
            <a:r>
              <a:rPr b="0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在</a:t>
            </a:r>
            <a:r>
              <a:rPr b="0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r>
              <a:rPr b="0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优品</a:t>
            </a:r>
            <a:r>
              <a:rPr b="0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！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直角三角形 5"/>
          <p:cNvSpPr/>
          <p:nvPr/>
        </p:nvSpPr>
        <p:spPr>
          <a:xfrm>
            <a:off x="6985080" y="1633680"/>
            <a:ext cx="639720" cy="583920"/>
          </a:xfrm>
          <a:prstGeom prst="rtTriangle">
            <a:avLst/>
          </a:prstGeom>
          <a:solidFill>
            <a:srgbClr val="007c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矩形 11"/>
          <p:cNvSpPr/>
          <p:nvPr/>
        </p:nvSpPr>
        <p:spPr>
          <a:xfrm>
            <a:off x="1936800" y="2940120"/>
            <a:ext cx="51800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下载：</a:t>
            </a:r>
            <a:r>
              <a:rPr b="0" lang="en-US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moban/         </a:t>
            </a:r>
            <a:r>
              <a:rPr b="0" lang="zh-CN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节日</a:t>
            </a:r>
            <a:r>
              <a:rPr b="0" lang="en-US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jier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背景图片：</a:t>
            </a:r>
            <a:r>
              <a:rPr b="0" lang="en-US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beijing/          PPT</a:t>
            </a:r>
            <a:r>
              <a:rPr b="0" lang="zh-CN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图表下载：</a:t>
            </a:r>
            <a:r>
              <a:rPr b="0" lang="en-US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tub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素材下载：</a:t>
            </a:r>
            <a:r>
              <a:rPr b="0" lang="en-US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r>
              <a:rPr b="0" lang="en-US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sucai/            PPT</a:t>
            </a:r>
            <a:r>
              <a:rPr b="0" lang="zh-CN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下载：</a:t>
            </a:r>
            <a:r>
              <a:rPr b="0" lang="en-US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jiaoche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字体下载：</a:t>
            </a:r>
            <a:r>
              <a:rPr b="0" lang="en-US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http://www.ypppt.com/ziti/            </a:t>
            </a:r>
            <a:r>
              <a:rPr b="0" lang="zh-CN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绘本故事</a:t>
            </a:r>
            <a:r>
              <a:rPr b="0" lang="en-US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：</a:t>
            </a:r>
            <a:r>
              <a:rPr b="0" lang="en-US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http://www.ypppt.com/gush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4" name="内容占位符 3" descr="照片 002.jpg"/>
          <p:cNvPicPr/>
          <p:nvPr/>
        </p:nvPicPr>
        <p:blipFill>
          <a:blip r:embed="rId1"/>
          <a:stretch/>
        </p:blipFill>
        <p:spPr>
          <a:xfrm>
            <a:off x="0" y="501480"/>
            <a:ext cx="914400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6" name="内容占位符 3" descr="照片 003.jpg"/>
          <p:cNvPicPr/>
          <p:nvPr/>
        </p:nvPicPr>
        <p:blipFill>
          <a:blip r:embed="rId1"/>
          <a:stretch/>
        </p:blipFill>
        <p:spPr>
          <a:xfrm>
            <a:off x="0" y="501480"/>
            <a:ext cx="914400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8" name="内容占位符 3" descr="照片 004.jpg"/>
          <p:cNvPicPr/>
          <p:nvPr/>
        </p:nvPicPr>
        <p:blipFill>
          <a:blip r:embed="rId1"/>
          <a:stretch/>
        </p:blipFill>
        <p:spPr>
          <a:xfrm>
            <a:off x="0" y="501480"/>
            <a:ext cx="914400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0" name="内容占位符 3" descr="照片 005.jpg"/>
          <p:cNvPicPr/>
          <p:nvPr/>
        </p:nvPicPr>
        <p:blipFill>
          <a:blip r:embed="rId1"/>
          <a:stretch/>
        </p:blipFill>
        <p:spPr>
          <a:xfrm>
            <a:off x="0" y="501480"/>
            <a:ext cx="914400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2" name="内容占位符 3" descr="照片 006.jpg"/>
          <p:cNvPicPr/>
          <p:nvPr/>
        </p:nvPicPr>
        <p:blipFill>
          <a:blip r:embed="rId1"/>
          <a:stretch/>
        </p:blipFill>
        <p:spPr>
          <a:xfrm>
            <a:off x="0" y="501480"/>
            <a:ext cx="914400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4" name="内容占位符 3" descr="照片 007.jpg"/>
          <p:cNvPicPr/>
          <p:nvPr/>
        </p:nvPicPr>
        <p:blipFill>
          <a:blip r:embed="rId1"/>
          <a:stretch/>
        </p:blipFill>
        <p:spPr>
          <a:xfrm>
            <a:off x="0" y="501480"/>
            <a:ext cx="914400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6" name="内容占位符 3" descr="照片 008.jpg"/>
          <p:cNvPicPr/>
          <p:nvPr/>
        </p:nvPicPr>
        <p:blipFill>
          <a:blip r:embed="rId1"/>
          <a:stretch/>
        </p:blipFill>
        <p:spPr>
          <a:xfrm>
            <a:off x="0" y="501480"/>
            <a:ext cx="914400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8" name="内容占位符 3" descr="照片 009.jpg"/>
          <p:cNvPicPr/>
          <p:nvPr/>
        </p:nvPicPr>
        <p:blipFill>
          <a:blip r:embed="rId1"/>
          <a:stretch/>
        </p:blipFill>
        <p:spPr>
          <a:xfrm>
            <a:off x="0" y="501480"/>
            <a:ext cx="914400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15:26:25Z</dcterms:created>
  <dc:creator>优品PPT</dc:creator>
  <dc:description>http://www.ypppt.com/</dc:description>
  <cp:keywords>http:/www.ypppt.com</cp:keywords>
  <dc:language>en-US</dc:language>
  <cp:lastModifiedBy>Administrator</cp:lastModifiedBy>
  <dcterms:modified xsi:type="dcterms:W3CDTF">2017-04-02T09:48:24Z</dcterms:modified>
  <cp:revision>5</cp:revision>
  <dc:subject/>
  <dc:title>PowerPoint 演示文稿</dc:title>
</cp:coreProperties>
</file>