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5F9-F865-4424-B24D-AF693ACD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344-60EF-400E-8DF0-F49B3F35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CF351-1197-497C-98FF-5DB9355E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7970D-7645-4BC4-B15A-1709B7E9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DAFE1-266F-4E9D-A409-12096412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1C6C8-BFD2-454B-9F42-69A66C63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9A09D-1A4E-4C4C-9BB7-7D845928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7B8DE-AF40-4B0C-A814-5733C659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61AE5-B720-4866-AC46-AD7B0021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913AF-750F-4453-AA1B-EF2C5C29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E9718-6369-45D2-9756-193329DA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B279A-8169-49B3-A601-23EBA2F3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662-13C1-45FB-AD70-C2463DE8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DAE00-8677-4E7D-9E96-E93C90EA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7F3AB-5061-4BF2-AACE-DC01F0CE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18C52-82EA-4EBF-8732-3A2B91BD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5BCCD-56D7-4876-8765-E9516A14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9A245-9865-409F-88EB-CDB6C14F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F4F9E-936A-4C3F-8B25-C5EEFF06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BF4BA-701A-4CB5-92E8-C3EB145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700CE-B264-45F3-93CE-FF4BB16B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AA58F-47E2-4612-B4C9-5031112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B70A2-6F42-440F-B1B3-1CB0E0EE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A6F-11B0-41C7-9B5A-835F0729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B3376-AF08-421E-9588-E69F7287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B6FEF-EADF-459D-9393-CF47324C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E74D4-9585-4013-AE0C-868DE107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36EE7-AC06-4A4A-BEA7-27440AF7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83F1E-4013-4BD5-8C93-C3E6A933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21350-97DB-4CEC-8387-6F23E38B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C04F7-9B7E-4E4F-88EF-33898703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D8E30-CF89-4626-B081-88673F51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AB831-4EFD-4A07-AE15-376BEF7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3093B-1A28-4D2D-9993-B7F9643C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E934-F4CB-44A9-87F8-D887D730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10F23-5CBC-4398-A172-9C39EE6A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A9421-16C8-455E-8B80-01F2F454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CC2BD-5999-4E28-B813-766EC812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51692-DBBA-4034-B061-B339E2BB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44A97-E030-47A1-B386-E5C552A5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C8D7C-F13F-4913-9F1A-EB33199F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25A13-B540-4987-AD6C-4F692BE0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51EF7-DF65-4DE7-9B96-A429ADAF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03450-B596-44B1-B3BF-BE3AD056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24180-A4A8-49BC-B88A-AA75EA6E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74B6-23BE-41C1-93AB-0D25C1CF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99B94-35AB-4F85-B041-D9A8776A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78DF2-3DFA-434F-9F9B-DC9890FF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4E11B-A934-498A-B0F0-45E1B6E3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D73B2-3105-435B-8AD2-0ACEA94F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AB8DE-CCB5-4A1B-8497-7BE95C9D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7DEC9-FD81-4CEB-B061-99EB6316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7CE38-C21C-44EE-AF86-C5F45AFF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D1DD8-3ABE-4190-AC93-67C2B1CD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2C122-2269-410A-A4EE-1A6B1ED1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9065D-3378-4AC0-8649-790DD83E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B45F-C60E-4A16-8852-2E73235F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3E5C7-E058-417E-AA5A-E003169A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2FFB6-D61E-439D-9857-E6CAAEA5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F87E2-811B-47F1-9748-37D722BE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D5BDB-6055-4109-BF6A-958DE0FD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9BFBD-90F2-44F3-9166-739D126E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8A1A2-2D8E-4727-8DB5-5C29F799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7D9BF-C037-4E71-8C1B-48F8F4B3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AF7E-3176-433F-8D6E-1173B773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C5B7-8FE7-4F3D-93CA-2F9C6A17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5D45-7AA6-4006-927F-279A4FE1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75E8-A0DE-4E38-9357-70808045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D6C-2A3A-4853-84BD-F8FD985C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68D8-B6E0-488B-85CE-71D8B928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8F0F-AC98-482E-B8D9-9A074010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0E90-AA60-42C2-B116-62EF375D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0DD5-7AA4-43A4-AB6C-F57091E3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53EA-0B4F-42A1-ABFF-90ABD999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0B45F-D7C4-4BC4-AE27-DDBE4A27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08A09-7BF6-49FF-B88A-55084128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743B-B064-4EF4-AAAF-AB8402AB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B5C4-BF34-4FA4-A8A8-DE84FA2A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E531-74D7-450A-808F-2B833E79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763-192A-4120-99E8-BADAFCA4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3CB2-352B-4326-AD92-3F334332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4769-3342-4085-89D5-73DEE29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2EB4C-00C4-4E10-A767-9777AEC9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B3241-75D1-4A1F-B6FB-FB64FA7D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1D8EE-ADAC-4D3C-98A7-D2243EA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A617-56E8-4FAF-9376-CC706CA4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DE1C-C570-406F-AAEC-9B6D7362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731A-E6A3-4E93-AB46-A280950A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7146-0E83-433F-BB6D-7018D4E5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F82E8-0C36-4325-8785-E0514E6F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B3E-0FF2-484B-B0D4-356D6E82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C525-7D8F-43A5-B577-0B53E634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97ED-FAD0-4084-9FA8-8F986BF3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AC961-0552-4711-8346-AE5785ED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429A6-BD91-4C5E-90A8-1AD7063E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CF66B-0F55-4A94-BC17-8D22EFED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5F8BB-BC94-44D3-B98B-12558723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8F72-C3B0-4425-B0F3-1A383039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0757-5ECE-4842-9141-AC7E881E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981D-769C-46BA-B89C-A06FE81A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9D88B-A394-4E29-8D9C-9303B126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773-0C98-4961-A333-5138A79A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9345B-C6E0-4E87-BDC1-C661BBCA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6B441-D332-4741-8D07-DB46829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0BF47-57EB-4FDA-BDC9-47AB3B2E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F47BC-BFD5-4C06-9A42-9647BE35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13DA3-1422-4F0E-94AD-0FEF0A0B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4DDE-2871-45EE-A6D9-ABC3592F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BFA0F-BBA8-409F-8A16-41D84FE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33453-ECA7-42C6-A890-E906C3FD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35455-8A9C-4A00-AE40-6CB65DE1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53C29-2AB6-4C80-9EEF-21C9F49E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3BE-1CDC-41B5-967B-D6054DF4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93164-A1A9-4587-A445-4A0C8C2A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FB1A2-860A-4267-BBD9-1D3E435F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586F5-EAA2-47F6-941F-039E641F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05DB4-2C9C-4644-964B-DDF21D19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A0225-048D-4BC7-9145-DA3A97E8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2322-6B25-4301-92FD-C50EAB1A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A492F-6AF3-42CF-BCBD-1CA34FDD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0D5F3-4DFA-48A7-BB50-CEDE0778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5E86-1C53-4596-8FCE-26BC1035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25457-2447-4DFD-BF21-B6409F9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9F5-50EC-4C8A-82AC-0D40C65C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E7611-9635-4DF2-BC45-A37A9B5D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B8FA4-DBC3-43B9-9A63-453473E8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21DE0-37C2-4C18-AB78-B026875D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D023E-F66E-43F7-9D3E-A9C5AC61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E83A3-54F4-465B-B986-6AAABE4A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BE5D3-DC17-4A46-AB42-532C3AC1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C2CF0-41BF-412F-97B4-3F5E2D00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382CF-33C4-4CF9-9075-68B6A9E6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FCA4A-470C-4251-AD5B-EA3FBD9C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198FB-170C-4FD3-A8EA-724B0BD8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576-545A-4897-922F-EFE2CB0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5FA80-FCA6-469A-9138-8B391D02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A31B4-EC8B-4D71-8506-F3510FAA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FF962-31F2-4677-9238-1F99295C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1BCAD-549D-45B3-9B33-FC29246C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092F7-65CC-4433-87A6-8CB7367B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46F85-6A51-4A3A-92CC-EB8BC01C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5ACA9-1C4B-467C-82B3-9214748B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0246-EC7A-447D-BDA5-ADE72A55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CB907-CF4B-4459-B267-24A267B3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537EB-6B05-466E-9D00-319B460E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2D6-8036-4ECC-9719-646B115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A9CF1-BC4E-44F9-9769-E00AD9B1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828B3-BC3A-494D-B1FB-7F9F14C7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38E14-033F-4EE6-947B-FF593FE4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15FBA-B5BE-4AC6-B672-EEEDDF4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14D44-A678-4272-A339-D53A53F8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D44F6-49EE-432E-BA34-70999161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C22B6-E22A-4103-94E8-17007F4A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42AF8-2CB4-48F2-A514-47A7F86B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8C76D-ABE8-49EA-B49C-8FEFDC7E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52992-0986-45C2-B5A4-5A35FCEA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A103-CB40-4AF7-8E07-8262500E6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FC4C-D748-4905-81B8-3CD027CA4BB1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B06A-E996-4BF9-8E07-5E2F27A53615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3ECA-B6E5-46C7-B9AA-3B855CB1B40A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A393-0AA8-4E26-8F15-9FEBB9E3AAD3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7EA5-26D7-46A6-B3FB-F3E5BE03D3A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C443-861E-4EC5-B7C0-FCA004EE606A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8584-B178-42A5-9C38-BCCDF9E60F30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BAE6-A18E-432C-9193-CAED9794CAD0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7688-B675-4564-8EA2-610BFEF48806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26A6-D782-4BB0-8E13-A5487A2E9508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70FC-8B29-466B-AE6E-6285C8DCDDC1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algn="r">
              <a:buClr>
                <a:srgbClr val="89898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F3D1-72BD-41A1-8B56-4F2DE18DEFF8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2"/>
          <p:cNvSpPr txBox="1"/>
          <p:nvPr/>
        </p:nvSpPr>
        <p:spPr>
          <a:xfrm>
            <a:off x="1476360" y="2205000"/>
            <a:ext cx="604836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人类的“老师”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2394000" y="85248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</a:rPr>
              <a:t>苏教版语文四年级下册第二组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2627280" y="571644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</a:rPr>
              <a:t>第一</a:t>
            </a:r>
            <a:r>
              <a:rPr b="1" lang="en-US" sz="2400" spc="-1" strike="noStrike">
                <a:solidFill>
                  <a:srgbClr val="800080"/>
                </a:solidFill>
                <a:latin typeface="楷体_GB2312"/>
              </a:rPr>
              <a:t>PPT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</a:rPr>
              <a:t>模板网</a:t>
            </a:r>
            <a:r>
              <a:rPr b="1" lang="en-US" sz="2400" spc="-1" strike="noStrike">
                <a:solidFill>
                  <a:srgbClr val="800080"/>
                </a:solidFill>
                <a:latin typeface="楷体_GB2312"/>
              </a:rPr>
              <a:t>-WWW.1PPT.COM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6"/>
          <p:cNvSpPr/>
          <p:nvPr/>
        </p:nvSpPr>
        <p:spPr>
          <a:xfrm>
            <a:off x="2050920" y="5516640"/>
            <a:ext cx="6337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苍蝇、蚊子、蜜蜂等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新式飞机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73" name="Picture 7" descr="苍蝇1"/>
          <p:cNvPicPr/>
          <p:nvPr/>
        </p:nvPicPr>
        <p:blipFill>
          <a:blip r:embed="rId2"/>
          <a:stretch/>
        </p:blipFill>
        <p:spPr>
          <a:xfrm>
            <a:off x="539640" y="2924280"/>
            <a:ext cx="3025800" cy="23367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蜜蜂"/>
          <p:cNvPicPr/>
          <p:nvPr/>
        </p:nvPicPr>
        <p:blipFill>
          <a:blip r:embed="rId3"/>
          <a:stretch/>
        </p:blipFill>
        <p:spPr>
          <a:xfrm>
            <a:off x="5580000" y="3068640"/>
            <a:ext cx="3024360" cy="2322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9" descr="蚊子"/>
          <p:cNvPicPr/>
          <p:nvPr/>
        </p:nvPicPr>
        <p:blipFill>
          <a:blip r:embed="rId4"/>
          <a:stretch/>
        </p:blipFill>
        <p:spPr>
          <a:xfrm>
            <a:off x="3132000" y="1844640"/>
            <a:ext cx="3024360" cy="23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6"/>
          <p:cNvSpPr/>
          <p:nvPr/>
        </p:nvSpPr>
        <p:spPr>
          <a:xfrm>
            <a:off x="2411280" y="5445000"/>
            <a:ext cx="4969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鲸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航行速度快的轮船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78" name="Picture 7" descr="鲸鱼"/>
          <p:cNvPicPr/>
          <p:nvPr/>
        </p:nvPicPr>
        <p:blipFill>
          <a:blip r:embed="rId2"/>
          <a:stretch/>
        </p:blipFill>
        <p:spPr>
          <a:xfrm>
            <a:off x="2195640" y="1844640"/>
            <a:ext cx="4752720" cy="35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4"/>
          <p:cNvSpPr/>
          <p:nvPr/>
        </p:nvSpPr>
        <p:spPr>
          <a:xfrm>
            <a:off x="2268360" y="5300640"/>
            <a:ext cx="5329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鸡蛋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薄壳结构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建筑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81" name="Picture 5" descr="鸡蛋"/>
          <p:cNvPicPr/>
          <p:nvPr/>
        </p:nvPicPr>
        <p:blipFill>
          <a:blip r:embed="rId2"/>
          <a:srcRect l="15980" t="6073" r="12210" b="4751"/>
          <a:stretch/>
        </p:blipFill>
        <p:spPr>
          <a:xfrm>
            <a:off x="826920" y="2060640"/>
            <a:ext cx="3311640" cy="29192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人民大会堂"/>
          <p:cNvPicPr/>
          <p:nvPr/>
        </p:nvPicPr>
        <p:blipFill>
          <a:blip r:embed="rId3"/>
          <a:stretch/>
        </p:blipFill>
        <p:spPr>
          <a:xfrm>
            <a:off x="4643280" y="2060640"/>
            <a:ext cx="38163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4"/>
          <p:cNvSpPr/>
          <p:nvPr/>
        </p:nvSpPr>
        <p:spPr>
          <a:xfrm>
            <a:off x="2916360" y="5589720"/>
            <a:ext cx="453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袋鼠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越野汽车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85" name="Picture 5" descr="袋鼠"/>
          <p:cNvPicPr/>
          <p:nvPr/>
        </p:nvPicPr>
        <p:blipFill>
          <a:blip r:embed="rId2"/>
          <a:stretch/>
        </p:blipFill>
        <p:spPr>
          <a:xfrm>
            <a:off x="1403280" y="1628640"/>
            <a:ext cx="2951280" cy="367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未命名1"/>
          <p:cNvPicPr/>
          <p:nvPr/>
        </p:nvPicPr>
        <p:blipFill>
          <a:blip r:embed="rId3"/>
          <a:stretch/>
        </p:blipFill>
        <p:spPr>
          <a:xfrm>
            <a:off x="4859280" y="1989000"/>
            <a:ext cx="3457800" cy="26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4"/>
          <p:cNvSpPr/>
          <p:nvPr/>
        </p:nvSpPr>
        <p:spPr>
          <a:xfrm>
            <a:off x="3132000" y="5589720"/>
            <a:ext cx="2881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贝壳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坦克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89" name="Picture 5" descr="贝壳"/>
          <p:cNvPicPr/>
          <p:nvPr/>
        </p:nvPicPr>
        <p:blipFill>
          <a:blip r:embed="rId2"/>
          <a:stretch/>
        </p:blipFill>
        <p:spPr>
          <a:xfrm>
            <a:off x="1042920" y="2205000"/>
            <a:ext cx="3529080" cy="3097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坦克"/>
          <p:cNvPicPr/>
          <p:nvPr/>
        </p:nvPicPr>
        <p:blipFill>
          <a:blip r:embed="rId3"/>
          <a:stretch/>
        </p:blipFill>
        <p:spPr>
          <a:xfrm>
            <a:off x="4788000" y="2349360"/>
            <a:ext cx="3600360" cy="28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9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7"/>
          <p:cNvSpPr/>
          <p:nvPr/>
        </p:nvSpPr>
        <p:spPr>
          <a:xfrm>
            <a:off x="1835280" y="2781360"/>
            <a:ext cx="6019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平时你一定观察过许多动物，从它们身上有没有受到些启发？请在小组里交流一下，说出来和大家分享好吗？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93" name="Text Box 20"/>
          <p:cNvSpPr/>
          <p:nvPr/>
        </p:nvSpPr>
        <p:spPr>
          <a:xfrm>
            <a:off x="1619280" y="1700280"/>
            <a:ext cx="28954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奇思妙想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1" lang="en-US" sz="1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1" lang="en-US" sz="1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1" lang="en-US" sz="1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/      </a:t>
            </a:r>
            <a:endParaRPr b="1" lang="en-US" sz="1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1" lang="en-US" sz="1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1" lang="en-US" sz="1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1" lang="en-US" sz="1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</a:t>
            </a:r>
            <a:endParaRPr b="1" lang="en-US" sz="1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95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96" name="图片 9" descr=""/>
          <p:cNvPicPr/>
          <p:nvPr/>
        </p:nvPicPr>
        <p:blipFill>
          <a:blip r:embed="rId9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1" lang="en-US" sz="2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1" lang="en-US" sz="12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1" lang="en-US" sz="12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1" lang="en-US" sz="20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1" lang="en-US" sz="12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1" lang="en-US" sz="1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99" name="Picture 10" descr="png-0644"/>
          <p:cNvPicPr/>
          <p:nvPr/>
        </p:nvPicPr>
        <p:blipFill>
          <a:blip r:embed="rId10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1" descr="png-0652"/>
          <p:cNvPicPr/>
          <p:nvPr/>
        </p:nvPicPr>
        <p:blipFill>
          <a:blip r:embed="rId11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grpSp>
        <p:nvGrpSpPr>
          <p:cNvPr id="537" name="Group 52"/>
          <p:cNvGrpSpPr/>
          <p:nvPr/>
        </p:nvGrpSpPr>
        <p:grpSpPr>
          <a:xfrm>
            <a:off x="4220640" y="1710000"/>
            <a:ext cx="2648880" cy="1572480"/>
            <a:chOff x="4220640" y="1710000"/>
            <a:chExt cx="2648880" cy="1572480"/>
          </a:xfrm>
        </p:grpSpPr>
        <p:sp>
          <p:nvSpPr>
            <p:cNvPr id="538" name="AutoShape 49"/>
            <p:cNvSpPr/>
            <p:nvPr/>
          </p:nvSpPr>
          <p:spPr>
            <a:xfrm rot="378600">
              <a:off x="4284360" y="1844280"/>
              <a:ext cx="2520720" cy="1303200"/>
            </a:xfrm>
            <a:prstGeom prst="cloudCallout">
              <a:avLst>
                <a:gd name="adj1" fmla="val -26833"/>
                <a:gd name="adj2" fmla="val 9187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39" name="Text Box 51"/>
            <p:cNvSpPr/>
            <p:nvPr/>
          </p:nvSpPr>
          <p:spPr>
            <a:xfrm>
              <a:off x="4500720" y="1916280"/>
              <a:ext cx="208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楷体_GB2312"/>
                </a:rPr>
                <a:t>    </a:t>
              </a: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人类的老师是谁？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540" name="Picture 53" descr="蓝猫"/>
          <p:cNvPicPr/>
          <p:nvPr/>
        </p:nvPicPr>
        <p:blipFill>
          <a:blip r:embed="rId3"/>
          <a:stretch/>
        </p:blipFill>
        <p:spPr>
          <a:xfrm>
            <a:off x="1476360" y="2852640"/>
            <a:ext cx="2857680" cy="225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5"/>
          <p:cNvSpPr/>
          <p:nvPr/>
        </p:nvSpPr>
        <p:spPr>
          <a:xfrm>
            <a:off x="3564000" y="33577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42" name="Picture 10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21"/>
          <p:cNvSpPr/>
          <p:nvPr/>
        </p:nvSpPr>
        <p:spPr>
          <a:xfrm>
            <a:off x="971640" y="1557360"/>
            <a:ext cx="701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大声读课文。要求：读准字音，读通句子，读顺课文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44" name="Picture 30" descr="鲸"/>
          <p:cNvPicPr/>
          <p:nvPr/>
        </p:nvPicPr>
        <p:blipFill>
          <a:blip r:embed="rId2"/>
          <a:stretch/>
        </p:blipFill>
        <p:spPr>
          <a:xfrm>
            <a:off x="2425680" y="2760840"/>
            <a:ext cx="4824360" cy="35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7"/>
          <p:cNvSpPr/>
          <p:nvPr/>
        </p:nvSpPr>
        <p:spPr>
          <a:xfrm>
            <a:off x="1332000" y="3357720"/>
            <a:ext cx="712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suì    xùn chàn    tǎn         wán</a:t>
            </a:r>
            <a:r>
              <a:rPr b="1" lang="en-US" sz="2600" spc="-1" strike="noStrike">
                <a:solidFill>
                  <a:srgbClr val="800080"/>
                </a:solidFill>
                <a:latin typeface="Century Gothic"/>
                <a:ea typeface="宋体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破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碎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 教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训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颤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抖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坦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克  机毁人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亡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  <a:ea typeface="宋体"/>
              </a:rPr>
              <a:t>chāo   jūn yún    shǔ jīn</a:t>
            </a:r>
            <a:r>
              <a:rPr b="1" lang="en-US" sz="2600" spc="-1" strike="noStrike">
                <a:solidFill>
                  <a:srgbClr val="800080"/>
                </a:solidFill>
                <a:latin typeface="Century Gothic"/>
                <a:ea typeface="宋体"/>
              </a:rPr>
              <a:t>g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超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过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均 匀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  袋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鼠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鲸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鱼 轻而易举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grpSp>
        <p:nvGrpSpPr>
          <p:cNvPr id="547" name="Group 13"/>
          <p:cNvGrpSpPr/>
          <p:nvPr/>
        </p:nvGrpSpPr>
        <p:grpSpPr>
          <a:xfrm>
            <a:off x="1332000" y="1773360"/>
            <a:ext cx="3311280" cy="1368360"/>
            <a:chOff x="1332000" y="1773360"/>
            <a:chExt cx="3311280" cy="1368360"/>
          </a:xfrm>
        </p:grpSpPr>
        <p:pic>
          <p:nvPicPr>
            <p:cNvPr id="548" name="Picture 11" descr="09"/>
            <p:cNvPicPr/>
            <p:nvPr/>
          </p:nvPicPr>
          <p:blipFill>
            <a:blip r:embed="rId2"/>
            <a:stretch/>
          </p:blipFill>
          <p:spPr>
            <a:xfrm>
              <a:off x="1332000" y="1773360"/>
              <a:ext cx="109044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 Box 12"/>
            <p:cNvSpPr/>
            <p:nvPr/>
          </p:nvSpPr>
          <p:spPr>
            <a:xfrm>
              <a:off x="2627280" y="227664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读一读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4"/>
          <p:cNvSpPr/>
          <p:nvPr/>
        </p:nvSpPr>
        <p:spPr>
          <a:xfrm>
            <a:off x="1835280" y="2852640"/>
            <a:ext cx="4680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其实，自然界可以充当人类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老师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的生物何止鱼类一种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grpSp>
        <p:nvGrpSpPr>
          <p:cNvPr id="552" name="Group 36"/>
          <p:cNvGrpSpPr/>
          <p:nvPr/>
        </p:nvGrpSpPr>
        <p:grpSpPr>
          <a:xfrm>
            <a:off x="6311880" y="2230200"/>
            <a:ext cx="2354400" cy="1461960"/>
            <a:chOff x="6311880" y="2230200"/>
            <a:chExt cx="2354400" cy="1461960"/>
          </a:xfrm>
        </p:grpSpPr>
        <p:sp>
          <p:nvSpPr>
            <p:cNvPr id="553" name="AutoShape 31"/>
            <p:cNvSpPr/>
            <p:nvPr/>
          </p:nvSpPr>
          <p:spPr>
            <a:xfrm rot="378600">
              <a:off x="6372360" y="2349000"/>
              <a:ext cx="2233440" cy="1224000"/>
            </a:xfrm>
            <a:prstGeom prst="cloudCallout">
              <a:avLst>
                <a:gd name="adj1" fmla="val -41509"/>
                <a:gd name="adj2" fmla="val 14219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54" name="Text Box 32"/>
            <p:cNvSpPr/>
            <p:nvPr/>
          </p:nvSpPr>
          <p:spPr>
            <a:xfrm>
              <a:off x="6921000" y="2592360"/>
              <a:ext cx="1247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前后呼应 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sp>
        <p:nvSpPr>
          <p:cNvPr id="555" name="Rectangle 35"/>
          <p:cNvSpPr/>
          <p:nvPr/>
        </p:nvSpPr>
        <p:spPr>
          <a:xfrm>
            <a:off x="1835280" y="170028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细 读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56" name="Text Box 37"/>
          <p:cNvSpPr/>
          <p:nvPr/>
        </p:nvSpPr>
        <p:spPr>
          <a:xfrm>
            <a:off x="1835280" y="458136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自然界的种种生物真是人类的好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老师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啊！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027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40"/>
          <p:cNvSpPr/>
          <p:nvPr/>
        </p:nvSpPr>
        <p:spPr>
          <a:xfrm>
            <a:off x="4500720" y="2349360"/>
            <a:ext cx="3816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用自己喜欢的方式分组自学课文，找出课文中人类的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老师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59" name="Picture 1042" descr="蓝猫"/>
          <p:cNvPicPr/>
          <p:nvPr/>
        </p:nvPicPr>
        <p:blipFill>
          <a:blip r:embed="rId2"/>
          <a:stretch/>
        </p:blipFill>
        <p:spPr>
          <a:xfrm>
            <a:off x="1547640" y="3500280"/>
            <a:ext cx="2857680" cy="22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3348000" y="5589720"/>
            <a:ext cx="3816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鱼儿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潜水艇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62" name="Picture 5" descr="鱼儿"/>
          <p:cNvPicPr/>
          <p:nvPr/>
        </p:nvPicPr>
        <p:blipFill>
          <a:blip r:embed="rId2"/>
          <a:stretch/>
        </p:blipFill>
        <p:spPr>
          <a:xfrm>
            <a:off x="755640" y="2270160"/>
            <a:ext cx="3745080" cy="2814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潜艇"/>
          <p:cNvPicPr/>
          <p:nvPr/>
        </p:nvPicPr>
        <p:blipFill>
          <a:blip r:embed="rId3"/>
          <a:stretch/>
        </p:blipFill>
        <p:spPr>
          <a:xfrm>
            <a:off x="4716360" y="2276640"/>
            <a:ext cx="3738600" cy="280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3203640" y="5013360"/>
            <a:ext cx="3384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蜻蜓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防震飞机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66" name="Picture 6" descr="蜻蜓"/>
          <p:cNvPicPr/>
          <p:nvPr/>
        </p:nvPicPr>
        <p:blipFill>
          <a:blip r:embed="rId2"/>
          <a:srcRect l="22215" t="23678" r="16679" b="18551"/>
          <a:stretch/>
        </p:blipFill>
        <p:spPr>
          <a:xfrm>
            <a:off x="900000" y="2060640"/>
            <a:ext cx="3311640" cy="23479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" descr="29c7930859f7032e8c147b552f3c6c9f"/>
          <p:cNvPicPr/>
          <p:nvPr/>
        </p:nvPicPr>
        <p:blipFill>
          <a:blip r:embed="rId3"/>
          <a:stretch/>
        </p:blipFill>
        <p:spPr>
          <a:xfrm>
            <a:off x="5003640" y="1989000"/>
            <a:ext cx="3189600" cy="26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-WWW.1PPT.COM</a:t>
            </a:r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69" name="Picture 4" descr="未命名2"/>
          <p:cNvPicPr/>
          <p:nvPr/>
        </p:nvPicPr>
        <p:blipFill>
          <a:blip r:embed="rId1"/>
          <a:stretch/>
        </p:blipFill>
        <p:spPr>
          <a:xfrm>
            <a:off x="1042920" y="2166840"/>
            <a:ext cx="7058160" cy="25243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5"/>
          <p:cNvSpPr/>
          <p:nvPr/>
        </p:nvSpPr>
        <p:spPr>
          <a:xfrm>
            <a:off x="3059280" y="5013360"/>
            <a:ext cx="28652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鸟儿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飞机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2:02:13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1-07T08:35:20Z</dcterms:modified>
  <cp:revision>655</cp:revision>
  <dc:subject>第一PPT模板网-WWW.1PPT.COM</dc:subject>
  <dc:title>第一PPT模板网-WWW.1PPT.COM</dc:title>
</cp:coreProperties>
</file>