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9759-2819-4404-BA09-284625B9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8FFD-1F40-4492-926D-707E7E19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C0C-005A-45AD-98B8-C98824BE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D48A-4979-4FCA-B5BF-843B77E9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B8E1-9162-49FF-9FF5-D366B162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4C3-F6FB-422D-AA8C-AA6DF69D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5E6-DA9C-43BD-BD4C-B6CDB621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A2FD-448B-48D3-97EF-61E10E4D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880-A224-40C3-84D5-1990DBBF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76DA-74BB-4E58-B015-A9E0DDBB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539D-E33C-4336-9688-AB53A938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C9E5-0FE2-4264-8879-6D4A9162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A118-BFD2-42D7-BEBD-F7412DEC1B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本课程学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8036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掌握计算机基础知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熟悉微机操作系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熟练掌握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OFFICE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办公软件的使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了解多媒体及网络的基本知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91520" cy="18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000066"/>
                </a:solidFill>
                <a:latin typeface="Times New Roman"/>
                <a:ea typeface="黑体"/>
              </a:rPr>
              <a:t>第一章 信息技术基础知识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.1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计算机基础知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计算机系统组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194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年美籍匈牙利科学家冯•诺依曼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(Von Neumann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提出了一个“存储程序”的计算机方案。这个方案包含三个要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采用二进制数的形式表示数据和指令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将指令和数据同时存放在存储器中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由控制器、运算器、存储器、输入设备、输出设备五大部分组成计算机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计算机硬件系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计算机的硬件系统是指构成计算机系统的物理实体或物理装置，它们是计算机进行工作的实体。图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-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给出了计算机硬件组成框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计算机软件一般分为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  <a:ea typeface="华文仿宋"/>
              </a:rPr>
              <a:t>系统软件和应用软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两大类，如图所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63640" y="1628640"/>
          <a:ext cx="5040360" cy="46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628640"/>
                    <a:ext cx="504036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3:59:32Z</dcterms:created>
  <dc:creator>User</dc:creator>
  <dc:description/>
  <dc:language>en-US</dc:language>
  <cp:lastModifiedBy>User</cp:lastModifiedBy>
  <dcterms:modified xsi:type="dcterms:W3CDTF">2009-05-11T14:39:13Z</dcterms:modified>
  <cp:revision>4</cp:revision>
  <dc:subject/>
  <dc:title>大学信息技术基础</dc:title>
</cp:coreProperties>
</file>