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DED-0377-4A83-9954-32524ACE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77B-4593-4B10-B35E-E3F1B79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670-5402-49E1-8C27-0AC71586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0BB-52BD-49C7-9F40-16C34770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2657-4BBE-4125-8137-0AB2D582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2C2-2855-4AB1-A11E-7978D6F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A33-D71C-4F91-B8ED-D7E362CB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0DAF-56A1-4BBF-BC25-42DD648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1E2-2F22-4242-9C90-2C3C9A7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03C-5BAC-4086-B957-4AEBD7D8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E7EB-083F-42C6-B86C-9188A47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78D-7F86-4A64-AA00-63400AB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86E-438C-452F-9669-8E16D097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8EE1-8E83-4A1F-AB37-6C85D99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C17-4FB6-4B94-8EED-70E557A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6069-04DF-4E25-9EAA-F44F227B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E3E-84D5-4AA2-94DC-7E90E043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361-5CD7-4B6A-9E51-8A53BBE7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4F2-67C3-43B2-A55E-699FE85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622-F4C2-4BEE-8A5C-75D66CAB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C6E-8065-42FC-B408-EAF6152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14F-7E23-4F47-81DE-006A37E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286-A928-4814-A61A-553A1A8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A6C-DC8C-43C9-BB46-A89187A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5AA3-5B30-4301-94D5-A2BD54017E6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4000-6C0D-46C4-B221-FB14648E9C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83640"/>
            <a:ext cx="678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 Black"/>
              </a:rPr>
              <a:t>第一章  信息技术基础知识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019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信息与信息技术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计算机基础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信息的表示及编码基础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信息存储的基础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多媒体信息处理基础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信息安全基础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8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 Black"/>
              </a:rPr>
              <a:t>第二章  微型计算机系统基础知识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6705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微型计算机系统的基本组成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微型计算机的硬件系统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微型计算机的软件系统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微型计算机的分类与主要性能指标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多媒体计算机基本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计算机病毒基本知识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8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 Black"/>
              </a:rPr>
              <a:t>第三章  计算机网络基础知识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计算机网络的基本概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网络通信协议概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局域网基本技术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因特网基本技术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网络接入基本技术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8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 Black"/>
              </a:rPr>
              <a:t>第四章  </a:t>
            </a:r>
            <a:r>
              <a:rPr b="0" lang="zh-CN" sz="4000" spc="-1" strike="noStrike">
                <a:solidFill>
                  <a:srgbClr val="ccffff"/>
                </a:solidFill>
                <a:latin typeface="宋体"/>
              </a:rPr>
              <a:t>Word 2000</a:t>
            </a:r>
            <a:r>
              <a:rPr b="0" lang="zh-CN" sz="4000" spc="-1" strike="noStrike">
                <a:solidFill>
                  <a:srgbClr val="ccffff"/>
                </a:solidFill>
                <a:latin typeface="宋体"/>
              </a:rPr>
              <a:t>文字处理软件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Word 20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文档的基本操作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文本输入和基本编辑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文档的排版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表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图文混排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打印预览及打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8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 Black"/>
              </a:rPr>
              <a:t>第五章  </a:t>
            </a:r>
            <a:r>
              <a:rPr b="0" lang="zh-CN" sz="4000" spc="-1" strike="noStrike">
                <a:solidFill>
                  <a:srgbClr val="ccffff"/>
                </a:solidFill>
                <a:latin typeface="宋体"/>
              </a:rPr>
              <a:t>Excel 2000</a:t>
            </a:r>
            <a:r>
              <a:rPr b="0" lang="zh-CN" sz="4000" spc="-1" strike="noStrike">
                <a:solidFill>
                  <a:srgbClr val="ccffff"/>
                </a:solidFill>
                <a:latin typeface="宋体"/>
              </a:rPr>
              <a:t>电子表格软件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Excel 20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Excel 200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的基本操作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数据录入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工作表的编辑和格式化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图表操作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数据的管理和分析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页面设置和打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181b7"/>
            </a:gs>
            <a:gs pos="50000">
              <a:srgbClr val="01b0ff"/>
            </a:gs>
            <a:gs pos="100000">
              <a:srgbClr val="218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Arial Black"/>
              </a:rPr>
              <a:t>第六章  </a:t>
            </a:r>
            <a:r>
              <a:rPr b="0" lang="zh-CN" sz="4000" spc="-1" strike="noStrike">
                <a:solidFill>
                  <a:srgbClr val="ccffff"/>
                </a:solidFill>
                <a:latin typeface="宋体"/>
              </a:rPr>
              <a:t>因特网的基本应用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2361960"/>
            <a:ext cx="6781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因特网概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维网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(WWW)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及浏览器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I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的使用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电子邮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(E-mail)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及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Outlook Expres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的使用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因特网上几个常用软件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9:17:09Z</dcterms:created>
  <dc:creator>李凤翙</dc:creator>
  <dc:description/>
  <dc:language>en-US</dc:language>
  <cp:lastModifiedBy>User</cp:lastModifiedBy>
  <dcterms:modified xsi:type="dcterms:W3CDTF">2009-05-11T13:13:03Z</dcterms:modified>
  <cp:revision>12</cp:revision>
  <dc:subject/>
  <dc:title>PowerPoint 演示文稿</dc:title>
</cp:coreProperties>
</file>