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613-D6AD-40E4-AAD4-415B87A8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831-B120-41FB-8E53-F5A3EA9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014-65F3-4D7A-BCCE-A5F671C2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859-C97C-4A0F-AE50-F40C81B8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3E4-CBEA-46B5-8A40-B9B8B1A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D04-E467-4218-8DB3-11DE900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ABC-2639-4A97-9294-A331741B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18F-00E5-43F3-B3A1-A726263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779-D568-4AD2-9EFE-0C2B5A8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02E-9BBF-4CFA-ACBE-F39F5622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E5C-549E-4B6E-8DF4-29D96A27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DB3-2579-4928-902C-13C6FF6C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B0CA-BAFE-4B18-A827-F1E474E368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600200"/>
            <a:ext cx="27432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环保宣传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200400"/>
            <a:ext cx="27432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环保时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4876920"/>
            <a:ext cx="274320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美丽家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1828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ewsMedia_25797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933640" cy="617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96760" y="93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保时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19520" y="380880"/>
            <a:ext cx="2933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宣传画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8" name="green_earth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6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s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42900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362320" y="1143000"/>
            <a:ext cx="4572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请别让我们的美丽家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07:10:49Z</dcterms:created>
  <dc:creator>Smalleyes</dc:creator>
  <dc:description/>
  <dc:language>en-US</dc:language>
  <cp:lastModifiedBy>Smalleyes</cp:lastModifiedBy>
  <dcterms:modified xsi:type="dcterms:W3CDTF">2006-02-17T15:52:36Z</dcterms:modified>
  <cp:revision>7</cp:revision>
  <dc:subject/>
  <dc:title>PowerPoint 演示文稿</dc:title>
</cp:coreProperties>
</file>