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C474-5A2F-4416-ACB3-9FCFF206E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939A-C970-48DD-9F9A-7F617038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DCD5-F818-4473-B03D-C26B9656E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8D0F-3A45-4D19-A621-2A9BFBC5D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7EBD-65F1-475B-9574-9B3199B2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8404-D27E-425C-963E-63CC8CB0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5E9D-04D7-4CC4-9E7A-F365720C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86D3-7EFE-4BB9-BE39-B1ACD377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B5BD-F63E-4C4D-9C0E-FEC230F4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40CE-422A-43C6-ABD6-9984AF87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1243-F78F-4370-87A1-3900ED17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FF67-F16D-4522-9040-209889DB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6518-14FA-4BCE-8E9B-02A9ECFE7A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3200400"/>
            <a:ext cx="65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</a:rPr>
              <a:t>北京市的植被类型丰富多样，但天然林类型比较单调、分布零散，山区以落叶灌丛占优势。由于坚持不懈的绿化工作，人工林面积逐步扩大，加上自然植被的恢复，北京的林木覆盖率到“八五”期末已达到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36.26% 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</a:rPr>
              <a:t>。生态建设已经取得巨大成就。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52480" y="685800"/>
            <a:ext cx="6096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00"/>
                </a:solidFill>
                <a:latin typeface="Times New Roman"/>
              </a:rPr>
              <a:t>土地沙漠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209680"/>
            <a:ext cx="769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草原是地球上一类重要的生态系统，是获取畜牧产品的重要基地。然而，现在世界上的许多大草原都在退化，这是人们过度垦殖、过度放牧造成的后果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天然草原是许多植物的平衡体，其中优质牧草占优势。如果在草原上过度放牧，草被过度消耗，这些优质牧草就不能通过再生来保护它在竞争中的优势地位，于是平衡被打破，牛、羊不能吃的多刺植物、有毒植物、有气味的植物就逐渐增多，草原就退化了。由于草原退化，牧草大量减少，使放牧的牛、羊吃不饱，致使肉产量和毛产量都下降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草原退化后，地表的植被减少，容易造成水土流失，结果，一段时间后，草原渐渐退化成了沙漠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当前世界关注的全球环境问题有哪些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304812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99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日，全世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57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名科学家（其中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9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人为诺贝尔奖获得者）就环境问题向世人发出警告：扭转人类遭受巨大不幸和地球发生突变的趋势，只剩下不过几十年时间了。他们还起草了《世界科学家对人类的警告》一文，文章开头就说：“人类和自然界正走上一条相互抵触的道路。”这份文件将臭氧层变薄、空气污染、水资源浪费、海洋毒化、农田破坏、动植物物种减少以及人口增长列为最严重的危险。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76520" y="533520"/>
            <a:ext cx="569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我们怎么保护环境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205740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说了这么多，我们怎么保护环境？ 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保护环境，人人有责。每个人都有许多事情可做。例如：遵守有关禁止乱扔各种废弃物的规定，把废弃物扔到指定的地点或容器中；尽量节省办公或文具用品；避免使用一次性的饮料杯、饭盒、塑料袋等，用陶瓷杯、纸盒、布袋等来代替；不随意捕杀有益的虫、鱼、鸟、兽，尤其是青蛙；爱护树木花草，通过我们的双手，用绿色装扮城市，使城市变成一个大花园……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以上这些虽然是小事，但只要大家一起努力，这些微不足道的小事也会对改善环境污染状况起一定的作用。只要我们从节约资源和减少污染着手，适当调整一下自己的生活方式，我们就能为保护地球做出一份贡献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6T07:28:08Z</dcterms:created>
  <dc:creator>Smalleyes</dc:creator>
  <dc:description/>
  <dc:language>en-US</dc:language>
  <cp:lastModifiedBy>Smalleyes</cp:lastModifiedBy>
  <dcterms:modified xsi:type="dcterms:W3CDTF">2006-02-17T14:57:58Z</dcterms:modified>
  <cp:revision>5</cp:revision>
  <dc:subject/>
  <dc:title>PowerPoint 演示文稿</dc:title>
</cp:coreProperties>
</file>