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6.png" ContentType="image/png"/>
  <Override PartName="/ppt/media/image8.jpeg" ContentType="image/jpeg"/>
  <Override PartName="/ppt/media/image10.jpeg" ContentType="image/jpeg"/>
  <Override PartName="/ppt/media/image31.jpeg" ContentType="image/jpeg"/>
  <Override PartName="/ppt/media/image5.png" ContentType="image/png"/>
  <Override PartName="/ppt/media/image43.jpeg" ContentType="image/jpeg"/>
  <Override PartName="/ppt/media/applause.wav" ContentType="audio/x-wav"/>
  <Override PartName="/ppt/media/image32.jpeg" ContentType="image/jpeg"/>
  <Override PartName="/ppt/media/image38.jpeg" ContentType="image/jpeg"/>
  <Override PartName="/ppt/media/image45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8.png" ContentType="image/png"/>
  <Override PartName="/ppt/media/image34.png" ContentType="image/png"/>
  <Override PartName="/ppt/media/image4.png" ContentType="image/png"/>
  <Override PartName="/ppt/media/image12.jpeg" ContentType="image/jpeg"/>
  <Override PartName="/ppt/media/image9.png" ContentType="image/png"/>
  <Override PartName="/ppt/media/image39.png" ContentType="image/pn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11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270-8105-49EA-AE75-303CBA7C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437-703E-45CD-9E83-333EBD4D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4FF-BF6C-4FE0-A493-1514423C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FFB-96B7-4A05-8C89-CB1CB450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662-0B5E-44D6-9028-CFB0FCE2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83D-47B1-4930-89B2-EE9D475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3A2-F485-48FB-A85C-DE89FDC0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E93-63F1-43D1-8560-1C8E261C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C77-110D-43E5-A38F-ADCF2CC0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741-0B1C-440B-9D30-0268DFE7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94D8-2D17-4067-917B-1E135C09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C30-6E66-4A20-B067-BEFB5E7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178A-AE0B-44BB-885C-7D129AC85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16.xml"/><Relationship Id="rId3" Type="http://schemas.openxmlformats.org/officeDocument/2006/relationships/slide" Target="slide24.xml"/><Relationship Id="rId4" Type="http://schemas.openxmlformats.org/officeDocument/2006/relationships/slide" Target="slide7.xml"/><Relationship Id="rId5" Type="http://schemas.openxmlformats.org/officeDocument/2006/relationships/slide" Target="slide14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092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展望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016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高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总动员主题班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-27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如果你觉得现在走的辛苦，那就证明你在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上 ！坡 ！路 ！</a:t>
            </a:r>
            <a:br>
              <a:rPr sz="2000"/>
            </a:br>
            <a:br>
              <a:rPr sz="2000"/>
            </a:b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当你在前进的道路上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永远有一群混蛋跟着你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盼着你跌倒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等着你失败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看你的笑话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所以你必须拼命奔跑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永不言败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一个人至少拥有一个梦想，有一个理由去坚强。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无论失败多少次，只要还活着，就不能放弃 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力未尽，气未绝，心未死，不弃不馁，持之以恒 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成绩不是全部，学历不是全部。成功没有模式，只是自己能够甘心，能够不太对不起他人。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不知道自己能活多久，就像你永远无法预测什么时候牙会疼，什么时候你会成功，你不能急，你必须坚信，你是最棒的，独一无二的。</a:t>
            </a:r>
            <a:br>
              <a:rPr sz="2000"/>
            </a:br>
            <a:br>
              <a:rPr sz="2000"/>
            </a:br>
            <a:r>
              <a:rPr b="1" i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总会有一些事阻止你走向梦想，别在意，你会成功的，相信自己</a:t>
            </a:r>
            <a:br>
              <a:rPr sz="2000"/>
            </a:b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那些杀不死我们的，终将使我们更加坚强</a:t>
            </a:r>
            <a:br>
              <a:rPr sz="2000"/>
            </a:br>
            <a:br>
              <a:rPr sz="2000"/>
            </a:b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如果不奋斗，我们连羡慕别人的资格都没有 </a:t>
            </a:r>
            <a:br>
              <a:rPr sz="2000"/>
            </a:br>
            <a:br>
              <a:rPr sz="2000"/>
            </a:b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不要沮丧，每天对自己笑笑，竖个大拇指，告诉自己，我很牛，我是天才。总有些东西是别人看不到的，自己鼓励鼓励自己，没什么不好的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不管你之前是怎么想的，如果你想努力，那么第一，你的心态要好要积极，第二，对自己要有信心，那么接下来就是你要付出行动了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努力不一定会成功，但不努力就一定不会成功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不一定要考什么清华北大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或许我不会站在年级前十的颁奖台上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我只希望我的高中生活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有我喜欢的事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有喜欢的人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有让我无悔的每一天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最后凭我正常的努力正常的学习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正常的我去完成一个适合我的大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我认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青春是该付出在那一纸试卷上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但青春不全是那一张试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有目标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有理想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有明天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足够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你凭什么差别人一等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爸爸妈妈给你的比别人少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你比别人笨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凭什么拿着爸爸妈妈的血汗钱不去努力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当你很累很累很累很累的时候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你应该闭上眼睛做深呼吸，告诉自己你应该坚持的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给自己一个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梦中的自己过上了自己想要的生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告诉自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除了学习这条路可以让梦想成真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别无选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适当的逼一下自己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我知道学习不是唯一的出路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可是你忍心让你的爹妈为你的以后奔波吗？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为你的将来担心吗？你不觉得不安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现在他们给的以后不该还给他们吗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360360"/>
            <a:ext cx="8820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我不想再浑浑噩噩地度过每一天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我的梦想换了一箩筐却从未付诸过努力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在空想中挥霍着生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整天无所事事一事无成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今天的事情推到明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明天推到大后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我不能再这样下去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我不想以后拿点死工资抱怨生活后悔曾经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我要去梦去想去努力去奋斗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考上好学校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不让爸妈担心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不让未来的自己后悔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为自己的明天拼搏 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才坚持几天就要放弃了吗？看别人的成绩眼红了吗？再这样下去你就真的无药可救了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一天又过了吧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你今天完成了什么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撑不住的时候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可以对自己说声“我好累”但不要对自己说“我不行”也可以说“再坚持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分钟”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１１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365760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 每天不留分文地全数提领是最佳选择。  你可能不晓得， 其实我们每个人都有这样的一个银行， 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7452119402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971640" y="41497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请记住，有些人总是学的比你更多，当你在呼呼大睡时总有一些人在学习，当你在拉呱聊天时他们也在学习，当你在玩手机时他们还在学习。成绩的差距就是这么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6598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大家觉得高三生活会是什么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谈谈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让我们来欣赏一下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5e377135h64bd8275840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5e377135h64bd8de6577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763640" y="47628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00"/>
                </a:solidFill>
                <a:latin typeface="Arial"/>
              </a:rPr>
              <a:t>距离</a:t>
            </a: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2016</a:t>
            </a:r>
            <a:r>
              <a:rPr b="1" i="1" lang="zh-CN" sz="6000" spc="-1" strike="noStrike">
                <a:solidFill>
                  <a:srgbClr val="ff3300"/>
                </a:solidFill>
                <a:latin typeface="Arial"/>
              </a:rPr>
              <a:t>年高考仅有：</a:t>
            </a: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196</a:t>
            </a:r>
            <a:r>
              <a:rPr b="1" i="1" lang="zh-CN" sz="6000" spc="-1" strike="noStrike">
                <a:solidFill>
                  <a:srgbClr val="ff3300"/>
                </a:solidFill>
                <a:latin typeface="Arial"/>
              </a:rPr>
              <a:t>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矩形 5" descr=""/>
          <p:cNvPicPr/>
          <p:nvPr/>
        </p:nvPicPr>
        <p:blipFill>
          <a:blip r:embed="rId2"/>
          <a:stretch/>
        </p:blipFill>
        <p:spPr>
          <a:xfrm>
            <a:off x="311040" y="2755800"/>
            <a:ext cx="852192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5e377135h64bd84c8835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WordArt 2"/>
          <p:cNvSpPr txBox="1"/>
          <p:nvPr/>
        </p:nvSpPr>
        <p:spPr>
          <a:xfrm>
            <a:off x="1258920" y="836640"/>
            <a:ext cx="280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很多同学都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5508720" y="1989000"/>
            <a:ext cx="2644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痛苦  煎熬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763640" y="3716280"/>
            <a:ext cx="5600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叫痛苦？什么叫幸福？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313640" y="25160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改样式，背景图片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8cfe9b34ab2677b092302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50920" y="2133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年轻的韶华里，我告诉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己将有属于自己的生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要离开这没有明媚阳光的角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27280" y="0"/>
            <a:ext cx="4537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锲而不舍到明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后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4" name="Picture 5" descr="A1019237511_13576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2264c23780b51539258078b"/>
          <p:cNvPicPr/>
          <p:nvPr/>
        </p:nvPicPr>
        <p:blipFill>
          <a:blip r:embed="rId1"/>
          <a:stretch/>
        </p:blipFill>
        <p:spPr>
          <a:xfrm>
            <a:off x="0" y="0"/>
            <a:ext cx="9750600" cy="7313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95280" y="333360"/>
            <a:ext cx="806616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认真回顾课本知识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一轮复习阶段过程主要是对全部课程的回顾。高考试题的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80%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是基础知识，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是稍难点的综合题。弄懂课本不是光记住结论，而是要通读。即全部的知识要弄清、语文课文内标注的字词句摘抄、英语课文至少要达到念的通顺。注意，第一轮复习十分重要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大家千万不要埋头做题，而是先看课本，再“精”做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200892111162981258[1]"/>
          <p:cNvPicPr/>
          <p:nvPr/>
        </p:nvPicPr>
        <p:blipFill>
          <a:blip r:embed="rId1"/>
          <a:stretch/>
        </p:blipFill>
        <p:spPr>
          <a:xfrm>
            <a:off x="36360" y="-239760"/>
            <a:ext cx="9288720" cy="7531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6348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2720" y="44280"/>
            <a:ext cx="82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好自己的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学生因为在复习过程中跟不上老师的节奏，导致前面部分没弄懂，后面部分更是拉下，学校在教学节奏控制上又不能根据学生本身制定。如果实在跟不上节奏，就将遗漏的课本部分做好画线标记，以利于及时的回顾。在学的过程中，建议在弄不懂的问题上多问同学，多问老师。最好能够找到水平相当的同学，互相给对方做考察，互相研究题目。同学之间相互沟通时所掌握的内容比问老师的效果更好，可以很容易的将思维的漏洞补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3" descr="mp21267164_1435999255789_1_th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47f9257a7e637eab645ae1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0"/>
            <a:ext cx="88930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处理作业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处理作业上，千万不要死磕题目，和自己过不去。第一遍做不出来或做错就直接先放弃，但是要保留这道题，每天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看下这类不会做的题，直到一眼看出这题怎么做时，再动手做，并将这类题型留好。本进行互动。做完作业不要看对答案，留到第二天把有困难的和同学交流，或第二天看别人怎么做，然后问他怎么想的。如果不善于问同学，至少等到第二天再看课本或是答案。无论对错，看答案或对答案的过程中尽量回顾当时我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么想的，与别人差别点在哪里。这样，尽管你当时没有“获取”答案，但是留下了疑问，又多一些时间来探讨自己做题时的思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-828720" y="44280"/>
            <a:ext cx="100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利用每一次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处理考试上，要认同自己。分数很重要，重要的是你得到的那些分数和你得不到的分数，毕竟不是高考，当前阶段分数的高低没有任何意义。你只需做三件事：一、根据你所获取分数的部分，整理你当前会的知识，会做的题型。二、根据你所丢的分数，立即回归课本，看完课本后再做一遍。三、拿着卷子问自己，当时做对的题自己是怎么想的，不会的题当时是怎么想的，现在会的题和当时不会做时差距在哪里。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8eb2b782b280b88a0cf4d282"/>
          <p:cNvPicPr/>
          <p:nvPr/>
        </p:nvPicPr>
        <p:blipFill>
          <a:blip r:embed="rId1"/>
          <a:stretch/>
        </p:blipFill>
        <p:spPr>
          <a:xfrm>
            <a:off x="0" y="-19080"/>
            <a:ext cx="9477360" cy="687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44280"/>
            <a:ext cx="93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  </a:t>
            </a:r>
            <a:r>
              <a:rPr b="1" i="1" lang="en-US" sz="3600" spc="-1" strike="noStrike" u="sng">
                <a:solidFill>
                  <a:srgbClr val="2d2d8a"/>
                </a:solidFill>
                <a:uFillTx/>
                <a:latin typeface="Arial"/>
              </a:rPr>
              <a:t>1.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作业考试化，考试高考化，将平时考试当高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   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高考考试当平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2d2d8a"/>
                </a:solidFill>
                <a:uFillTx/>
                <a:latin typeface="Arial"/>
              </a:rPr>
              <a:t>2.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坚持：贵在坚持、难在坚持、成在坚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2d2d8a"/>
                </a:solidFill>
                <a:uFillTx/>
                <a:latin typeface="Arial"/>
              </a:rPr>
              <a:t>3.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太阳每天都是新的，你是否每天都在努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2d2d8a"/>
                </a:solidFill>
                <a:uFillTx/>
                <a:latin typeface="Arial"/>
              </a:rPr>
              <a:t>4.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再苦再难，也要坚强，只为那些期待的眼神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2d2d8a"/>
                </a:solidFill>
                <a:uFillTx/>
                <a:latin typeface="Arial"/>
              </a:rPr>
              <a:t>5.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不要回避哪怕是一个简单得不好意思的问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   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其实它对你很重要</a:t>
            </a:r>
            <a:r>
              <a:rPr b="1" i="1" lang="en-US" sz="3600" spc="-1" strike="noStrike" u="sng">
                <a:solidFill>
                  <a:srgbClr val="2d2d8a"/>
                </a:solidFill>
                <a:uFillTx/>
                <a:latin typeface="Arial"/>
              </a:rPr>
              <a:t>,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其实它对别人也是一个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     </a:t>
            </a:r>
            <a:r>
              <a:rPr b="1" i="1" lang="zh-CN" sz="3600" spc="-1" strike="noStrike" u="sng">
                <a:solidFill>
                  <a:srgbClr val="2d2d8a"/>
                </a:solidFill>
                <a:uFillTx/>
                <a:latin typeface="Arial"/>
              </a:rPr>
              <a:t>不起的难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~)TQVDQ{O)Z3U77S2I7}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理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张国政"/>
          <p:cNvPicPr/>
          <p:nvPr/>
        </p:nvPicPr>
        <p:blipFill>
          <a:blip r:embed="rId1"/>
          <a:stretch/>
        </p:blipFill>
        <p:spPr>
          <a:xfrm>
            <a:off x="-828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 flipH="1">
            <a:off x="-152280" y="0"/>
            <a:ext cx="292356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咬牙坚持，为了心中的梦想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332000" y="112536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</a:rPr>
              <a:t>下面，就让我们看看自己的梦想吧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Peking%20Uni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00632515394992961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2" descr=""/>
          <p:cNvPicPr/>
          <p:nvPr/>
        </p:nvPicPr>
        <p:blipFill>
          <a:blip r:embed="rId2"/>
          <a:stretch/>
        </p:blipFill>
        <p:spPr>
          <a:xfrm>
            <a:off x="2017800" y="-231840"/>
            <a:ext cx="50958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内容占位符 3" descr="mp21267164_1435999255789_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3845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979640" y="18900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武警工程大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575111430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684360" y="47628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香港中文大学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(CUHK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5112815238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70111142717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2124000" y="47628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Arial"/>
              </a:rPr>
              <a:t>上海理工大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xinsrc_17208022111155931554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xinsrc_15208022111155152279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2" descr=""/>
          <p:cNvPicPr/>
          <p:nvPr/>
        </p:nvPicPr>
        <p:blipFill>
          <a:blip r:embed="rId2"/>
          <a:stretch/>
        </p:blipFill>
        <p:spPr>
          <a:xfrm>
            <a:off x="1311120" y="-249120"/>
            <a:ext cx="65167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wxj08131162961569608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矩形 2" descr=""/>
          <p:cNvPicPr/>
          <p:nvPr/>
        </p:nvPicPr>
        <p:blipFill>
          <a:blip r:embed="rId2"/>
          <a:stretch/>
        </p:blipFill>
        <p:spPr>
          <a:xfrm>
            <a:off x="652320" y="-208080"/>
            <a:ext cx="780912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200504031703276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矩形 1" descr=""/>
          <p:cNvPicPr/>
          <p:nvPr/>
        </p:nvPicPr>
        <p:blipFill>
          <a:blip r:embed="rId1"/>
          <a:stretch/>
        </p:blipFill>
        <p:spPr>
          <a:xfrm>
            <a:off x="590400" y="23760"/>
            <a:ext cx="7956720" cy="12193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95280" y="1557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当你不想学想放弃时请想想你的父母，当你昏昏欲睡时，想想你的理想你还能睡得着吗？你以为你付出了比以往多双倍的努力，你很了不起。可总有人比你付出了四倍六倍八倍的努力。高三一年不玩手机不玩电脑你也不会少一块肉。早上早来一会背点单词，你也不会困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68360" y="436572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Arial"/>
              </a:rPr>
              <a:t>为了父母，为了自己这十几年的求学生涯，为了你的理想，为了你喜欢的那个人或那个城市，为了多少年来自己所有的委屈心塞不如意，为了那些曾经否定你看不起你给你白眼的人。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高三一年请一定要坚持下去！至少你还有梦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山东高考录取分数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科本科一批 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568 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科本科二批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5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</a:rPr>
              <a:t>扪心自问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,</a:t>
            </a:r>
            <a:r>
              <a:rPr b="1" lang="zh-CN" sz="3200" spc="-1" strike="noStrike" u="sng">
                <a:solidFill>
                  <a:srgbClr val="c00000"/>
                </a:solidFill>
                <a:uFillTx/>
                <a:latin typeface="Arial"/>
              </a:rPr>
              <a:t>你的成绩够实现你的梦想吗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2" descr=""/>
          <p:cNvPicPr/>
          <p:nvPr/>
        </p:nvPicPr>
        <p:blipFill>
          <a:blip r:embed="rId2"/>
          <a:stretch/>
        </p:blipFill>
        <p:spPr>
          <a:xfrm>
            <a:off x="-189000" y="4505400"/>
            <a:ext cx="624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458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你可以一天上七节课四节晚自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你可以一天写完两支笔芯做至少三套卷子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你可以早起十分钟晚睡十分钟记几个单词和成语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你可以用玩手机的时间弄懂一道数学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用看杂志的时间写完一篇英语阅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你可以把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歌看电影聚会打游戏的时间都用在学习上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总有人比你努力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可怕的是比你牛的人比你还努力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. 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高考报考人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15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万人，其中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07.7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万人不与你在同省。同省中其中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万人已被保送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千人对大学后就业没信心不参加高考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千人是裸考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千人不能正常发挥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千人会迟到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万人不和你考一个学校，剩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30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水平不如你，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69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个会产生心理问题。你的对手只剩自己！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不管你有再多的兴趣爱好 ，再多的社会关系 再深的对努力学习的厌恶之感 在你青春期的某一个时间点</a:t>
            </a:r>
            <a:r>
              <a:rPr b="1" i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你都会明白 学习的重要性高过所有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你要无欲则刚 你要学会孤独 你要把自己逼出最大的潜能 </a:t>
            </a: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没有人会为了你的未来买单 你要么努力向上爬 要么烂在社会最底层的泥淖里 这就是生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Beyond - 光辉岁月.mp3" descr=""/>
          <p:cNvPicPr/>
          <p:nvPr/>
        </p:nvPicPr>
        <p:blipFill>
          <a:blip r:embed="rId2"/>
          <a:stretch/>
        </p:blipFill>
        <p:spPr>
          <a:xfrm>
            <a:off x="0" y="0"/>
            <a:ext cx="3762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07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4920" y="-27000"/>
            <a:ext cx="8229600" cy="66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还记得高中生物书上那个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三体综合症的孩子嘛？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他叫陈峰</a:t>
            </a: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0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年后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他已经是中国民航大学 机场学院二年级的研究生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什么都无法阻挡他成功的脚步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所以说多一条染色体算什么</a:t>
            </a:r>
            <a:br>
              <a:rPr sz="2800"/>
            </a:b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奋斗吧少年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五点起床很困难，背单词很困难，静下心很困难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但是总有一些人，五点可以起床，一天背六课单词，耐心读完一本书。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谁也没有超能力，但是自己可以决定一天去做什么事情。你以为没有了路，事实上路可能就在前方一点点。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那些比自己强大的人都在拼命，我们还有什么理由停下脚步？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如果你想在高考后换一部新的手机。买一台电脑。去看一次演唱会。享受一次单人旅行。每天早上能睡到自然醒。不用为写不完的作业发愁。不必再听父母的唠叨。自信地说我出去玩了。拉着恋人的手在街上疯癫。碰到班主任反而拉得更紧。那么，去努力吧。至少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岁的暑假需要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Gala - 追梦赤子心.mp3" descr=""/>
          <p:cNvPicPr/>
          <p:nvPr/>
        </p:nvPicPr>
        <p:blipFill>
          <a:blip r:embed="rId2"/>
          <a:stretch/>
        </p:blipFill>
        <p:spPr>
          <a:xfrm>
            <a:off x="860436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981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亲爱的 分数不够打击你吗 期末考场坐的舒服吗 补作业不累吗 每次决心认真拼三分钟热度不假吗 骂年级前五脑残心里不舒服习惯了吗 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手机不离手，微信微博人人更新你变美变帅肚子饱了吗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等着心爱的人没心思学习手机聊天你们会结婚吗 清醒点亲爱的 别忘了答应自己的梦想 别傻了 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那不是你要走的路，既然学不死，就往死了学。 你以为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你花一个小时背一课单词会死吗 你以为你花两个小时只做一道数学题会死吗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你以为把你搞得头大的文言文会杀死你吗 你以为三个小时背不下来近代史的大纲吗 你以为这些会让你死吗 既然学不死你 那有什么好怕的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汪峰 - 我要飞得更高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3014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读书吧做题吧 做烦了做疯了就把书扔了 冷静一两秒再捡回来继续看。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周而复始这就是简单枯燥的学习，为了能封住那些三姑六婆的嘴 为了自己十年后不后悔 为了老妈鬓上出现的白发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为了老爸应酬时被酒灌坏的胃 为了未来能够毫无顾忌的说：我的高中，可是血泪史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可一秒都没有虚度 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我知道 我知道 学习很好很好也许真的不会很有钱 很有势 但是你觉得大字不识几个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英文只会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i 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表面上过着看得过去的生活 实际一无所有真的很好么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说真的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没文化真可怕 我也知道真的很难坚持 </a:t>
            </a: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试一试</a:t>
            </a:r>
            <a:br>
              <a:rPr sz="2800"/>
            </a:br>
            <a:br>
              <a:rPr sz="2800"/>
            </a:b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17:29Z</dcterms:created>
  <dc:creator>未知用户</dc:creator>
  <dc:description/>
  <cp:keywords/>
  <dc:language>en-US</dc:language>
  <cp:lastModifiedBy>Administrator</cp:lastModifiedBy>
  <cp:lastPrinted>1899-12-30T00:00:00Z</cp:lastPrinted>
  <dcterms:modified xsi:type="dcterms:W3CDTF">2015-11-23T12:38:2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