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04B-7842-44BE-B4C9-C861A1E7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BAD-ABEF-4DCD-889D-12336F96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2A7-A935-4C62-A5A7-C2465732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1C4-BB90-4C26-B311-4114A514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06B6-238F-4153-AF00-62765B07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9977-16B0-459E-AEDA-CB4C7616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3B93-88E6-460B-9818-71B34FD9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71F0-22B9-42FE-A7E5-1B36226C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FAD7-AED9-4C5D-828A-E72B7634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4AB3-F7C5-44B0-9CDD-5A17CD90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B9EA-B8B4-4BD1-87AD-180CC167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10FA-0D4C-4BF2-8E05-6486754B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5E70-337B-4704-8B95-A0A8BDA1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04E8-07A4-4508-86F2-112DEFF5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EAF8-B881-45C3-B6D7-457F71EE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9B7F-600A-46CB-8F6D-871D5820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6E61-2444-414A-B680-1A090D15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4B6-98D6-45B8-A393-45DF006F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B2D-4335-409D-835A-C8BDE324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ACA-845A-4421-8307-6F6E7487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ACD0-26DB-442B-92D2-2401712B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472-AE85-452B-B387-12DFC162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B9D9-D8BF-46E7-BF47-70C30F63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C14-D58A-4DF2-892D-CD64E66C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E443-D8C6-4489-BEDC-0C7C176C3E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EFE9-F76E-4108-8090-5CE955DFA1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7280" y="260280"/>
            <a:ext cx="8856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直面困难</a:t>
            </a:r>
            <a:r>
              <a:rPr b="0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追逐梦想</a:t>
            </a:r>
            <a:endParaRPr b="0" lang="en-US" sz="8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2400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黑体"/>
                <a:ea typeface="黑体"/>
              </a:rPr>
              <a:t>高一</a:t>
            </a:r>
            <a:r>
              <a:rPr b="0" lang="en-US" sz="5400" spc="-1" strike="noStrike">
                <a:solidFill>
                  <a:srgbClr val="ffff66"/>
                </a:solidFill>
                <a:latin typeface="黑体"/>
                <a:ea typeface="黑体"/>
              </a:rPr>
              <a:t>(16)</a:t>
            </a:r>
            <a:r>
              <a:rPr b="0" lang="zh-CN" sz="5400" spc="-1" strike="noStrike">
                <a:solidFill>
                  <a:srgbClr val="ffff66"/>
                </a:solidFill>
                <a:latin typeface="黑体"/>
                <a:ea typeface="黑体"/>
              </a:rPr>
              <a:t>班主题班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051"/>
          <p:cNvSpPr/>
          <p:nvPr/>
        </p:nvSpPr>
        <p:spPr>
          <a:xfrm>
            <a:off x="1879560" y="4797360"/>
            <a:ext cx="7264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052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3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与梦想一起飞翔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梦想一起飞翔，把目光朝向铸就成功的远方。志存高远，才没有年少无知的轻狂，才没有虚度光阴的荒唐；胸怀广阔，才不因挫折打击而迷惘，才不因失败伤痛而彷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梦想一起飞翔，靠毅力挥动背负沉重的翅膀。如苍鹰搏击于长空，似海燕翱翔于汪洋。直面风吹雨打，历经夏暑秋凉。勇往直前，一如既往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与梦想一起飞翔，用真情呵护生命年轮的成长。将家的温馨贴在胸膛，朋友情谊似烈酒滚烫，师长风范如清茶悠长，让浓浓爱意洋溢年轻的心房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终有一天，梦想的花蕾会朵朵绽放，梦想的星辰会熠熠闪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老师寄语：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97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把自己确立的远大理想分解成若干个小目标，再循序渐进地去实现它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没有比脚更长的路，没有比自己更高的山！努力吧，树立目标，认识自我，超越自我。只要你自己相信自己“能”，就一定“能”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02401" descr="FR80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102402"/>
          <p:cNvSpPr/>
          <p:nvPr/>
        </p:nvSpPr>
        <p:spPr>
          <a:xfrm>
            <a:off x="1676520" y="1981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阅读文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93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做一粒咖啡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想一想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身处逆境中，胡萝卜、鸡蛋、咖啡豆有什么不同的表现？你有何感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02403"/>
          <p:cNvSpPr/>
          <p:nvPr/>
        </p:nvSpPr>
        <p:spPr>
          <a:xfrm>
            <a:off x="2438280" y="121932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加强阅读 理解吸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02404"/>
          <p:cNvSpPr/>
          <p:nvPr/>
        </p:nvSpPr>
        <p:spPr>
          <a:xfrm>
            <a:off x="1752480" y="4114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阅读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2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苦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记一记：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“你战胜苦难，它就是你的财富；苦难战胜你，它就是你的屈辱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102405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02406" descr=""/>
          <p:cNvPicPr/>
          <p:nvPr/>
        </p:nvPicPr>
        <p:blipFill>
          <a:blip r:embed="rId3"/>
          <a:stretch/>
        </p:blipFill>
        <p:spPr>
          <a:xfrm>
            <a:off x="685800" y="37339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周杰伦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蜗牛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5003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该不该搁下重重的壳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寻找到底哪里有蓝天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随着轻轻的风轻轻的飘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历经的伤都不感觉疼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要一步一步往上爬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待阳光静静看着它的脸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小的天有大大的梦想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重的壳裹着轻轻的仰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360" y="907920"/>
            <a:ext cx="403848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要一步一步往上爬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最高点乘着叶片往前飞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任风吹干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流过的泪和汗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总有一天我有属于我的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72713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张敬轩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My way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691920"/>
            <a:ext cx="47512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直在酝酿一直在盼望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爸爸和妈妈唯一的理想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月第一天一九八一年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第一次对他们眨了眨眼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待快点过去多少个明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希望这个宝贝快快长大一点一点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体要健康所有的事情都如所愿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大以后就是小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ill find my wa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ant a different wa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er the wind ane ra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will be abrand new day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候受伤有人心疼失落有人安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遇到困难自己就要学会面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0" y="764640"/>
            <a:ext cx="419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ill find my wa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ant a different wa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hing will stop me now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atter what they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困难要用我的坚强和努力勇敢面对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用心去追感觉就对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"ll find my way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直就这样找我的方向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理会别人奇怪的眼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到有一天我忽然发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梦想已经在实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待快点过去多少个明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看着自己已经快快长大一点一点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生活应该让我自己学会掌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信自己不怕风雨再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40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孙燕姿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逃亡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620280"/>
            <a:ext cx="47750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踩著月光打开车窗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离开这城市想找个解放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路开往最高那一座山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孤单的想像寂寞的逃亡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是偶尔难免沮丧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离开想躲起来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里的期待总是填不满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看著山下千万的窗谁不曾感到失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算会彷徨也还要去闯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未来只有自己明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765000"/>
            <a:ext cx="419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想让心情被现实打败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路开往最高那一座山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孤单的想像寂寞的逃亡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站在靠近天的顶端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开手全部释放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月光取暖给自己力量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才发现关于梦的答案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直在自己手上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自己能让自己发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广 州 大 学 图 书 馆：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7" name="内容占位符 92165" descr="tsgjj_jpg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856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06800" y="228240"/>
            <a:ext cx="213516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广 州 大 学 钟 楼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228240"/>
            <a:ext cx="62532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内容占位符 94213" descr="钟楼"/>
          <p:cNvPicPr/>
          <p:nvPr/>
        </p:nvPicPr>
        <p:blipFill>
          <a:blip r:embed="rId1"/>
          <a:stretch/>
        </p:blipFill>
        <p:spPr>
          <a:xfrm>
            <a:off x="468360" y="189000"/>
            <a:ext cx="6119640" cy="6553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毕  业  照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2" name="内容占位符 97285" descr="biye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4064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讨   论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位乡下农夫有头老驴子，一天，老驴子不小心跌进了一个深坑，农夫听到驴的哀鸣，目睹它的困境，想了很久，断定救不了它，但又不忍心看着它痛苦而死，于是，农夫决定往坑里填土，把老驴闷死，以便使它早些脱离苦海，于是，农夫就开始往坑里填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1680" y="0"/>
            <a:ext cx="8842320" cy="74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山高路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呼喊是爆发的沉默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沉默是无声的召唤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不论激越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不是宁静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我祈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只要不是平淡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如果远方呼喊我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我就走向远方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如果大山召唤我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我就走向大山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双脚磨破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干脆再让夕阳涂抹小路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双手划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索性就让荆棘变成杜鹃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没有比脚更长的路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没有比人更高的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1:22:10Z</dcterms:created>
  <dc:creator>书利华教育网【www.ShuLiHua.net】</dc:creator>
  <dc:description>主题班会课件(分28大类): http://shop62905894.taobao.com</dc:description>
  <cp:keywords>主题班会课件(分28大类): http://shop62905894.taobao.com</cp:keywords>
  <dc:language>en-US</dc:language>
  <cp:lastModifiedBy>Administrator</cp:lastModifiedBy>
  <dcterms:modified xsi:type="dcterms:W3CDTF">2019-11-01T01:19:56Z</dcterms:modified>
  <cp:revision>17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45</vt:lpwstr>
  </property>
</Properties>
</file>