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8B8-27D7-4CAC-A6EB-906A542303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slide" Target="../slides/slide6.xml"/><Relationship Id="rId1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1E5-B996-4066-A7B1-91F2587A3D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uwen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uxu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36B-EC8C-4029-87A1-3E0896CBCE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393-0E12-40F3-BE59-1052E7F3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31C-E005-415D-A82A-36A6D93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5BF5-33FB-4229-B63D-6EBC598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9EB9F-D09C-4B30-B021-4D2CB8E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111AB-3EF2-4098-BDB6-732E87D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D84F5-72F3-4C76-90EE-6644EA4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574FF-35B2-4570-8EC4-7661D33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91EBC-4663-49CA-90FB-6EC2C88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3DDF0-CA47-470D-9EE7-FEEDFEB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B8590-5039-40FE-92E4-D808860A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FEC09-2C4A-476E-82F7-6DBDB14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D14B9-C744-4F93-B6E3-8E446756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60F-102C-4C7A-A6F0-0218E722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F4F3-53CD-4507-8677-A35FC09A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411A1-E2A3-44A3-9520-C794918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C725C-AE76-4301-8FF2-5A3370C8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8EFFD-210C-402A-BC68-8477797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F3226-4FB2-4C66-B8C3-FE97CAD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060BE-6408-4C7B-9E96-570DAA7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3F1C-E4FC-49E3-B215-CEA9651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97D1F-35B8-4223-BAC8-626C63D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23284-A921-4B01-8AD8-D8B1664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C19E-1F1C-4ED9-84B2-DE9B201B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181-0130-4EE7-8205-0625170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8D6FB-0D8B-4796-A14B-9024FF2A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20E0-8C13-4AB6-AA35-F5F99ABC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BD34-C525-4054-9F86-CCAF77DF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CE1F5-41EF-4E34-BA8F-321E925D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E567-091B-4F32-802B-FA25C8B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5A721-AABB-4E29-BA2B-BA1EE45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E163-8C60-4249-9504-26DDEE7F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3AF1C-CDF8-4F1B-A85D-9A70B3D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0303-D54A-4BBC-A3B4-1687020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6DA2-DE02-45A7-8E33-C960151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6D4-1C45-405C-BCFF-E7B1C892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97BB-B6B7-49D1-B6C9-2D9C587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56A2C-7381-4EBC-A976-2615AA5E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02BA-E4F9-4695-B7B9-7DDE6C0C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70EA4-4EF9-4AEB-ABA7-9DB93FCF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A0309-337B-4E3C-8A8A-F6E79316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5279C-6F9F-4491-9E90-2620095E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315EF-6587-486C-B1CF-29EB256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E2368-67D9-4F5C-BE50-B181AFF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C8F0A-3E63-4A0B-BADE-417B09D9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84EA6-4938-46DA-B83A-F6C8952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1B8E-1444-4F49-A4B1-9324E762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E5CCD-179D-4CB2-BCC0-6B6B066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7D19A-5B05-4D61-81A2-6719E53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85D4-D26F-4F32-BB8F-0D75092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3C9E-58E3-4CF7-87D5-4E6E2CE2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E9782-0578-4086-8615-FA720E1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4B8A3-8213-41C5-B77F-8E7E488B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4F72F-9E10-418E-A095-6EE90178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2B1E0-207A-477E-98E1-B58ED85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D3138-213C-4F1F-B17D-695E2B2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490E2-B991-4E64-867F-598895C2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836-9A42-4BC3-ABF1-5C25CF7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BBC4B-5D1A-4816-ADAC-CBA0CC8A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14411-7262-4801-894E-3F0ED04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77953-7F80-4BA1-A954-2A3211F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BCE1F-CA04-4B40-B2DF-334B3AF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9B233-99B6-4D4A-A655-FC8FEA6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C87C3-5C66-4D77-9849-FD2CAD8D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7F97D-9874-47AC-A543-919C7486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E1A9-3BF8-4C5D-9CE1-87442314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DFD-FE76-4E41-9609-3EECF40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6A88-81B3-4164-93D6-BC37F6D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15E-6A7C-4EAC-A5A1-F24D991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55-3759-4B8D-B77E-B9BEDD5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23A-F102-41E8-995B-38FAA29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5D0-9323-4321-AAB6-DC1A6BAD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BCEC-9F1C-441C-B17B-91038DE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1890-35DF-4585-9620-9F697522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69C-B980-4B34-A521-DEFB7B2B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50C7-63D8-4B98-8686-52B23C7D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1203-0280-4428-AC30-FB0716F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FF73-88BF-4A83-BAD5-E479B90D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828A-286E-4BC1-92A1-7D74946F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5348-7C8D-482C-BC38-8C2D211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6BC-38C4-4942-B968-8CCE95C4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262D-52C1-4D39-95BC-ABCF99B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691C-8C70-4E32-8D0B-30ECAA9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1E02-066B-459E-BD4E-D10E73D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04D5-BEB8-4012-9C48-C860400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5F34-5E9B-408E-9419-0F3C8BF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EBB6-C32C-4ECD-9314-826DF265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65FB-8FCA-4428-AEC3-42214C18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BD29-F185-46B3-90F8-854150FA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C02B-2E1E-4755-B2B3-EB9B12A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990A-8C2E-4E7B-822B-0A7B3D5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EFA-5C22-43BC-8B4A-07118FF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0908-34A0-487B-9CCA-1DC2DA3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BCD0-63DC-42F6-A079-821AB7CB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29D3-E5C3-4E0A-AD5F-B56A4256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F317-88AB-4ED9-9924-4E22D0C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BFC1-FEB9-48B8-BB19-7FD50A26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7EE52-1F23-4D35-8FEB-8D52B00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A055-B764-4752-958C-6ED9A89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CEEB-2859-43C6-B235-B73BFDA9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A875-1091-464C-8951-9791F42E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D660-D005-417A-920E-6C19A615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B9F-C559-4BEA-96AB-13D75141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C3E0E-1251-4656-8124-C86790B5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0702-2CC7-439F-B836-8CC91E3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B0481-8CF0-46BC-A4C7-2EFFAD2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B3C3-ED01-4F31-BCD4-6B12224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8A6D-53C8-493F-BA4E-B6D6436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B9F7-C62C-4C28-8B98-6F8702F3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A59E-9164-4195-918E-E5DAAAC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E24D-D915-47C6-A319-788F5F2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19D4-ECA6-468A-9F68-76CADC8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75B1-23FA-421F-9F4E-9C704D31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C73-5A4D-4A18-82D1-91B8FC3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73CE-9842-43F9-A7D4-24CB0680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4E0E-BBFE-43BF-B3F2-4CEB666B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88CA-83B9-4908-8CE2-487D749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8C07-31F0-4034-8669-EE0BB4C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4CF6-7B0C-497C-AADA-64B1A85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6DBF-1F88-4ADC-B4E7-E043F26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DB891-46DC-4745-BD69-277D53B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945A1-6515-415C-847F-BC8C30E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CB27-3984-47CA-96AE-4084EF7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8E32-FA15-4519-8746-2244E68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1F9-C900-44A2-BD33-E2C2C9F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ED709-100C-4326-8C65-221FE5A9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7CD2-D849-4915-807A-990381AF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6714-D393-487A-9D65-A968AA52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6494-5AF6-4DCE-AA43-355B42FF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C18DD-EBD8-4511-B177-0F96603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7D5A-8101-41B3-8256-F84A99A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D370-2C8D-4BF9-B46D-5AD3061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4BE9-3DD8-4E53-8E33-D33CDD74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138C-03D6-403C-B20F-8BBB6F6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0ADC-A2D2-4340-8BAC-E052FFF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43E-9A1F-43CD-924A-61B7FE2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7C526-B80A-4DE3-928B-5ECC8F2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D8A1-BE5D-48FA-BA7B-37869C95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3BCA-14FE-49DF-BB58-4A77CE16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5E5D-EFAA-4517-9781-D6EC9C06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15E0-57CB-4E48-901A-886F541D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EF094-9451-4140-AD05-BB31A27E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09C8-24D5-4701-A09B-CFDBA81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B284-023B-443D-AC39-0723EC2A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0C00-A7AA-48D9-BFCD-49A7293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272D0-8C58-4B54-B382-E54C3D2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72D-F3FB-4662-BDAC-5E58D61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EBAE-8B9E-4334-A920-8F71396D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E105-5C10-4C8E-9838-B757F2D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2BD7-6C6B-41E1-812A-B14742A9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46E9-F724-4D25-9BF7-F91C7E3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33BB-9661-4C89-A9D8-445AABE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A6035-724B-44E1-82C9-39ABCAE9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5E2BE-5CEA-48C1-B399-45B5E4E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A73A9-04DA-430D-8339-5B4C63F3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F4E65-48BB-4B28-823E-E73E26E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3DC30-5795-49AF-A6CB-9938062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F89-508A-46F4-AF40-471C52C2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CEE-AF04-4514-A599-30D27A821D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94F6-CE6B-47AC-A5F3-701FF2C37A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E5F-2539-4F9B-9134-6512004737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1CB-9E79-4621-B2A7-83E03D0ECF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7C5C-E765-4696-AFB2-1B12B02BF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E49E-5559-4E9F-A1DA-DCD7760CD2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71D-3788-40B6-B726-72128CA461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BC4-6235-4A1D-82E8-D1BD2FE5EF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967-22B9-4BDB-8A93-5EBEAC8ABB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BF8-C479-4936-9E1C-595E0CA32A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9C14-8646-4B25-941C-D9E82763B1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8F54-773C-43D5-871D-54CA90BEBE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1547640" y="1773360"/>
            <a:ext cx="5867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隶书"/>
              </a:rPr>
              <a:t>防火知多少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隶书"/>
              <a:ea typeface="华文隶书"/>
            </a:endParaRPr>
          </a:p>
        </p:txBody>
      </p:sp>
      <p:pic>
        <p:nvPicPr>
          <p:cNvPr id="541" name="矩形 4" descr=""/>
          <p:cNvPicPr/>
          <p:nvPr/>
        </p:nvPicPr>
        <p:blipFill>
          <a:blip r:embed="rId1"/>
          <a:stretch/>
        </p:blipFill>
        <p:spPr>
          <a:xfrm>
            <a:off x="1809720" y="5400720"/>
            <a:ext cx="53658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026" descr="D:\图片\救火4.jpg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D:\图片\救火6.jpg"/>
          <p:cNvPicPr/>
          <p:nvPr/>
        </p:nvPicPr>
        <p:blipFill>
          <a:blip r:embed="rId1"/>
          <a:stretch/>
        </p:blipFill>
        <p:spPr>
          <a:xfrm>
            <a:off x="304920" y="873000"/>
            <a:ext cx="883908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D:\图片\救火7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D:\图片\救火5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图片 9" descr=""/>
          <p:cNvPicPr/>
          <p:nvPr/>
        </p:nvPicPr>
        <p:blipFill>
          <a:blip r:embed="rId21"/>
          <a:srcRect l="0" t="0" r="15793" b="53376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838080" y="1268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49280" y="3057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培养幼儿初步的自我保护意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45720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让幼儿了解火灾发生的几种原因，懂得如何防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57200" y="4343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初步掌握几种自救逃生的方法与技能，提高自我保护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28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D:\图片\火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5"/>
          <p:cNvSpPr/>
          <p:nvPr/>
        </p:nvSpPr>
        <p:spPr>
          <a:xfrm>
            <a:off x="125892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D:\图片\救火.jpg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D:\图片\救火1.jpg"/>
          <p:cNvPicPr/>
          <p:nvPr/>
        </p:nvPicPr>
        <p:blipFill>
          <a:blip r:embed="rId1"/>
          <a:stretch/>
        </p:blipFill>
        <p:spPr>
          <a:xfrm>
            <a:off x="457200" y="236520"/>
            <a:ext cx="82868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D:\图片\救火2.jpg"/>
          <p:cNvPicPr/>
          <p:nvPr/>
        </p:nvPicPr>
        <p:blipFill>
          <a:blip r:embed="rId1"/>
          <a:stretch/>
        </p:blipFill>
        <p:spPr>
          <a:xfrm>
            <a:off x="838080" y="0"/>
            <a:ext cx="7162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D:\图片\救火3.jpg"/>
          <p:cNvPicPr/>
          <p:nvPr/>
        </p:nvPicPr>
        <p:blipFill>
          <a:blip r:embed="rId1"/>
          <a:stretch/>
        </p:blipFill>
        <p:spPr>
          <a:xfrm>
            <a:off x="9907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5:21:25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6-09-21T05:40:41Z</dcterms:modified>
  <cp:revision>8</cp:revision>
  <dc:subject>第一PPT模板网-WWW.1PPT.COM</dc:subject>
  <dc:title>第一PPT模板网-WWW.1PPT.COM</dc:title>
</cp:coreProperties>
</file>