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type.wav" ContentType="audio/x-wav"/>
  <Override PartName="/ppt/media/image14.gif" ContentType="image/gif"/>
  <Override PartName="/ppt/media/image9.jpeg" ContentType="image/jpeg"/>
  <Override PartName="/ppt/media/image8.gif" ContentType="image/gif"/>
  <Override PartName="/ppt/media/image12.jpeg" ContentType="image/jpeg"/>
  <Override PartName="/ppt/media/image15.jpeg" ContentType="image/jpeg"/>
  <Override PartName="/ppt/media/image13.gif" ContentType="image/gif"/>
  <Override PartName="/ppt/media/chimes.wav" ContentType="audio/x-wav"/>
  <Override PartName="/ppt/media/image4.gif" ContentType="image/gif"/>
  <Override PartName="/ppt/media/image1.png" ContentType="image/png"/>
  <Override PartName="/ppt/media/image2.jpeg" ContentType="image/jpeg"/>
  <Override PartName="/ppt/media/whoosh.wav" ContentType="audio/x-wav"/>
  <Override PartName="/ppt/media/image5.png" ContentType="image/png"/>
  <Override PartName="/ppt/media/image6.wmf" ContentType="image/x-wmf"/>
  <Override PartName="/ppt/media/image3.png" ContentType="image/png"/>
  <Override PartName="/ppt/media/image11.wmf" ContentType="image/x-wmf"/>
  <Override PartName="/ppt/media/image7.jpeg" ContentType="image/jpe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65D65-ECC1-4E23-B33E-17CACA162D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6906F-7A1F-4D19-ADB2-EF11E7D46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632B7-842B-4294-83B7-A01D0F813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EA9E-3D86-48AC-BDC8-87F55763E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BFDC-A4E6-4FFC-88EA-6A066B3B4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4A86-36E1-4C03-BBD6-26E0D1754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99C3-8F68-4CFD-B12F-54DACF8CD0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3AA5-A769-4C24-B2F2-E736A47B3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DFC8-9CAB-4821-845E-27447CEF2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F0590-C806-4307-8553-5A12B2382E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AE28-DC40-431D-8FC4-EA3F2B0508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BC6C7-C1A4-4E5D-83AA-AAECC041A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ED01-0026-4556-88B5-0A581B2DB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FDFD-4833-447F-BC2E-0A85119EE8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32A2D-D502-4A53-B03E-ED675784A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7E99-CCAC-4A68-9339-9FE3766E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ADDF-17E8-4303-8556-7E0AF55F0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CD04-FB7F-40CA-AF06-11D67C8F5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93F1-4A5C-4AA7-9829-C340A8617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D012-EF69-4758-95D5-26247ADCB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CD6F-024F-4F42-8D96-0573CFBC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A106-9BA5-4810-AF3A-6F725C845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2AA7-39B6-4D47-B57A-B3E503B3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6D23-79B0-4BF4-BA67-19283684E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6BCD-A172-4A5B-BD70-C782CE4C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5DD8-CF5B-4F60-A18E-F1C2BE00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0339-3980-4D9C-864C-C6CDE247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E4426-025D-49FB-BAEB-DE1C116F8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" Target="slide6.xml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彩虹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4"/>
          <p:cNvSpPr txBox="1"/>
          <p:nvPr/>
        </p:nvSpPr>
        <p:spPr>
          <a:xfrm>
            <a:off x="-152280" y="1143000"/>
            <a:ext cx="8686800" cy="396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阳光总在风雨后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pic>
        <p:nvPicPr>
          <p:cNvPr id="50" name="许美静-阳光总在风雨后.mp3" descr=""/>
          <p:cNvPicPr/>
          <p:nvPr/>
        </p:nvPicPr>
        <p:blipFill>
          <a:blip r:embed="rId2"/>
          <a:stretch/>
        </p:blipFill>
        <p:spPr>
          <a:xfrm>
            <a:off x="685800" y="6095880"/>
            <a:ext cx="380880" cy="381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ship%20(12)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67480" y="4267080"/>
            <a:ext cx="1676520" cy="13017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79280" y="2209680"/>
            <a:ext cx="878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爱迪生曾经试用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不同的材料作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魏碑简体"/>
              </a:rPr>
              <a:t>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灯泡的灯丝，都没有成功。有人批评他：“你已经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失败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次了。”可是爱迪生不这么认为，他充满自信地说：“我的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成功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就在于发现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材料不适合做灯丝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WordArt 3"/>
          <p:cNvSpPr txBox="1"/>
          <p:nvPr/>
        </p:nvSpPr>
        <p:spPr>
          <a:xfrm>
            <a:off x="380880" y="533520"/>
            <a:ext cx="6553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华文行楷"/>
              </a:rPr>
              <a:t>爱迪生从挫折中找回自信：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3995640" y="476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日本的挫折教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5"/>
          <p:cNvSpPr txBox="1"/>
          <p:nvPr/>
        </p:nvSpPr>
        <p:spPr>
          <a:xfrm>
            <a:off x="324000" y="0"/>
            <a:ext cx="320040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华文行楷"/>
              </a:rPr>
              <a:t>小小阅读卡：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179280" y="12142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日本孩子的心理素质被世人称道，源于其重视“挫折教育”。日本的挫折教育简单地说，就是让孩子自小受到艰难困苦的磨练，以培养坚忍不拔的意志和毅力。日本的幼儿园有一条不成文的规定：每逢冬天，幼儿都要赤身裸体于风雪之中摸爬滚打一定时间。天寒地冻，不少幼儿嘴唇冻得发紫，浑身发抖，但站在一边的家长们个个“铁石心肠”，没有一个上前搂住自己的孩子。他们知道，只有这样才能换来孩子真正的健康。在日本，不少中小学还兴起一种“穷留学”之风，即富裕的大城市中小学生到偏远的山区村寨接受艰苦的生活训练。日本人教育孩子有句名言：除了阳光和空气是大自然赐予的，其他一切都要通过劳动获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2"/>
          <p:cNvSpPr txBox="1"/>
          <p:nvPr/>
        </p:nvSpPr>
        <p:spPr>
          <a:xfrm>
            <a:off x="228600" y="228600"/>
            <a:ext cx="26668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说一说：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826920" y="1989000"/>
            <a:ext cx="792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  <a:ea typeface="隶书"/>
              </a:rPr>
              <a:t> 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挫折磨练人生的格言、警句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7" descr="风中听竹"/>
          <p:cNvPicPr/>
          <p:nvPr/>
        </p:nvPicPr>
        <p:blipFill>
          <a:blip r:embed="rId1"/>
          <a:stretch/>
        </p:blipFill>
        <p:spPr>
          <a:xfrm>
            <a:off x="0" y="4581360"/>
            <a:ext cx="91440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眨眼的小女孩2"/>
          <p:cNvPicPr/>
          <p:nvPr/>
        </p:nvPicPr>
        <p:blipFill>
          <a:blip r:embed="rId1"/>
          <a:stretch/>
        </p:blipFill>
        <p:spPr>
          <a:xfrm>
            <a:off x="0" y="2286000"/>
            <a:ext cx="3200400" cy="4572000"/>
          </a:xfrm>
          <a:prstGeom prst="rect">
            <a:avLst/>
          </a:prstGeom>
          <a:ln w="0">
            <a:noFill/>
          </a:ln>
        </p:spPr>
      </p:pic>
      <p:sp>
        <p:nvSpPr>
          <p:cNvPr id="90" name="WordArt 2"/>
          <p:cNvSpPr txBox="1"/>
          <p:nvPr/>
        </p:nvSpPr>
        <p:spPr>
          <a:xfrm>
            <a:off x="1116000" y="260280"/>
            <a:ext cx="26668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行楷"/>
              </a:rPr>
              <a:t>议一议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2590920" y="1773360"/>
            <a:ext cx="655308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通过学习以后，你今后会如何面对挫折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2" descr="雪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假如生活欺骗了你.mp3" descr=""/>
          <p:cNvPicPr/>
          <p:nvPr/>
        </p:nvPicPr>
        <p:blipFill>
          <a:blip r:embed="rId2"/>
          <a:stretch/>
        </p:blipFill>
        <p:spPr>
          <a:xfrm>
            <a:off x="755640" y="59500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1"/>
          <p:cNvSpPr/>
          <p:nvPr/>
        </p:nvSpPr>
        <p:spPr>
          <a:xfrm>
            <a:off x="1258920" y="252360"/>
            <a:ext cx="6264360" cy="64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楷体_GB2312"/>
              </a:rPr>
              <a:t>假如生活欺骗了你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普希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假如生活欺骗了你，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不要悲伤，也不要气愤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在愁苦的日子里，要心平气和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相信吧，快乐的日子会来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心儿为将来而热烈地跳动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眼前的事情虽叫人悲切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但一切转眼就会消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事情一过去，便成为欢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60" nodeType="clickEffect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3" dur="54335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68360" y="112536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一个好心的老人，在草地上，发现了一个蛹，他把蛹带回家。过了几天，蛹壳上出现了一道小裂缝，里面的蝴蝶挣扎了好几个小时，身体似乎被卡住了，一直出不来。老人看着于心不忍，于是，他拿剪刀把蛹壳剪开，帮助蝴蝶脱蛹而出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WordArt 5" descr=""/>
          <p:cNvPicPr/>
          <p:nvPr/>
        </p:nvPicPr>
        <p:blipFill>
          <a:blip r:embed="rId1"/>
          <a:stretch/>
        </p:blipFill>
        <p:spPr>
          <a:xfrm>
            <a:off x="171360" y="0"/>
            <a:ext cx="4388040" cy="11764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6"/>
          <p:cNvSpPr/>
          <p:nvPr/>
        </p:nvSpPr>
        <p:spPr>
          <a:xfrm>
            <a:off x="468360" y="530064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</a:rPr>
              <a:t>可是，这只蝴蝶的身躯臃肿，翅膀干瘪，根本就飞不起来，不久就死去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WordArt 2"/>
          <p:cNvSpPr txBox="1"/>
          <p:nvPr/>
        </p:nvSpPr>
        <p:spPr>
          <a:xfrm>
            <a:off x="228600" y="228600"/>
            <a:ext cx="266688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说一说：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58" name="AutoShape 5"/>
          <p:cNvSpPr/>
          <p:nvPr/>
        </p:nvSpPr>
        <p:spPr>
          <a:xfrm>
            <a:off x="2590920" y="152280"/>
            <a:ext cx="6553080" cy="3276720"/>
          </a:xfrm>
          <a:prstGeom prst="cloudCallout">
            <a:avLst>
              <a:gd name="adj1" fmla="val -43314"/>
              <a:gd name="adj2" fmla="val 6114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3657600" y="762120"/>
            <a:ext cx="4724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蝴蝶为什么会死去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PE01561_"/>
          <p:cNvPicPr/>
          <p:nvPr/>
        </p:nvPicPr>
        <p:blipFill>
          <a:blip r:embed="rId1"/>
          <a:stretch/>
        </p:blipFill>
        <p:spPr>
          <a:xfrm>
            <a:off x="0" y="3816360"/>
            <a:ext cx="4583160" cy="3041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BJ_040"/>
          <p:cNvPicPr/>
          <p:nvPr/>
        </p:nvPicPr>
        <p:blipFill>
          <a:blip r:embed="rId2"/>
          <a:stretch/>
        </p:blipFill>
        <p:spPr>
          <a:xfrm>
            <a:off x="5638680" y="4789440"/>
            <a:ext cx="3124440" cy="20685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8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2"/>
          <p:cNvSpPr txBox="1"/>
          <p:nvPr/>
        </p:nvSpPr>
        <p:spPr>
          <a:xfrm>
            <a:off x="990720" y="609480"/>
            <a:ext cx="327636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谈一谈：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990720" y="2438280"/>
            <a:ext cx="761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Arial"/>
                <a:ea typeface="华文行楷"/>
              </a:rPr>
              <a:t>    </a:t>
            </a: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华文行楷"/>
              </a:rPr>
              <a:t>你们曾经历过的挫折。你们是如何面对挫折的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95280" y="2997360"/>
            <a:ext cx="8153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人之逆境十之八九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468360" y="1341360"/>
            <a:ext cx="4195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古语说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生长着的鲜花"/>
          <p:cNvPicPr/>
          <p:nvPr/>
        </p:nvPicPr>
        <p:blipFill>
          <a:blip r:embed="rId1"/>
          <a:stretch/>
        </p:blipFill>
        <p:spPr>
          <a:xfrm>
            <a:off x="611280" y="5373720"/>
            <a:ext cx="705636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002_JPG"/>
          <p:cNvPicPr/>
          <p:nvPr/>
        </p:nvPicPr>
        <p:blipFill>
          <a:blip r:embed="rId1"/>
          <a:stretch/>
        </p:blipFill>
        <p:spPr>
          <a:xfrm>
            <a:off x="0" y="3357720"/>
            <a:ext cx="1932120" cy="350028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6"/>
          <p:cNvSpPr/>
          <p:nvPr/>
        </p:nvSpPr>
        <p:spPr>
          <a:xfrm>
            <a:off x="1835280" y="1341360"/>
            <a:ext cx="6697440" cy="2303640"/>
          </a:xfrm>
          <a:prstGeom prst="cloudCallout">
            <a:avLst>
              <a:gd name="adj1" fmla="val -49810"/>
              <a:gd name="adj2" fmla="val 6557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2843280" y="1628640"/>
            <a:ext cx="434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今天我考试考差了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BD06518_"/>
          <p:cNvPicPr/>
          <p:nvPr/>
        </p:nvPicPr>
        <p:blipFill>
          <a:blip r:embed="rId2"/>
          <a:stretch/>
        </p:blipFill>
        <p:spPr>
          <a:xfrm>
            <a:off x="5029200" y="4229280"/>
            <a:ext cx="4114800" cy="2628720"/>
          </a:xfrm>
          <a:prstGeom prst="rect">
            <a:avLst/>
          </a:prstGeom>
          <a:ln w="0">
            <a:noFill/>
          </a:ln>
        </p:spPr>
      </p:pic>
      <p:sp>
        <p:nvSpPr>
          <p:cNvPr id="73" name="WordArt 8"/>
          <p:cNvSpPr txBox="1"/>
          <p:nvPr/>
        </p:nvSpPr>
        <p:spPr>
          <a:xfrm>
            <a:off x="539640" y="404640"/>
            <a:ext cx="2664000" cy="106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行楷"/>
              </a:rPr>
              <a:t>小品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179280" y="558720"/>
            <a:ext cx="896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数学试卷发放后的教室里，学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人正在议论这次考试，观点各不相同。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学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今天数学考试才考了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多分，哎，真倒霉，运气这么差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学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我和你考得差不多，不要这么唉声叹气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学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可我复习了好几遍了。这回又要挨骂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学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我觉得今天天气太热了，我很烦躁，没有全身心的投入，所以考砸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学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你们不要这样咯，唉声叹气有什么用。我才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多分，有什么办法呢？谁叫爸妈生得我这么笨，爸爸妈妈也不会骂我，我去玩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学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要我说是这张试卷太难了，要是简单一些，我才不至于这么几分呢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学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吹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学生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：我觉得试卷并不是很难，主要是我太粗心了，因此而失去将近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分呢，以后我一定加倍仔细。争取下一次考得好一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6"/>
          <p:cNvSpPr txBox="1"/>
          <p:nvPr/>
        </p:nvSpPr>
        <p:spPr>
          <a:xfrm>
            <a:off x="250920" y="0"/>
            <a:ext cx="2376360" cy="74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小品的内容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684360" y="189000"/>
            <a:ext cx="312408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请举例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3708360" y="2205000"/>
            <a:ext cx="5029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66ff"/>
                </a:solidFill>
                <a:latin typeface="Arial"/>
                <a:ea typeface="隶书"/>
              </a:rPr>
              <a:t>伟人、有成就之人受挫之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PE01753_"/>
          <p:cNvPicPr/>
          <p:nvPr/>
        </p:nvPicPr>
        <p:blipFill>
          <a:blip r:embed="rId1"/>
          <a:stretch/>
        </p:blipFill>
        <p:spPr>
          <a:xfrm>
            <a:off x="304920" y="3200400"/>
            <a:ext cx="267012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3"/>
          <p:cNvSpPr/>
          <p:nvPr/>
        </p:nvSpPr>
        <p:spPr>
          <a:xfrm>
            <a:off x="179280" y="2209680"/>
            <a:ext cx="878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爱迪生曾经试用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不同的材料作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魏碑简体"/>
              </a:rPr>
              <a:t>炽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灯泡的灯丝，都没有成功。有人批评他：“你已经失败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次了。”可是爱迪生不这么认为，他充满自信地说：“我的成功就在于发现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200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种材料不适合做灯丝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WordArt 4"/>
          <p:cNvSpPr txBox="1"/>
          <p:nvPr/>
        </p:nvSpPr>
        <p:spPr>
          <a:xfrm>
            <a:off x="380880" y="533520"/>
            <a:ext cx="65534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华文行楷"/>
              </a:rPr>
              <a:t>爱迪生从挫折中找回自信：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8-15T07:12:23Z</dcterms:created>
  <dc:creator>Administrator</dc:creator>
  <dc:description/>
  <dc:language>en-US</dc:language>
  <cp:lastModifiedBy>lu</cp:lastModifiedBy>
  <dcterms:modified xsi:type="dcterms:W3CDTF">2019-10-29T02:36:58Z</dcterms:modified>
  <cp:revision>32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8.2.8053</vt:lpwstr>
  </property>
  <property fmtid="{D5CDD505-2E9C-101B-9397-08002B2CF9AE}" pid="3" name="Version">
    <vt:r8>1</vt:r8>
  </property>
</Properties>
</file>