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E36-FECC-4030-BAE6-C3C6A3D5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B75-0909-4D00-AE97-F15C7B60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DB8D9-23B8-48AE-B7F3-79735EE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298F-613B-445F-866E-7561244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E1C44-5E60-458C-A81E-A3B2433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5D490-4873-4053-877B-E04DCE0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F96FE-B6A0-49D6-9442-FBCF435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AFDB-A8B9-4A10-8483-09E12C4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8CEF5-527B-40C7-97A8-5D95442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3AE71-4CD9-4B10-9E7E-8295049D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6903-1147-47AF-99F4-0EAC12AE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1E77D-9F47-4646-9266-EA238E0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9D0-A4DF-4280-96F7-CB80A1E3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F073D-9FF4-48B2-A31A-B6AD304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58B42-D5A6-43C0-963A-A5CE1023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D38CE-0E5A-4FF1-9375-BE9AD2A9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B7E60-6E0D-48A4-B65B-C129AA4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4326C-980D-44B6-BEA7-F9D092DB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42250-6DD8-49B0-A26F-140A29CD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63CAA-B709-47A5-86CD-DE9066F2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11813-FC3C-466B-B321-C91C22F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47ECC-5C43-45F8-B00E-D1C611C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78747-8091-42C1-9031-1661661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708-8FA0-4B90-939E-C741C340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40FD-C2E8-4706-9254-30E09AC2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DF28B-45A8-48AE-B393-5143BF93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B8DE-AFB1-4993-AC48-759699C4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70B7-2D7E-4C14-9D3E-2A15E315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DB30-ACC5-4F5E-AB77-19D406F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DB196-AE93-422E-A924-73582885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BFB76-76F7-474C-9232-1D38B79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17847-5F58-479B-97B1-9016A73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1A3FA-9AE6-448A-A3DD-BD9989B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8EBBD-8910-496E-A797-EB505218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9982-75FC-4B68-97EC-7AACF15B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0C7BE-720C-4E02-96DC-2A54BCA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0068F-B287-4AD2-8B94-4ACF0122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AE59-302B-46E5-B5B4-28DB0926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8FA1-29C3-4BB6-9C31-A1C61C8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8B2-7326-4198-BC85-A7DE7CD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435-551F-4ED3-B3B1-75079F2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E192-8581-4DDB-8E3A-A68DAF2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EB9-C370-40BC-93DF-7D8A8AA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9E23-266B-447E-B7A5-0DCA0A9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F7B-FF25-4876-B320-8CC7F5F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B2F6-5D53-4B78-A527-68098710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1E4D-F0B7-4024-A0A6-C51FADA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3F9E-6C6F-4CD4-9490-740AE943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FEB-7153-4D81-ADB8-44C3256D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09B-7402-4865-B613-6BFDE521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B3E8-31FE-440C-9DCC-8E173188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1906-B126-47F8-B1C8-5FA1123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6B3E-77B2-4218-94E3-17A31D6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5C3A-3117-4117-B05B-65355EEA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E868-D102-41BB-8A13-4CAA596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85E-A5B2-4B85-A98C-AB85832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1BD5-8FDF-4515-9BB9-F4A166F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D4FB-3734-42CD-A82B-BAD275C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34F5-08A4-438E-A9D2-18C0544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F954-298E-45ED-8B23-18A3443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A6A5-D397-4552-A7DF-CC98727A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B2A3-E609-4DAF-A585-1790BBD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7ECC-721B-455C-B601-E4492FEE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95D1-1197-4AAF-8733-9ABD623A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0771-5F88-4131-8626-4675688E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39F5-742E-4CC6-BDCF-1DB0411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752-7DBD-4389-9BE3-43B5B6BA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85AB3-F50E-4CFC-80C4-DB9C738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E1A9-F94A-448E-A945-E3AC41A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982F-4B0C-4C5C-9D8F-AC08D1D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845B-B886-419D-86FF-D9F2AE3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04FB-ACC8-4175-8AA2-5358B9F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258D-1E5D-4DA3-B707-7357407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B4E4-B5D9-47C6-85CD-D50DF92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3D82-ED4E-4CDC-B821-F03203B3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1A28-9685-4412-9253-8C82AC18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C78C-8894-43F2-B2B3-E0B0C53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D50-C12C-4E1E-942B-DBF21F2B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6B4D-1558-4AFB-A709-8D8FA9D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0EFE-675B-4402-93C6-F5BB754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615F-A4EE-4DE0-ACD8-F55D5AE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0F3D-A8FE-4147-9338-77D221B1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ADE8-B054-455C-8871-FF27CCF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3D89-610A-40C9-84B0-86EFDDE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17A9-629C-4CD9-8C32-2D1041F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EB3A-9CB9-4EA2-ACB6-65E30B7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ADAF-0152-4A41-A853-2554538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932E-00EF-4FC1-B8EB-1A8CD9BF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D97-6890-41B8-8997-ACD023B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1451-80C4-4D0F-AA8B-7D27DE76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FF4A-3012-43BD-8316-0DE7D9F5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9F39-8F65-4DCE-924C-82E56C0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5363-FD20-44D4-B6D5-0D233981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FE1F-BF98-451D-9CFC-788CEC5B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A2C1-E768-45FD-B251-163D41D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6E86-B1D1-4F7C-9CA8-7D5D79E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C9AB-EB84-478A-8103-45D4F7C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626B-A03F-42C8-82F8-1DE19E7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D53A-5D1E-4F15-AC09-9ADF54C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98A-188A-4025-BE2F-C51721C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7E12-E67C-4D5A-A0FB-88D2F67A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5057A-0118-42E0-8348-6DF05BAB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B128F-CD60-48E6-940B-DCB925D9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A333E-46DE-4A03-8389-4D24E10C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2E12-CDB5-427A-B4D3-148B470B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A12C5-416E-475C-9834-FC1B15F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2F09-FB50-4D68-8A56-4BE8280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F762-41E2-4301-A32D-E4001EB0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AAA9-190C-4580-A53A-4FCFA27F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840B-8AAB-4A38-8B2F-4C42267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44D-19F5-4064-8841-67D5E55E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26AB-8FA3-46E8-8569-FF48528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50BF2-881B-431B-9C05-BEDFB29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503B-2FEB-44C8-84F1-7CF539E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9CB3-D27C-437B-90F6-05A2982B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3B71-6D6F-4D25-8219-32C658F8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937C5-CF1E-487C-8957-B8A86CC1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949E2-98BD-41B9-9A29-56C69B4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054AE-D154-4819-879F-C77BA1E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6F9F1-0BF2-488B-B89B-BC22411A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D811-7BC5-4E5D-9A43-3187E5B2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0C9-AA78-44B4-9D70-6BEEF98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7CF7-7432-459D-8860-CCA777F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77CC-B81C-419C-89A1-F0766F68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51A9E-E1A1-441F-A6C1-664BAC5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3246-A5ED-496B-AC1A-7EA3550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66640-B7ED-49BB-AD08-12C75C98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1731-F871-455B-BBA1-EDA284DF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B9E0-6D2F-44CD-A2E9-A0229E92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E9140-4516-4F08-A1E1-22DF5795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09AA6-75B3-4663-B60A-7FDBED9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490EE-7C3E-43AC-AFF4-D4C1F4E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A3D0-BABD-457D-B5CA-5D8BB46390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6D3-A2E4-4AE5-A4BF-2DAB867F3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B95-98BA-4B48-9D0C-24BEEA91E8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790-3274-49FC-940C-CD5D648B8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A595-2E6E-49C2-A363-1013E35F6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B4CC-1902-46DE-AA0A-A7B6FDB09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01E-D35F-4F45-BCF2-E5A597E33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B30-5A70-440E-93D8-C44366502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C98F-C088-4EE3-9247-3012001E9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D0F-30A5-477C-98DF-49AF0BB1B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90B-7E9E-460D-89F5-03791051A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062-D08B-4585-BE40-74C135AED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-1,16,&#24187;&#28783;&#29255; 16" TargetMode="External"/><Relationship Id="rId3" Type="http://schemas.openxmlformats.org/officeDocument/2006/relationships/hyperlink" Target="-1,24,&#24187;&#28783;&#29255; 24" TargetMode="External"/><Relationship Id="rId4" Type="http://schemas.openxmlformats.org/officeDocument/2006/relationships/hyperlink" Target="-1,26,&#24187;&#28783;&#29255; 26" TargetMode="External"/><Relationship Id="rId5" Type="http://schemas.openxmlformats.org/officeDocument/2006/relationships/hyperlink" Target="-1,30,&#24187;&#28783;&#29255; 30" TargetMode="External"/><Relationship Id="rId6" Type="http://schemas.openxmlformats.org/officeDocument/2006/relationships/hyperlink" Target="-1,35,&#24187;&#28783;&#29255; 35" TargetMode="External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../../../../../mp3/&#27468;&#26354;/&#26126;&#22825;&#20250;&#26356;&#22909;.swf" TargetMode="External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2052" descr="图片1"/>
          <p:cNvPicPr/>
          <p:nvPr/>
        </p:nvPicPr>
        <p:blipFill>
          <a:blip r:embed="rId1"/>
          <a:stretch/>
        </p:blipFill>
        <p:spPr>
          <a:xfrm>
            <a:off x="-6094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矩形 2053"/>
          <p:cNvSpPr txBox="1"/>
          <p:nvPr/>
        </p:nvSpPr>
        <p:spPr>
          <a:xfrm>
            <a:off x="611280" y="189000"/>
            <a:ext cx="655308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们在路上</a:t>
            </a:r>
            <a:endParaRPr b="1" lang="en-US" sz="6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gradFill rotWithShape="0">
                <a:gsLst>
                  <a:gs pos="0">
                    <a:srgbClr val="33ccff"/>
                  </a:gs>
                  <a:gs pos="100000">
                    <a:srgbClr val="ff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4337" descr="W020040210357697187519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477" name="矩形 14338"/>
          <p:cNvSpPr/>
          <p:nvPr/>
        </p:nvSpPr>
        <p:spPr>
          <a:xfrm>
            <a:off x="0" y="5804280"/>
            <a:ext cx="85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最困难之时就是离成功不远之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4339"/>
          <p:cNvSpPr/>
          <p:nvPr/>
        </p:nvSpPr>
        <p:spPr>
          <a:xfrm>
            <a:off x="0" y="333360"/>
            <a:ext cx="644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9217" descr="15998d7b216501e10ad187eb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9218"/>
          <p:cNvSpPr/>
          <p:nvPr/>
        </p:nvSpPr>
        <p:spPr>
          <a:xfrm>
            <a:off x="0" y="2676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一个馒头，没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二个馒头，还没有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三个馒头，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此下结论，只要吃第三个馒头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实，没有第一、第二两个馒头的基础，哪有第三个馒头的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219"/>
          <p:cNvSpPr/>
          <p:nvPr/>
        </p:nvSpPr>
        <p:spPr>
          <a:xfrm>
            <a:off x="1476360" y="105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馒头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9220" descr="11_3_8-2"/>
          <p:cNvPicPr/>
          <p:nvPr/>
        </p:nvPicPr>
        <p:blipFill>
          <a:blip r:embed="rId2"/>
          <a:stretch/>
        </p:blipFill>
        <p:spPr>
          <a:xfrm>
            <a:off x="5940360" y="692280"/>
            <a:ext cx="262728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26627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27651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87" name="文本框 27649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7650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28675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8674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30725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30721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0722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5" name="图片 30723" descr="A1019237511_13576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2291" descr="图片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7" name="矩形 12289"/>
          <p:cNvSpPr/>
          <p:nvPr/>
        </p:nvSpPr>
        <p:spPr>
          <a:xfrm>
            <a:off x="611280" y="2026080"/>
            <a:ext cx="79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“伟大的事业不是靠力气、速度和身体的敏捷完成的，而是靠性格、意志和知识的力量完成的。”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50177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50178"/>
          <p:cNvSpPr/>
          <p:nvPr/>
        </p:nvSpPr>
        <p:spPr>
          <a:xfrm>
            <a:off x="468360" y="1268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年轻的韶华里，我告诉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将有属于自己的生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离开这没有明媚阳光的角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看见升起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穿越云层的黑影，那是天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坚持到发现彩虹终点的一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50179"/>
          <p:cNvSpPr/>
          <p:nvPr/>
        </p:nvSpPr>
        <p:spPr>
          <a:xfrm>
            <a:off x="5561280" y="1268280"/>
            <a:ext cx="255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飘浮在自由的羽翅上，离开那些失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驰骋于明朝那金色的田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沉重的旅行结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将休息我疲惫的思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是为了融合世界的光明和它的丽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看见落山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，锲而不舍，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0180"/>
          <p:cNvSpPr txBox="1"/>
          <p:nvPr/>
        </p:nvSpPr>
        <p:spPr>
          <a:xfrm>
            <a:off x="2627280" y="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锲而不舍到明天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31747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3" name="文本框 31745"/>
          <p:cNvSpPr/>
          <p:nvPr/>
        </p:nvSpPr>
        <p:spPr>
          <a:xfrm>
            <a:off x="324000" y="1212840"/>
            <a:ext cx="84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年高考过后，总有同学留下遗憾或心有不甘：有的稀里糊涂进高三，晃晃悠悠就一年；有的手忙脚乱进考场，昏天黑地就“下课”；有的搏击题海身手不凡，剑走偏峰绝招不断，拿到考题方寸大乱；有的感觉良好阳光灿烂，考分下来天蹋地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其实，上述种种黑色遭遇的出现，半点也不奇怪。因为没有策划的高三，就没有成功的高考。进入高三，每个人的基础不一样，对自己的期望值也不一样，但一年的时间对每个人都是公平的，那么，如何利用这一年的时间，让自己最大程度地逼近甚至超过自己的预期目标呢？请跟我们来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1746"/>
          <p:cNvSpPr txBox="1"/>
          <p:nvPr/>
        </p:nvSpPr>
        <p:spPr>
          <a:xfrm>
            <a:off x="2340000" y="260280"/>
            <a:ext cx="411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明年你会是这样吗？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32771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6" name="矩形 32769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2400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克制不住自己，无法进入学习状态，不想去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4097" descr="C:\Users\Administrator\Desktop\新建文件夹\3.jpg3"/>
          <p:cNvPicPr/>
          <p:nvPr/>
        </p:nvPicPr>
        <p:blipFill>
          <a:blip r:embed="rId1"/>
          <a:stretch/>
        </p:blipFill>
        <p:spPr>
          <a:xfrm>
            <a:off x="-299880" y="-227160"/>
            <a:ext cx="9743760" cy="731232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4098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099"/>
          <p:cNvSpPr/>
          <p:nvPr/>
        </p:nvSpPr>
        <p:spPr>
          <a:xfrm>
            <a:off x="0" y="365760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不留分文地全数提领是最佳选择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能不晓得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实我们每个人都有这样的一个银行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33794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9" name="文本框 33793"/>
          <p:cNvSpPr/>
          <p:nvPr/>
        </p:nvSpPr>
        <p:spPr>
          <a:xfrm>
            <a:off x="468360" y="333360"/>
            <a:ext cx="8064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快乐战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一个勇敢的堂吉柯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一定看过堂吉柯德的故事，也许有人会嗤笑他的傻气幻想，人们大多把他当疯子，不过这并不妨碍我们对他的欣赏。堂吉柯德骑着老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与天斗，与地斗，与人斗，其乐无穷，全然不理会身边的嘲笑，而是一步步向着自己心中的理想前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为高三最应该具备的，就是这种堂吉柯德式的精神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所谓堂吉柯德式的精神状态就是充满理想，充满激情，积极主动，信心百倍的状态。英文中有句谚语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great achievements were gained with enthusiasm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说，没有激情成不了大事。 这里的激情就是指对成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渴望，从内心里激发出来的对成功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5843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35841"/>
          <p:cNvSpPr/>
          <p:nvPr/>
        </p:nvSpPr>
        <p:spPr>
          <a:xfrm>
            <a:off x="0" y="765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同学才升入高三时雄心勃勃，也很有堂吉柯德式的感觉，但是没过多久就觉得身心疲惫，激情退却。其实这种所谓的激情，多数是被动的，主动调适的少，同学们感觉仿佛被绑在战车上，风驰电掣向前冲，惯性不得不使自己快速发生“位移”，所以学习起来缺乏兴奋点，新鲜刺激不够，疲沓困倦，心力交瘁，心里仿佛老是有个声音在喊：“考吧考吧，早考早解脱！”还有的患得患失，一次考试不错，似乎遍地阳光；要是哪次考砸，好像黑暗如磐。这些都不是高三应有的良好意识状态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36866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36865"/>
          <p:cNvSpPr/>
          <p:nvPr/>
        </p:nvSpPr>
        <p:spPr>
          <a:xfrm>
            <a:off x="0" y="260280"/>
            <a:ext cx="8891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强烈的成功动机主要靠内部激发。当你把高三与自己一生的使命相联系时，你会发现高三的每一天都有它确定的意义。所以，明确自己人生的大目标，对把握好高三这一年有直接的促进作用。认识到自己的责任与使命，并愿意为之付出努力，是内部激发成功动机的最直接的方式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通过何种方式激发自己的成功动机，有一点是明确的，即这种动机越早激发越好。因为它将引导自己的行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3075" descr="B~)TQVDQ{O)Z3U77S2I7}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4812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理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49155" descr="135b2e61bef97c4c0d33fa3a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有了目标，内心的力量才会找到方向。茫无目标的飘荡终归会迷路，而你心中那一座无价的金矿，也因不被开采而与平凡的尘土无异。”让我们共同携起手来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为了心中的同一个梦想而奋斗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让我们共同唱响明天会更好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6390" descr="2008052703461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21" name="矩形 16391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74072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9460" descr="韩国插画矢量素材 - 科技未来的幻想生活 - 未来生活向量图1"/>
          <p:cNvPicPr/>
          <p:nvPr/>
        </p:nvPicPr>
        <p:blipFill>
          <a:blip r:embed="rId1"/>
          <a:stretch/>
        </p:blipFill>
        <p:spPr>
          <a:xfrm>
            <a:off x="468360" y="189000"/>
            <a:ext cx="4174920" cy="36003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9462" descr="韩国插画矢量素材 - 科技未来的幻想生活 - 未来生活向量图20"/>
          <p:cNvPicPr/>
          <p:nvPr/>
        </p:nvPicPr>
        <p:blipFill>
          <a:blip r:embed="rId2"/>
          <a:stretch/>
        </p:blipFill>
        <p:spPr>
          <a:xfrm>
            <a:off x="5651640" y="189000"/>
            <a:ext cx="3184560" cy="35049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9464" descr="韩国插画矢量素材 - 科技未来的幻想生活 - 未来生活向量图27"/>
          <p:cNvPicPr/>
          <p:nvPr/>
        </p:nvPicPr>
        <p:blipFill>
          <a:blip r:embed="rId3"/>
          <a:stretch/>
        </p:blipFill>
        <p:spPr>
          <a:xfrm>
            <a:off x="1187280" y="620640"/>
            <a:ext cx="5505480" cy="57150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9466" descr="韩国插画矢量素材 - 科技未来的幻想生活29 - 未来生活韩国矢量AI图29"/>
          <p:cNvPicPr/>
          <p:nvPr/>
        </p:nvPicPr>
        <p:blipFill>
          <a:blip r:embed="rId4"/>
          <a:stretch/>
        </p:blipFill>
        <p:spPr>
          <a:xfrm>
            <a:off x="6804000" y="4653000"/>
            <a:ext cx="215424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1265" descr="m_1247047463590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527" name="我相信(8人和声编排版)-哈理工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1269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1270"/>
          <p:cNvSpPr/>
          <p:nvPr/>
        </p:nvSpPr>
        <p:spPr>
          <a:xfrm>
            <a:off x="62294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385663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20486" descr="韩国插画矢量素材 - 极精致AI图标电脑饮食暖色系列19 - 教育韩国矢量AI图19"/>
          <p:cNvPicPr/>
          <p:nvPr/>
        </p:nvPicPr>
        <p:blipFill>
          <a:blip r:embed="rId1"/>
          <a:stretch/>
        </p:blipFill>
        <p:spPr>
          <a:xfrm>
            <a:off x="2700360" y="220500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531" name="矩形 20487"/>
          <p:cNvSpPr txBox="1"/>
          <p:nvPr/>
        </p:nvSpPr>
        <p:spPr>
          <a:xfrm>
            <a:off x="154764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观赏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25604" descr="卡通形象--鸵鸟 - 卡通鸵鸟图片3"/>
          <p:cNvPicPr/>
          <p:nvPr/>
        </p:nvPicPr>
        <p:blipFill>
          <a:blip r:embed="rId1"/>
          <a:stretch/>
        </p:blipFill>
        <p:spPr>
          <a:xfrm>
            <a:off x="2333520" y="614520"/>
            <a:ext cx="447696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内容占位符 6145" descr="200745211940247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图片 7183" descr="韩国插画矢量素材 - 极精致AI图标电脑饮食暖色系列 - 文学向量图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矩形 7175"/>
          <p:cNvSpPr txBox="1"/>
          <p:nvPr/>
        </p:nvSpPr>
        <p:spPr>
          <a:xfrm>
            <a:off x="2700360" y="83664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很多同学都说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0" name="矩形 7176"/>
          <p:cNvSpPr txBox="1"/>
          <p:nvPr/>
        </p:nvSpPr>
        <p:spPr>
          <a:xfrm>
            <a:off x="1403280" y="4797360"/>
            <a:ext cx="633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什么叫痛苦，什么叫幸福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1" name="矩形 7180"/>
          <p:cNvSpPr txBox="1"/>
          <p:nvPr/>
        </p:nvSpPr>
        <p:spPr>
          <a:xfrm>
            <a:off x="611280" y="2852640"/>
            <a:ext cx="7657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痛苦  压抑  煎熬</a:t>
            </a:r>
            <a:endParaRPr b="1" lang="en-US" sz="8000" spc="-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3319" descr="CNDESK_6v821p0608012017"/>
          <p:cNvPicPr/>
          <p:nvPr/>
        </p:nvPicPr>
        <p:blipFill>
          <a:blip r:embed="rId1"/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矩形 13321"/>
          <p:cNvSpPr txBox="1"/>
          <p:nvPr/>
        </p:nvSpPr>
        <p:spPr>
          <a:xfrm>
            <a:off x="1619280" y="333360"/>
            <a:ext cx="55627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不经历残酷的高考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4" name="矩形 13322"/>
          <p:cNvSpPr txBox="1"/>
          <p:nvPr/>
        </p:nvSpPr>
        <p:spPr>
          <a:xfrm>
            <a:off x="1692360" y="1413000"/>
            <a:ext cx="54007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又如何去体会</a:t>
            </a:r>
            <a:endParaRPr b="1" lang="en-US" sz="5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5" name="矩形 13323"/>
          <p:cNvSpPr txBox="1"/>
          <p:nvPr/>
        </p:nvSpPr>
        <p:spPr>
          <a:xfrm>
            <a:off x="1143000" y="30481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真正的成功的喜悦！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15366" descr="2007124161542250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矩形 15361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5362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363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图片 17412" descr="20080527034545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471" name="矩形 17409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8201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矩形 8195" descr=""/>
          <p:cNvPicPr/>
          <p:nvPr/>
        </p:nvPicPr>
        <p:blipFill>
          <a:blip r:embed="rId3"/>
          <a:stretch/>
        </p:blipFill>
        <p:spPr>
          <a:xfrm>
            <a:off x="385920" y="3635280"/>
            <a:ext cx="8361360" cy="2492640"/>
          </a:xfrm>
          <a:prstGeom prst="rect">
            <a:avLst/>
          </a:prstGeom>
          <a:ln w="0">
            <a:noFill/>
          </a:ln>
        </p:spPr>
      </p:pic>
      <p:pic>
        <p:nvPicPr>
          <p:cNvPr id="475" name="矩形 8196" descr=""/>
          <p:cNvPicPr/>
          <p:nvPr/>
        </p:nvPicPr>
        <p:blipFill>
          <a:blip r:embed="rId4"/>
          <a:stretch/>
        </p:blipFill>
        <p:spPr>
          <a:xfrm>
            <a:off x="314280" y="755640"/>
            <a:ext cx="854064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5T14:33:26Z</dcterms:created>
  <dc:creator/>
  <dc:description/>
  <dc:language>en-US</dc:language>
  <cp:lastModifiedBy/>
  <dcterms:modified xsi:type="dcterms:W3CDTF">2020-03-25T14:33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</Properties>
</file>