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3960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-3960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-3960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-3960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3960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33956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9560"/>
            <a:ext cx="40158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31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22320" y="838080"/>
            <a:ext cx="9161640" cy="5784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图片2"/>
          <p:cNvPicPr/>
          <p:nvPr/>
        </p:nvPicPr>
        <p:blipFill>
          <a:blip r:embed="rId3"/>
          <a:stretch/>
        </p:blipFill>
        <p:spPr>
          <a:xfrm>
            <a:off x="-22320" y="6453360"/>
            <a:ext cx="9166320" cy="398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图片2"/>
          <p:cNvPicPr/>
          <p:nvPr/>
        </p:nvPicPr>
        <p:blipFill>
          <a:blip r:embed="rId4"/>
          <a:stretch/>
        </p:blipFill>
        <p:spPr>
          <a:xfrm>
            <a:off x="-22320" y="-28440"/>
            <a:ext cx="9166320" cy="86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WordArt 8" descr=""/>
          <p:cNvPicPr/>
          <p:nvPr/>
        </p:nvPicPr>
        <p:blipFill>
          <a:blip r:embed="rId5"/>
          <a:stretch/>
        </p:blipFill>
        <p:spPr>
          <a:xfrm>
            <a:off x="1521000" y="984240"/>
            <a:ext cx="6111720" cy="5416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图片3"/>
          <p:cNvPicPr/>
          <p:nvPr/>
        </p:nvPicPr>
        <p:blipFill>
          <a:blip r:embed="rId6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22320" y="838080"/>
            <a:ext cx="9161640" cy="578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3"/>
          <a:stretch/>
        </p:blipFill>
        <p:spPr>
          <a:xfrm>
            <a:off x="-22320" y="6453360"/>
            <a:ext cx="9166320" cy="39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图片2"/>
          <p:cNvPicPr/>
          <p:nvPr/>
        </p:nvPicPr>
        <p:blipFill>
          <a:blip r:embed="rId4"/>
          <a:stretch/>
        </p:blipFill>
        <p:spPr>
          <a:xfrm>
            <a:off x="-22320" y="-28440"/>
            <a:ext cx="9166320" cy="866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WordArt 8" descr=""/>
          <p:cNvPicPr/>
          <p:nvPr/>
        </p:nvPicPr>
        <p:blipFill>
          <a:blip r:embed="rId5"/>
          <a:stretch/>
        </p:blipFill>
        <p:spPr>
          <a:xfrm>
            <a:off x="1521000" y="984240"/>
            <a:ext cx="6111720" cy="541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图片3"/>
          <p:cNvPicPr/>
          <p:nvPr/>
        </p:nvPicPr>
        <p:blipFill>
          <a:blip r:embed="rId6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5219280" y="6381360"/>
            <a:ext cx="3600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22320" y="838080"/>
            <a:ext cx="9161640" cy="578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图片2"/>
          <p:cNvPicPr/>
          <p:nvPr/>
        </p:nvPicPr>
        <p:blipFill>
          <a:blip r:embed="rId3"/>
          <a:stretch/>
        </p:blipFill>
        <p:spPr>
          <a:xfrm>
            <a:off x="-22320" y="6453360"/>
            <a:ext cx="9166320" cy="39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图片2"/>
          <p:cNvPicPr/>
          <p:nvPr/>
        </p:nvPicPr>
        <p:blipFill>
          <a:blip r:embed="rId4"/>
          <a:stretch/>
        </p:blipFill>
        <p:spPr>
          <a:xfrm>
            <a:off x="-22320" y="-28440"/>
            <a:ext cx="916632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WordArt 8" descr=""/>
          <p:cNvPicPr/>
          <p:nvPr/>
        </p:nvPicPr>
        <p:blipFill>
          <a:blip r:embed="rId5"/>
          <a:stretch/>
        </p:blipFill>
        <p:spPr>
          <a:xfrm>
            <a:off x="1521000" y="984240"/>
            <a:ext cx="6111720" cy="541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图片3"/>
          <p:cNvPicPr/>
          <p:nvPr/>
        </p:nvPicPr>
        <p:blipFill>
          <a:blip r:embed="rId6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4"/>
          </p:nvPr>
        </p:nvSpPr>
        <p:spPr>
          <a:xfrm>
            <a:off x="5219280" y="6381360"/>
            <a:ext cx="3600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22320" y="838080"/>
            <a:ext cx="9161640" cy="5784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图片2"/>
          <p:cNvPicPr/>
          <p:nvPr/>
        </p:nvPicPr>
        <p:blipFill>
          <a:blip r:embed="rId3"/>
          <a:stretch/>
        </p:blipFill>
        <p:spPr>
          <a:xfrm>
            <a:off x="-22320" y="6453360"/>
            <a:ext cx="9166320" cy="398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图片2"/>
          <p:cNvPicPr/>
          <p:nvPr/>
        </p:nvPicPr>
        <p:blipFill>
          <a:blip r:embed="rId4"/>
          <a:stretch/>
        </p:blipFill>
        <p:spPr>
          <a:xfrm>
            <a:off x="-22320" y="-28440"/>
            <a:ext cx="9166320" cy="866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WordArt 8" descr=""/>
          <p:cNvPicPr/>
          <p:nvPr/>
        </p:nvPicPr>
        <p:blipFill>
          <a:blip r:embed="rId5"/>
          <a:stretch/>
        </p:blipFill>
        <p:spPr>
          <a:xfrm>
            <a:off x="1521000" y="984240"/>
            <a:ext cx="6111720" cy="541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图片3"/>
          <p:cNvPicPr/>
          <p:nvPr/>
        </p:nvPicPr>
        <p:blipFill>
          <a:blip r:embed="rId6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6"/>
          </p:nvPr>
        </p:nvSpPr>
        <p:spPr>
          <a:xfrm>
            <a:off x="5219280" y="6381360"/>
            <a:ext cx="3600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未命名_副本"/>
          <p:cNvPicPr/>
          <p:nvPr/>
        </p:nvPicPr>
        <p:blipFill>
          <a:blip r:embed="rId2"/>
          <a:srcRect l="1406" t="12911" r="2876" b="10757"/>
          <a:stretch/>
        </p:blipFill>
        <p:spPr>
          <a:xfrm>
            <a:off x="-22320" y="838080"/>
            <a:ext cx="9161640" cy="5784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图片2"/>
          <p:cNvPicPr/>
          <p:nvPr/>
        </p:nvPicPr>
        <p:blipFill>
          <a:blip r:embed="rId3"/>
          <a:stretch/>
        </p:blipFill>
        <p:spPr>
          <a:xfrm>
            <a:off x="-22320" y="6453360"/>
            <a:ext cx="9166320" cy="398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图片2"/>
          <p:cNvPicPr/>
          <p:nvPr/>
        </p:nvPicPr>
        <p:blipFill>
          <a:blip r:embed="rId4"/>
          <a:stretch/>
        </p:blipFill>
        <p:spPr>
          <a:xfrm>
            <a:off x="-22320" y="-28440"/>
            <a:ext cx="9166320" cy="866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5510160" y="64548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 Introduction to Databas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WordArt 8" descr=""/>
          <p:cNvPicPr/>
          <p:nvPr/>
        </p:nvPicPr>
        <p:blipFill>
          <a:blip r:embed="rId5"/>
          <a:stretch/>
        </p:blipFill>
        <p:spPr>
          <a:xfrm>
            <a:off x="1521000" y="984240"/>
            <a:ext cx="6111720" cy="5416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图片3"/>
          <p:cNvPicPr/>
          <p:nvPr/>
        </p:nvPicPr>
        <p:blipFill>
          <a:blip r:embed="rId6"/>
          <a:stretch/>
        </p:blipFill>
        <p:spPr>
          <a:xfrm>
            <a:off x="7516800" y="4797360"/>
            <a:ext cx="1528920" cy="2198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5219280" y="6381360"/>
            <a:ext cx="3600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324000" y="907920"/>
            <a:ext cx="8208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数据库系统概论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Databas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836720" y="5805360"/>
            <a:ext cx="525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中国人民大学信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1371600" y="3933720"/>
            <a:ext cx="658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章 关系数据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笛卡尔积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数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nal numb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为有限集，其基数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…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基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笛卡尔积的表示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笛卡尔积可表示为一张二维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中的每行对应一个元组，表中的每列对应一个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Object 4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19098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除运算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1280" y="1267920"/>
            <a:ext cx="813744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给定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(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) 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(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)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，其中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为属性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可以有不同的属性名，但必须出自相同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域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的除运算得到一个新的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1" i="1" lang="zh-CN" sz="2400" spc="-1" strike="noStrike">
                <a:solidFill>
                  <a:srgbClr val="009999"/>
                </a:solidFill>
                <a:latin typeface="Arial Unicode MS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中满足下列条件的元组在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属性列上的投影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元组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上分量值</a:t>
            </a: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的象集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包含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上投影的集合，记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∧π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</a:rPr>
              <a:t>中的象集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除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操作是同时从行和列角度进行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3"/>
          <p:cNvGrpSpPr/>
          <p:nvPr/>
        </p:nvGrpSpPr>
        <p:grpSpPr>
          <a:xfrm>
            <a:off x="2700360" y="2492280"/>
            <a:ext cx="3809880" cy="2210040"/>
            <a:chOff x="2700360" y="2492280"/>
            <a:chExt cx="3809880" cy="2210040"/>
          </a:xfrm>
        </p:grpSpPr>
        <p:grpSp>
          <p:nvGrpSpPr>
            <p:cNvPr id="594" name="Group 20"/>
            <p:cNvGrpSpPr/>
            <p:nvPr/>
          </p:nvGrpSpPr>
          <p:grpSpPr>
            <a:xfrm>
              <a:off x="3233880" y="2644920"/>
              <a:ext cx="1447560" cy="1218960"/>
              <a:chOff x="3233880" y="2644920"/>
              <a:chExt cx="1447560" cy="1218960"/>
            </a:xfrm>
          </p:grpSpPr>
          <p:sp>
            <p:nvSpPr>
              <p:cNvPr id="595" name="Rectangle 21"/>
              <p:cNvSpPr/>
              <p:nvPr/>
            </p:nvSpPr>
            <p:spPr>
              <a:xfrm>
                <a:off x="3233880" y="2644920"/>
                <a:ext cx="144756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22"/>
              <p:cNvSpPr/>
              <p:nvPr/>
            </p:nvSpPr>
            <p:spPr>
              <a:xfrm>
                <a:off x="3233880" y="2797200"/>
                <a:ext cx="144756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23"/>
              <p:cNvSpPr/>
              <p:nvPr/>
            </p:nvSpPr>
            <p:spPr>
              <a:xfrm>
                <a:off x="3233880" y="2949480"/>
                <a:ext cx="14475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24"/>
              <p:cNvSpPr/>
              <p:nvPr/>
            </p:nvSpPr>
            <p:spPr>
              <a:xfrm>
                <a:off x="3233880" y="3711600"/>
                <a:ext cx="144756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25"/>
              <p:cNvSpPr/>
              <p:nvPr/>
            </p:nvSpPr>
            <p:spPr>
              <a:xfrm>
                <a:off x="3233880" y="3102120"/>
                <a:ext cx="144756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26"/>
              <p:cNvSpPr/>
              <p:nvPr/>
            </p:nvSpPr>
            <p:spPr>
              <a:xfrm>
                <a:off x="3233880" y="3254400"/>
                <a:ext cx="144756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27"/>
              <p:cNvSpPr/>
              <p:nvPr/>
            </p:nvSpPr>
            <p:spPr>
              <a:xfrm>
                <a:off x="3233880" y="3406680"/>
                <a:ext cx="14475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8"/>
              <p:cNvSpPr/>
              <p:nvPr/>
            </p:nvSpPr>
            <p:spPr>
              <a:xfrm>
                <a:off x="3233880" y="3559320"/>
                <a:ext cx="1447560" cy="152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AutoShape 29"/>
            <p:cNvSpPr/>
            <p:nvPr/>
          </p:nvSpPr>
          <p:spPr>
            <a:xfrm rot="2235000">
              <a:off x="4833720" y="3711240"/>
              <a:ext cx="761760" cy="228600"/>
            </a:xfrm>
            <a:prstGeom prst="rightArrow">
              <a:avLst>
                <a:gd name="adj1" fmla="val 50000"/>
                <a:gd name="adj2" fmla="val 832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0"/>
            <p:cNvSpPr/>
            <p:nvPr/>
          </p:nvSpPr>
          <p:spPr>
            <a:xfrm>
              <a:off x="3843360" y="4245120"/>
              <a:ext cx="8380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1"/>
            <p:cNvSpPr/>
            <p:nvPr/>
          </p:nvSpPr>
          <p:spPr>
            <a:xfrm>
              <a:off x="3843360" y="4549680"/>
              <a:ext cx="8380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32"/>
            <p:cNvSpPr/>
            <p:nvPr/>
          </p:nvSpPr>
          <p:spPr>
            <a:xfrm>
              <a:off x="3843360" y="4397400"/>
              <a:ext cx="8380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33"/>
            <p:cNvSpPr/>
            <p:nvPr/>
          </p:nvSpPr>
          <p:spPr>
            <a:xfrm>
              <a:off x="4605480" y="3711600"/>
              <a:ext cx="914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34"/>
            <p:cNvSpPr/>
            <p:nvPr/>
          </p:nvSpPr>
          <p:spPr>
            <a:xfrm rot="19767000">
              <a:off x="4928760" y="4314960"/>
              <a:ext cx="609840" cy="228600"/>
            </a:xfrm>
            <a:prstGeom prst="rightArrow">
              <a:avLst>
                <a:gd name="adj1" fmla="val 50000"/>
                <a:gd name="adj2" fmla="val 666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5"/>
            <p:cNvSpPr/>
            <p:nvPr/>
          </p:nvSpPr>
          <p:spPr>
            <a:xfrm>
              <a:off x="5900760" y="4092480"/>
              <a:ext cx="609480" cy="152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6"/>
            <p:cNvSpPr/>
            <p:nvPr/>
          </p:nvSpPr>
          <p:spPr>
            <a:xfrm>
              <a:off x="5900760" y="3940200"/>
              <a:ext cx="609480" cy="15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7"/>
            <p:cNvSpPr/>
            <p:nvPr/>
          </p:nvSpPr>
          <p:spPr>
            <a:xfrm>
              <a:off x="3233880" y="2492280"/>
              <a:ext cx="144756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38"/>
            <p:cNvSpPr/>
            <p:nvPr/>
          </p:nvSpPr>
          <p:spPr>
            <a:xfrm>
              <a:off x="2700360" y="256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39"/>
            <p:cNvSpPr/>
            <p:nvPr/>
          </p:nvSpPr>
          <p:spPr>
            <a:xfrm>
              <a:off x="3233880" y="4245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0"/>
            <p:cNvSpPr/>
            <p:nvPr/>
          </p:nvSpPr>
          <p:spPr>
            <a:xfrm>
              <a:off x="3843360" y="2492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1"/>
            <p:cNvSpPr/>
            <p:nvPr/>
          </p:nvSpPr>
          <p:spPr>
            <a:xfrm>
              <a:off x="4376880" y="4245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2"/>
            <p:cNvSpPr/>
            <p:nvPr/>
          </p:nvSpPr>
          <p:spPr>
            <a:xfrm>
              <a:off x="4376880" y="2492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除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32"/>
          <p:cNvSpPr/>
          <p:nvPr/>
        </p:nvSpPr>
        <p:spPr>
          <a:xfrm>
            <a:off x="539640" y="11304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9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为下图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结果为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960480" y="2624040"/>
          <a:ext cx="3035160" cy="3413160"/>
        </p:xfrm>
        <a:graphic>
          <a:graphicData uri="http://schemas.openxmlformats.org/drawingml/2006/table">
            <a:tbl>
              <a:tblPr/>
              <a:tblGrid>
                <a:gridCol w="1011240"/>
                <a:gridCol w="1012680"/>
                <a:gridCol w="10112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4859280" y="2693880"/>
          <a:ext cx="2112840" cy="1706400"/>
        </p:xfrm>
        <a:graphic>
          <a:graphicData uri="http://schemas.openxmlformats.org/drawingml/2006/table">
            <a:tbl>
              <a:tblPr/>
              <a:tblGrid>
                <a:gridCol w="704880"/>
                <a:gridCol w="703080"/>
                <a:gridCol w="70488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sp>
        <p:nvSpPr>
          <p:cNvPr id="621" name="TextBox 7"/>
          <p:cNvSpPr/>
          <p:nvPr/>
        </p:nvSpPr>
        <p:spPr>
          <a:xfrm>
            <a:off x="944640" y="2133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0"/>
          <p:cNvSpPr/>
          <p:nvPr/>
        </p:nvSpPr>
        <p:spPr>
          <a:xfrm>
            <a:off x="5105520" y="4437000"/>
            <a:ext cx="72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÷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0"/>
          <p:cNvSpPr/>
          <p:nvPr/>
        </p:nvSpPr>
        <p:spPr>
          <a:xfrm>
            <a:off x="5230080" y="227016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5019840" y="4903920"/>
          <a:ext cx="704520" cy="853920"/>
        </p:xfrm>
        <a:graphic>
          <a:graphicData uri="http://schemas.openxmlformats.org/drawingml/2006/table">
            <a:tbl>
              <a:tblPr/>
              <a:tblGrid>
                <a:gridCol w="70452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除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55640" y="1098360"/>
            <a:ext cx="79884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取四个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4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52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象集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52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象集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52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象集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52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象集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投影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(b1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2)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b2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1)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b2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3)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象集包含了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性组上的投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综合举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0983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学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数据库为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至少选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课程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课程的学生号码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建立一个临时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后求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no,C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C)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975200" y="2500200"/>
          <a:ext cx="1066680" cy="137160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综合举例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752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10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no,C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151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2151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{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是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no,C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C)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201215121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076720" y="1341360"/>
          <a:ext cx="3322800" cy="3976560"/>
        </p:xfrm>
        <a:graphic>
          <a:graphicData uri="http://schemas.openxmlformats.org/drawingml/2006/table">
            <a:tbl>
              <a:tblPr/>
              <a:tblGrid>
                <a:gridCol w="1662120"/>
                <a:gridCol w="166068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综合举例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68000" y="1196640"/>
            <a:ext cx="84963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2.1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查询选修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号课程的学生的学号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σ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Cno=‘2’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C))={201215121,201215122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2.1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查询至少选修了一门其直接先行课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号课程的学生姓名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a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σ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Cpno=‘5’</a:t>
            </a:r>
            <a:r>
              <a:rPr b="1" lang="en-US" sz="2200" spc="-1" strike="noStrike">
                <a:solidFill>
                  <a:srgbClr val="e02920"/>
                </a:solidFill>
                <a:latin typeface="Arial"/>
              </a:rPr>
              <a:t>(Course    SC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o,Snam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tudent)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或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am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o </a:t>
            </a:r>
            <a:r>
              <a:rPr b="1" lang="en-US" sz="2200" spc="-1" strike="noStrike">
                <a:solidFill>
                  <a:srgbClr val="e02920"/>
                </a:solidFill>
                <a:latin typeface="Arial"/>
              </a:rPr>
              <a:t>(σ</a:t>
            </a:r>
            <a:r>
              <a:rPr b="1" lang="en-US" sz="2200" spc="-1" strike="noStrike" baseline="-30000">
                <a:solidFill>
                  <a:srgbClr val="e02920"/>
                </a:solidFill>
                <a:latin typeface="Arial"/>
              </a:rPr>
              <a:t>Cpno='5' </a:t>
            </a:r>
            <a:r>
              <a:rPr b="1" lang="en-US" sz="2200" spc="-1" strike="noStrike">
                <a:solidFill>
                  <a:srgbClr val="e02920"/>
                </a:solidFill>
                <a:latin typeface="Arial"/>
              </a:rPr>
              <a:t>(Course)   SC)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o,Snam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tudent)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2.1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查询选修了全部课程的学生号码和姓名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o,C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C)÷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C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urse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no,Sna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tudent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3635280" y="2442240"/>
            <a:ext cx="990720" cy="914400"/>
            <a:chOff x="3635280" y="2442240"/>
            <a:chExt cx="990720" cy="914400"/>
          </a:xfrm>
        </p:grpSpPr>
        <p:sp>
          <p:nvSpPr>
            <p:cNvPr id="636" name="AutoShape 5"/>
            <p:cNvSpPr/>
            <p:nvPr/>
          </p:nvSpPr>
          <p:spPr>
            <a:xfrm flipV="1" rot="16200000">
              <a:off x="3965760" y="3159360"/>
              <a:ext cx="194040" cy="19944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6"/>
            <p:cNvSpPr/>
            <p:nvPr/>
          </p:nvSpPr>
          <p:spPr>
            <a:xfrm flipV="1" rot="10800000">
              <a:off x="3635280" y="2442240"/>
              <a:ext cx="99072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4157640" y="2493000"/>
            <a:ext cx="990720" cy="904680"/>
            <a:chOff x="4157640" y="2493000"/>
            <a:chExt cx="990720" cy="904680"/>
          </a:xfrm>
        </p:grpSpPr>
        <p:sp>
          <p:nvSpPr>
            <p:cNvPr id="639" name="AutoShape 8"/>
            <p:cNvSpPr/>
            <p:nvPr/>
          </p:nvSpPr>
          <p:spPr>
            <a:xfrm flipV="1" rot="16200000">
              <a:off x="4608720" y="3138480"/>
              <a:ext cx="194400" cy="19944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9"/>
            <p:cNvSpPr/>
            <p:nvPr/>
          </p:nvSpPr>
          <p:spPr>
            <a:xfrm flipV="1" rot="10800000">
              <a:off x="4157640" y="2492640"/>
              <a:ext cx="99072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7"/>
          <p:cNvGrpSpPr/>
          <p:nvPr/>
        </p:nvGrpSpPr>
        <p:grpSpPr>
          <a:xfrm>
            <a:off x="4427280" y="3645000"/>
            <a:ext cx="990360" cy="902880"/>
            <a:chOff x="4427280" y="3645000"/>
            <a:chExt cx="990360" cy="902880"/>
          </a:xfrm>
        </p:grpSpPr>
        <p:sp>
          <p:nvSpPr>
            <p:cNvPr id="642" name="AutoShape 8"/>
            <p:cNvSpPr/>
            <p:nvPr/>
          </p:nvSpPr>
          <p:spPr>
            <a:xfrm flipV="1" rot="16200000">
              <a:off x="4878360" y="4289400"/>
              <a:ext cx="193680" cy="19908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 flipV="1" rot="10800000">
              <a:off x="4427280" y="3645000"/>
              <a:ext cx="99036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7"/>
          <p:cNvGrpSpPr/>
          <p:nvPr/>
        </p:nvGrpSpPr>
        <p:grpSpPr>
          <a:xfrm>
            <a:off x="5165640" y="3645000"/>
            <a:ext cx="990720" cy="904320"/>
            <a:chOff x="5165640" y="3645000"/>
            <a:chExt cx="990720" cy="904320"/>
          </a:xfrm>
        </p:grpSpPr>
        <p:sp>
          <p:nvSpPr>
            <p:cNvPr id="645" name="AutoShape 8"/>
            <p:cNvSpPr/>
            <p:nvPr/>
          </p:nvSpPr>
          <p:spPr>
            <a:xfrm flipV="1" rot="16200000">
              <a:off x="5616720" y="4290840"/>
              <a:ext cx="194040" cy="19944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9"/>
            <p:cNvSpPr/>
            <p:nvPr/>
          </p:nvSpPr>
          <p:spPr>
            <a:xfrm flipV="1" rot="10800000">
              <a:off x="5165640" y="3645000"/>
              <a:ext cx="99072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Rectangle 3"/>
          <p:cNvSpPr/>
          <p:nvPr/>
        </p:nvSpPr>
        <p:spPr>
          <a:xfrm>
            <a:off x="539640" y="4205160"/>
            <a:ext cx="8425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3779640" y="4798080"/>
            <a:ext cx="990360" cy="904680"/>
            <a:chOff x="3779640" y="4798080"/>
            <a:chExt cx="990360" cy="904680"/>
          </a:xfrm>
        </p:grpSpPr>
        <p:sp>
          <p:nvSpPr>
            <p:cNvPr id="649" name="AutoShape 8"/>
            <p:cNvSpPr/>
            <p:nvPr/>
          </p:nvSpPr>
          <p:spPr>
            <a:xfrm flipV="1" rot="16200000">
              <a:off x="4230360" y="5443560"/>
              <a:ext cx="194400" cy="19908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9"/>
            <p:cNvSpPr/>
            <p:nvPr/>
          </p:nvSpPr>
          <p:spPr>
            <a:xfrm flipV="1" rot="10800000">
              <a:off x="3779640" y="4797720"/>
              <a:ext cx="99036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结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代数运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并、差、交、笛卡尔积、投影、选择、连接、除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运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并、差、笛卡尔积、投影、选择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、连接、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可以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种基本运算来表达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引进它们并不增加语言的能力，但可以简化表达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结（续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表达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代数运算经有限次复合后形成的式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典型关系代数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System Base Languag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BM United Kingdo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研究中心研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用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TV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erlee Relational Test Vehicl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实验系统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二章 关系数据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型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 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演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.6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笛卡尔积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1413000"/>
            <a:ext cx="82296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给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导师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VISOR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｛张清玫，刘逸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2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专业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TY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｛计算机专业，信息专业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3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究生集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GRADUATE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｛李勇，刘晨，王敏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笛卡尔积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6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系统是目前使用最广泛的数据库系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系统与非关系数据库系统的区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系统只有“表”这一种数据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关系数据库系统还有其他数据结构，以及对这些数据结构的操作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结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098720"/>
            <a:ext cx="77724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域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笛卡尔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关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关系，属性，元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候选码，主码，主属性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基本关系的性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模型的存储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结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选择、投影、连接、除、并、交、差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更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插入、删除、修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结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的完整性约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体完整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照完整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外码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定义的完整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结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代数语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演算语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元组关系演算语言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域关系演算语言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笛卡尔积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矩形 4"/>
          <p:cNvSpPr/>
          <p:nvPr/>
        </p:nvSpPr>
        <p:spPr>
          <a:xfrm>
            <a:off x="468360" y="1197000"/>
            <a:ext cx="82090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张清玫，计算机专业，李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张清玫，计算机专业，刘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张清玫，计算机专业，王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张清玫，信息专业，李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张清玫，信息专业，刘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张清玫，信息专业，王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刘逸，计算机专业，李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刘逸，计算机专业，刘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刘逸，计算机专业，王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刘逸，信息专业，李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刘逸，信息专业，刘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刘逸，信息专业，王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Object 3" descr=""/>
          <p:cNvPicPr/>
          <p:nvPr/>
        </p:nvPicPr>
        <p:blipFill>
          <a:blip r:embed="rId1"/>
          <a:stretch/>
        </p:blipFill>
        <p:spPr>
          <a:xfrm>
            <a:off x="552600" y="590400"/>
            <a:ext cx="7462800" cy="6151680"/>
          </a:xfrm>
          <a:prstGeom prst="rect">
            <a:avLst/>
          </a:prstGeom>
          <a:ln w="0">
            <a:noFill/>
          </a:ln>
        </p:spPr>
      </p:pic>
      <p:sp>
        <p:nvSpPr>
          <p:cNvPr id="259" name="标题 1"/>
          <p:cNvSpPr/>
          <p:nvPr/>
        </p:nvSpPr>
        <p:spPr>
          <a:xfrm>
            <a:off x="91440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笛卡尔积（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…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子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作在域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表示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9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098720"/>
            <a:ext cx="83581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中的每个元素是关系中的元组，通常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元关系与二元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称该关系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ry rel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称该关系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rel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098360"/>
            <a:ext cx="822960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的表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也是一个二维表，表的每行对应一个元组，表的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对应一个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中不同列可以对应相同的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加以区分，必须对每列起一个名字，称为属性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必有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属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983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候选码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didate ke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若关系中的某一属性组的值能唯一地标识一个元组，则称该属性组为候选码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简单的情况：候选码只包含一个属性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码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-ke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最极端的情况：关系模式的所有属性组是这个关系模式的候选码，称为全码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-ke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560" y="1098720"/>
            <a:ext cx="878508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码（续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若一个关系有多个候选码，则选定其中一个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主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属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候选码的诸属性称为主属性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me attribut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不包含在任何侯选码中的属性称为非主属性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n-Prime attribut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或非码属性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n-key attribut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4000" y="1098360"/>
            <a:ext cx="84960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笛卡尔积的某个子集才有实际含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例：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笛卡尔积没有实际意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取出有实际意义的元组来构造关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关系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(SUPERVISO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IT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STGRADUA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假设：导师与专业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: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   导师与研究生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主码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GRADUAT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假设研究生不会重名）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187280" y="4249800"/>
          <a:ext cx="6408720" cy="1482840"/>
        </p:xfrm>
        <a:graphic>
          <a:graphicData uri="http://schemas.openxmlformats.org/drawingml/2006/table">
            <a:tbl>
              <a:tblPr/>
              <a:tblGrid>
                <a:gridCol w="2212920"/>
                <a:gridCol w="2098800"/>
                <a:gridCol w="2097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GRADU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清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算机专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清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算机专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信息专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库简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52280"/>
            <a:ext cx="86868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出关系模型的是美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F.Co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提出关系数据模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F.Codd, “A Relational Model of Data for Lar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Data Banks”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of t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19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后，提出了关系代数和关系演算的概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提出了关系的第一、第二、第三范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提出了关系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范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0983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类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基本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基本表或基表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际存在的表，是实际存储数据的逻辑表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查询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结果对应的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视图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基本表或其他视图表导出的表，是虚表，不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实际存储的数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63480" y="10983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关系的性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是同质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geneou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同的列可出自同一个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其中的每一列称为一个属性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不同的属性要给予不同的属性名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的顺序无所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列的次序可以任意交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意两个元组的候选码不能相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的顺序无所谓，行的次序可以任意交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基本关系的性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34136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量必须取原子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规范条件中最基本的一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非规范化关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03280" y="3573360"/>
          <a:ext cx="6319800" cy="1482840"/>
        </p:xfrm>
        <a:graphic>
          <a:graphicData uri="http://schemas.openxmlformats.org/drawingml/2006/table">
            <a:tbl>
              <a:tblPr/>
              <a:tblGrid>
                <a:gridCol w="1679400"/>
                <a:gridCol w="1592280"/>
                <a:gridCol w="1524240"/>
                <a:gridCol w="152388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GRADU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清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算机专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信息专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cxnSp>
        <p:nvCxnSpPr>
          <p:cNvPr id="280" name="直接箭头连接符 8"/>
          <p:cNvCxnSpPr/>
          <p:nvPr/>
        </p:nvCxnSpPr>
        <p:spPr>
          <a:xfrm flipH="1" flipV="1">
            <a:off x="7667280" y="4796640"/>
            <a:ext cx="792720" cy="36108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1" name="TextBox 9"/>
          <p:cNvSpPr/>
          <p:nvPr/>
        </p:nvSpPr>
        <p:spPr>
          <a:xfrm>
            <a:off x="7956720" y="5084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结构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18960" y="1341360"/>
            <a:ext cx="652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1.2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关系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4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型的存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.2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模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什么是关系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定义关系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与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什么是关系模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10920" y="1267920"/>
            <a:ext cx="8204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 Schem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是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是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是对关系的描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组集合的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属性构成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属性来自的域  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属性与域之间的映象关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整性约束条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定义关系模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可以形式化地表示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10f"/>
                </a:solidFill>
                <a:latin typeface="Arial"/>
              </a:rPr>
              <a:t>    </a:t>
            </a:r>
            <a:r>
              <a:rPr b="1" i="1" lang="zh-CN" sz="2800" spc="-1" strike="noStrike">
                <a:solidFill>
                  <a:srgbClr val="79710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79710f"/>
                </a:solidFill>
                <a:latin typeface="Arial"/>
              </a:rPr>
              <a:t>R</a:t>
            </a:r>
            <a:r>
              <a:rPr b="1" i="1" lang="zh-CN" sz="2800" spc="-1" strike="noStrike">
                <a:solidFill>
                  <a:srgbClr val="79710f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79710f"/>
                </a:solidFill>
                <a:latin typeface="Arial"/>
              </a:rPr>
              <a:t>U</a:t>
            </a:r>
            <a:r>
              <a:rPr b="1" i="1" lang="zh-CN" sz="2800" spc="-1" strike="noStrike">
                <a:solidFill>
                  <a:srgbClr val="79710f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79710f"/>
                </a:solidFill>
                <a:latin typeface="Arial"/>
              </a:rPr>
              <a:t>D</a:t>
            </a:r>
            <a:r>
              <a:rPr b="1" i="1" lang="zh-CN" sz="2800" spc="-1" strike="noStrike">
                <a:solidFill>
                  <a:srgbClr val="79710f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79710f"/>
                </a:solidFill>
                <a:latin typeface="Arial"/>
              </a:rPr>
              <a:t>DOM</a:t>
            </a:r>
            <a:r>
              <a:rPr b="1" i="1" lang="zh-CN" sz="2800" spc="-1" strike="noStrike">
                <a:solidFill>
                  <a:srgbClr val="79710f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79710f"/>
                </a:solidFill>
                <a:latin typeface="Arial"/>
              </a:rPr>
              <a:t>F</a:t>
            </a:r>
            <a:r>
              <a:rPr b="1" i="1" lang="zh-CN" sz="2800" spc="-1" strike="noStrike">
                <a:solidFill>
                  <a:srgbClr val="79710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成该关系的属性名集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属性所来自的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性向域的映象集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性间数据的依赖关系的集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定义关系模式 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11280" y="1267920"/>
            <a:ext cx="8277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导师和研究生出自同一个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不同的属性名，并在模式中定义属性向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映象，即说明它们分别出自哪个域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VISOR-PERS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D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GRADUATE-PERS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定义关系模式 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通常可以简记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 (U)  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或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 (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性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：域名及属性向域的映象常常直接说明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性的类型、长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模式与关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0987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关系的描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态的、稳定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模式在某一时刻的状态或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的、随时间不断变化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模式和关系往往笼统称为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上下文加以区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二章 关系数据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.1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关系数据结构及形式化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 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演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结构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15640" y="1098720"/>
            <a:ext cx="672948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1.3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关系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4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型的存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4360" y="1341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个给定的应用领域中，所有关系的集合构成一个关系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的型与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数据库的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数据库模式，是对关系数据库的描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数据库的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模式在某一时刻对应的关系的集合，通常称为关系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结构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15640" y="1341360"/>
            <a:ext cx="6729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1.4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关系模型的存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.4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模型的存储结构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的物理组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的关系数据库管理系统中一个表对应一个操作系统文件，将物理数据组织交给操作系统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的关系数据库管理系统从操作系统那里申请若干个大的文件，自己划分文件空间，组织表、索引等存储结构，并进行存储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二章 关系数据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型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.2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关系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 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演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1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基本的关系操作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197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的关系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操作：选择、投影、连接、除、并、差、交、笛卡尔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选择、投影、并、差、笛卡尔基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种基本操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更新：插入、删除、修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操作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合操作方式：操作的对象和结果都是集合，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一次一集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2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库语言的分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代数语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用对关系的运算来表达查询要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代表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B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演算语言：用谓词来表达查询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元组关系演算语言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谓词变元的基本对象是元组变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代表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LHA, QU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域关系演算语言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谓词变元的基本对象是域变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代表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关系代数和关系演算双重特点的语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代表：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ctured Query Languag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二章 关系数据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结构及形式化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.3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关系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 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演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的三类完整性约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4000" y="1098360"/>
            <a:ext cx="820404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体完整性和参照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模型必须满足的完整性约束条件称为关系的两个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不变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应该由关系系统自动支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定义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领域需要遵循的约束条件，体现了具体领域中的语义约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的完整性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94920" y="167652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3.1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实体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照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定义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数据结构及形式化定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640" y="1098720"/>
            <a:ext cx="7570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1.1  </a:t>
            </a:r>
            <a:r>
              <a:rPr b="1" lang="zh-CN" sz="2800" spc="-1" strike="noStrike">
                <a:solidFill>
                  <a:srgbClr val="00b050"/>
                </a:solidFill>
                <a:latin typeface="宋体"/>
              </a:rPr>
              <a:t>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4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型的存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3.1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实体完整性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规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体完整性规则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tity Integrit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属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主属性，则属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取空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值就是“不知道”或“不存在”或“无意义”的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修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学号，课程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号、课程号”为主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号”和“课程号”两个属性都不能取空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实体完整性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55280" y="1098720"/>
            <a:ext cx="80074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体完整性规则的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实体完整性规则是针对基本关系而言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基本表通常对应现实世界的一个实体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现实世界中的实体是可区分的，即它们具有某种唯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性标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关系模型中以主码作为唯一性标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主码中的属性即主属性不能取空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属性取空值，就说明存在某个不可标识的实体，即存在不可区分的实体，这与第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点相矛盾，因此这个规则称为实体完整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的完整性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116000" y="1413000"/>
            <a:ext cx="644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体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3.2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参照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定义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3.2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照完整性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15640" y="169992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间的引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照完整性规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间的引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1280" y="1219320"/>
            <a:ext cx="831672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关系模型中实体及实体间的联系都是用关系来描述的，自然存在着关系与关系间的引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]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实体、专业实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学生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学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姓名，性别，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专业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年龄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专业（</a:t>
            </a: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</a:rPr>
              <a:t>专业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专业名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611280" y="489888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关系引用了专业关系的主码“专业号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关系中的“专业号”值必须是确实存在的专业的专业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形标注 8"/>
          <p:cNvSpPr/>
          <p:nvPr/>
        </p:nvSpPr>
        <p:spPr>
          <a:xfrm>
            <a:off x="5003640" y="4329000"/>
            <a:ext cx="1212840" cy="612720"/>
          </a:xfrm>
          <a:prstGeom prst="wedgeEllipseCallout">
            <a:avLst>
              <a:gd name="adj1" fmla="val -209504"/>
              <a:gd name="adj2" fmla="val -48333"/>
            </a:avLst>
          </a:prstGeom>
          <a:gradFill rotWithShape="0">
            <a:gsLst>
              <a:gs pos="0">
                <a:srgbClr val="ffffff"/>
              </a:gs>
              <a:gs pos="100000">
                <a:srgbClr val="bbbbbb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主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形标注 7"/>
          <p:cNvSpPr/>
          <p:nvPr/>
        </p:nvSpPr>
        <p:spPr>
          <a:xfrm>
            <a:off x="154080" y="2708280"/>
            <a:ext cx="914400" cy="612720"/>
          </a:xfrm>
          <a:prstGeom prst="wedgeEllipseCallout">
            <a:avLst>
              <a:gd name="adj1" fmla="val 174754"/>
              <a:gd name="adj2" fmla="val 60305"/>
            </a:avLst>
          </a:prstGeom>
          <a:solidFill>
            <a:srgbClr val="cfdef3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主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间的引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、课程、学生与课程之间的多对多联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（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学号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姓名，性别，专业号，年龄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（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Arial"/>
              </a:rPr>
              <a:t>课程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课程名，学分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修（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Arial"/>
              </a:rPr>
              <a:t>课程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间的引用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[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实体及其内部的一对多联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学生（</a:t>
            </a:r>
            <a:r>
              <a:rPr b="1" lang="zh-CN" sz="2200" spc="-1" strike="noStrike" u="sng">
                <a:solidFill>
                  <a:srgbClr val="3333ff"/>
                </a:solidFill>
                <a:uFillTx/>
                <a:latin typeface="Arial"/>
              </a:rPr>
              <a:t>学号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姓名，性别，专业号，年龄，</a:t>
            </a:r>
            <a:r>
              <a:rPr b="1" lang="zh-CN" sz="2200" spc="-1" strike="noStrike">
                <a:solidFill>
                  <a:srgbClr val="3333ff"/>
                </a:solidFill>
                <a:latin typeface="Arial"/>
              </a:rPr>
              <a:t>班长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4" descr=""/>
          <p:cNvPicPr/>
          <p:nvPr/>
        </p:nvPicPr>
        <p:blipFill>
          <a:blip r:embed="rId1"/>
          <a:stretch/>
        </p:blipFill>
        <p:spPr>
          <a:xfrm>
            <a:off x="1330200" y="2565360"/>
            <a:ext cx="6986880" cy="3870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611280" y="5161680"/>
            <a:ext cx="8075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cfdef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学号”是主码，“班长”是外码，它引用了本关系的“学号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fdef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班长” 必须是确实存在的学生的学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外码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eign Key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55280" y="1267920"/>
            <a:ext cx="8155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个或一组属性，但不是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码。如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主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对应，则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外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参照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ing  Rel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被参照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d Rel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目标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Rel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外码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002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学生关系的“专业号”与专业关系的主码“专业号”相对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号”属性是学生关系的外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关系是被参照关系，学生关系为参照关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ject 4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40388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外码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修关系的“学号” 与学生关系的主码“学号”相对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修关系的“课程号”与课程关系的主码“课程号”相对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号”和“课程号”是选修关系的外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关系和课程关系均为被参照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修关系为参照关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Object 4" descr=""/>
          <p:cNvPicPr/>
          <p:nvPr/>
        </p:nvPicPr>
        <p:blipFill>
          <a:blip r:embed="rId1"/>
          <a:stretch/>
        </p:blipFill>
        <p:spPr>
          <a:xfrm>
            <a:off x="1187280" y="4581360"/>
            <a:ext cx="640908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1.1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一的数据结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实世界的实体以及实体间的各种联系均用关系来表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逻辑结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维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用户角度，关系模型中数据的逻辑结构是一张二维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在集合代数的基础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外码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“班长”与本身的主码“学号”相对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班长”是外码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学生关系既是参照关系也是被参照关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527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外码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一定是不同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关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主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参照关系的外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定义在同一个（或一组）域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码并不一定要与相应的主码同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外码与相应的主码属于不同关系时，往往取相同的名 字，以便于识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照完整性规则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规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照完整性规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属性（或属性组）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外码它与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主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对应（基本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一定是不同的关系），则对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每个元组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值必须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者取空值（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每个属性值均为空值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者等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某个元组的主码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照完整性规则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1280" y="1098360"/>
            <a:ext cx="815184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关系中每个元组的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“专业号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性只取两类值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空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表示尚未给该学生分配专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非空值，这时该值必须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是专业关系中某个元组的“专业号”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表示该学生不可能分配一个不存在的专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照完整性规则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412640"/>
            <a:ext cx="76438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修（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Arial"/>
              </a:rPr>
              <a:t>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Arial"/>
              </a:rPr>
              <a:t>课程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号”和“课程号”可能的取值 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选修关系中的主属性，不能取空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只能取相应被参照关系中已经存在的主码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照完整性规则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904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（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Arial"/>
              </a:rPr>
              <a:t>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姓名，性别，专业号，年龄，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班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班长”属性值可以取两类值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空值，表示该学生所在班级尚未选出班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非空值，该值必须是本关系中某个元组的学号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的完整性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844640"/>
            <a:ext cx="7689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体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照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3.3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用户定义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3.3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用户定义的完整性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8720" y="1098360"/>
            <a:ext cx="8128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对某一具体关系数据库的约束条件，反映某一具体应用所涉及的数据必须满足的语义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型应提供定义和检验这类完整性的机制，以便用统一的系统的方法处理它们，而不需由应用程序承担这一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用户定义的完整性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程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课程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课程名，学分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程号”属性必须取唯一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主属性“课程名”也不能取空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分”属性只能取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二章 关系数据库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模型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的完整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.4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关系代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 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演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笛卡尔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tesian Produc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4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代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0983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是一种抽象的查询语言，它用对关系的运算来表达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代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算对象是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算结果亦为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代数的运算符有两类：集合运算符和专门的关系运算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统的集合运算是从关系的“水平”方向即行的角度进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门的关系运算不仅涉及行而且涉及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9"/>
          <p:cNvSpPr/>
          <p:nvPr/>
        </p:nvSpPr>
        <p:spPr>
          <a:xfrm>
            <a:off x="2039760" y="1147680"/>
            <a:ext cx="44038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4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关系代数运算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4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代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03280" y="2060640"/>
          <a:ext cx="6048360" cy="365112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</a:tblGrid>
              <a:tr h="40644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运　算　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含　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row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集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算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笛卡尔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row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专门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算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选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投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连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9" name="Group 4"/>
          <p:cNvGrpSpPr/>
          <p:nvPr/>
        </p:nvGrpSpPr>
        <p:grpSpPr>
          <a:xfrm>
            <a:off x="3708360" y="5084640"/>
            <a:ext cx="1599840" cy="609120"/>
            <a:chOff x="3708360" y="5084640"/>
            <a:chExt cx="1599840" cy="609120"/>
          </a:xfrm>
        </p:grpSpPr>
        <p:sp>
          <p:nvSpPr>
            <p:cNvPr id="370" name="AutoShape 5"/>
            <p:cNvSpPr/>
            <p:nvPr/>
          </p:nvSpPr>
          <p:spPr>
            <a:xfrm flipV="1" rot="5400000">
              <a:off x="4383000" y="4988160"/>
              <a:ext cx="129600" cy="32220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6"/>
            <p:cNvSpPr/>
            <p:nvPr/>
          </p:nvSpPr>
          <p:spPr>
            <a:xfrm flipV="1">
              <a:off x="3708360" y="5090400"/>
              <a:ext cx="159984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4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代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4000" y="11970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4.1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传统的集合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门的关系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并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相同的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即两个关系都有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属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应的属性取自同一个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仍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，由属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属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元组组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∪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并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23800" y="1614600"/>
          <a:ext cx="4038480" cy="170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4710240" y="2089080"/>
          <a:ext cx="4038480" cy="24494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90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90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61880" y="3673440"/>
          <a:ext cx="4038480" cy="170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sp>
        <p:nvSpPr>
          <p:cNvPr id="380" name="TextBox 7"/>
          <p:cNvSpPr/>
          <p:nvPr/>
        </p:nvSpPr>
        <p:spPr>
          <a:xfrm>
            <a:off x="681120" y="1052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680400" y="33148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5004000" y="1434960"/>
            <a:ext cx="76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差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erenc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相同的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应的属性取自同一个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 -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仍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，由属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不属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所有元组组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差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95440" y="1758960"/>
          <a:ext cx="4038480" cy="170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4781520" y="2233440"/>
          <a:ext cx="4038480" cy="9795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533520" y="3817800"/>
          <a:ext cx="4038480" cy="170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sp>
        <p:nvSpPr>
          <p:cNvPr id="389" name="TextBox 12"/>
          <p:cNvSpPr/>
          <p:nvPr/>
        </p:nvSpPr>
        <p:spPr>
          <a:xfrm>
            <a:off x="752760" y="1197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751680" y="3429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074920" y="157968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交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secti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71640" y="1341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相同的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应的属性取自同一个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仍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，由既属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属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元组组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交 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601560" y="1758960"/>
          <a:ext cx="4038480" cy="170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788000" y="2233440"/>
          <a:ext cx="4038480" cy="1469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90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539640" y="3817800"/>
          <a:ext cx="4038480" cy="170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sp>
        <p:nvSpPr>
          <p:cNvPr id="398" name="TextBox 7"/>
          <p:cNvSpPr/>
          <p:nvPr/>
        </p:nvSpPr>
        <p:spPr>
          <a:xfrm>
            <a:off x="758880" y="1197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758160" y="3429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1"/>
          <p:cNvSpPr/>
          <p:nvPr/>
        </p:nvSpPr>
        <p:spPr>
          <a:xfrm>
            <a:off x="5020920" y="157968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 ∩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笛卡尔积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rtesian Produc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55640" y="1098720"/>
            <a:ext cx="77724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严格地讲应该是广义的笛卡尔积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Cartesian Produ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：（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列元组的集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组的前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是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个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是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个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：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∧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4"/>
          <p:cNvSpPr/>
          <p:nvPr/>
        </p:nvSpPr>
        <p:spPr>
          <a:xfrm>
            <a:off x="3203640" y="5675400"/>
            <a:ext cx="360360" cy="129960"/>
          </a:xfrm>
          <a:custGeom>
            <a:avLst/>
            <a:gdLst/>
            <a:ahLst/>
            <a:rect l="l" t="t" r="r" b="b"/>
            <a:pathLst>
              <a:path w="196" h="82">
                <a:moveTo>
                  <a:pt x="0" y="43"/>
                </a:moveTo>
                <a:cubicBezTo>
                  <a:pt x="64" y="0"/>
                  <a:pt x="75" y="4"/>
                  <a:pt x="156" y="17"/>
                </a:cubicBezTo>
                <a:cubicBezTo>
                  <a:pt x="165" y="26"/>
                  <a:pt x="176" y="32"/>
                  <a:pt x="183" y="43"/>
                </a:cubicBezTo>
                <a:cubicBezTo>
                  <a:pt x="190" y="55"/>
                  <a:pt x="196" y="82"/>
                  <a:pt x="196" y="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组具有相同数据类型的值的集合。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介于某个取值范围的整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定长度的字符串集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’，‘女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笛卡尔积 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57200" y="2233440"/>
          <a:ext cx="3035160" cy="1482840"/>
        </p:xfrm>
        <a:graphic>
          <a:graphicData uri="http://schemas.openxmlformats.org/drawingml/2006/table">
            <a:tbl>
              <a:tblPr/>
              <a:tblGrid>
                <a:gridCol w="1011240"/>
                <a:gridCol w="1012680"/>
                <a:gridCol w="10112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851280" y="1413000"/>
          <a:ext cx="4897440" cy="4897440"/>
        </p:xfrm>
        <a:graphic>
          <a:graphicData uri="http://schemas.openxmlformats.org/drawingml/2006/table">
            <a:tbl>
              <a:tblPr/>
              <a:tblGrid>
                <a:gridCol w="816120"/>
                <a:gridCol w="815760"/>
                <a:gridCol w="816120"/>
                <a:gridCol w="817560"/>
                <a:gridCol w="815760"/>
                <a:gridCol w="81612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A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59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395280" y="4292640"/>
          <a:ext cx="3168720" cy="1484280"/>
        </p:xfrm>
        <a:graphic>
          <a:graphicData uri="http://schemas.openxmlformats.org/drawingml/2006/table">
            <a:tbl>
              <a:tblPr/>
              <a:tblGrid>
                <a:gridCol w="1055520"/>
                <a:gridCol w="1057320"/>
                <a:gridCol w="1055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sp>
        <p:nvSpPr>
          <p:cNvPr id="408" name="TextBox 7"/>
          <p:cNvSpPr/>
          <p:nvPr/>
        </p:nvSpPr>
        <p:spPr>
          <a:xfrm>
            <a:off x="614520" y="16714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613800" y="37908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4060440" y="981000"/>
            <a:ext cx="96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 ×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4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关系代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.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统的集合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4.2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专门的关系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4.2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引入几个记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[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关系模式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(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的一个关系设为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个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表示元组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相应于属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个分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4360" y="1267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[A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一部分，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称为属性列或属性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[A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元组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属性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诸分量的集合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e0292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去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剩余的属性组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3048120" y="141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1476360" y="47242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12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关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r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称为元组的连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r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的元组，前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分量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一个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组，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分量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一个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组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4"/>
          <p:cNvSpPr/>
          <p:nvPr/>
        </p:nvSpPr>
        <p:spPr>
          <a:xfrm>
            <a:off x="2028960" y="1484280"/>
            <a:ext cx="311040" cy="147600"/>
          </a:xfrm>
          <a:custGeom>
            <a:avLst/>
            <a:gdLst/>
            <a:ahLst/>
            <a:rect l="l" t="t" r="r" b="b"/>
            <a:pathLst>
              <a:path w="196" h="82">
                <a:moveTo>
                  <a:pt x="0" y="43"/>
                </a:moveTo>
                <a:cubicBezTo>
                  <a:pt x="64" y="0"/>
                  <a:pt x="75" y="4"/>
                  <a:pt x="156" y="17"/>
                </a:cubicBezTo>
                <a:cubicBezTo>
                  <a:pt x="165" y="26"/>
                  <a:pt x="176" y="32"/>
                  <a:pt x="183" y="43"/>
                </a:cubicBezTo>
                <a:cubicBezTo>
                  <a:pt x="190" y="55"/>
                  <a:pt x="196" y="82"/>
                  <a:pt x="196" y="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5"/>
          <p:cNvSpPr/>
          <p:nvPr/>
        </p:nvSpPr>
        <p:spPr>
          <a:xfrm>
            <a:off x="3564000" y="2793960"/>
            <a:ext cx="311040" cy="130320"/>
          </a:xfrm>
          <a:custGeom>
            <a:avLst/>
            <a:gdLst/>
            <a:ahLst/>
            <a:rect l="l" t="t" r="r" b="b"/>
            <a:pathLst>
              <a:path w="196" h="82">
                <a:moveTo>
                  <a:pt x="0" y="43"/>
                </a:moveTo>
                <a:cubicBezTo>
                  <a:pt x="64" y="0"/>
                  <a:pt x="75" y="4"/>
                  <a:pt x="156" y="17"/>
                </a:cubicBezTo>
                <a:cubicBezTo>
                  <a:pt x="165" y="26"/>
                  <a:pt x="176" y="32"/>
                  <a:pt x="183" y="43"/>
                </a:cubicBezTo>
                <a:cubicBezTo>
                  <a:pt x="190" y="55"/>
                  <a:pt x="196" y="82"/>
                  <a:pt x="196" y="82"/>
                </a:cubicBezTo>
              </a:path>
            </a:pathLst>
          </a:custGeom>
          <a:noFill/>
          <a:ln w="9360">
            <a:solidFill>
              <a:srgbClr val="e02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6"/>
          <p:cNvSpPr/>
          <p:nvPr/>
        </p:nvSpPr>
        <p:spPr>
          <a:xfrm>
            <a:off x="1523880" y="3370320"/>
            <a:ext cx="311400" cy="129960"/>
          </a:xfrm>
          <a:custGeom>
            <a:avLst/>
            <a:gdLst/>
            <a:ahLst/>
            <a:rect l="l" t="t" r="r" b="b"/>
            <a:pathLst>
              <a:path w="196" h="82">
                <a:moveTo>
                  <a:pt x="0" y="43"/>
                </a:moveTo>
                <a:cubicBezTo>
                  <a:pt x="64" y="0"/>
                  <a:pt x="75" y="4"/>
                  <a:pt x="156" y="17"/>
                </a:cubicBezTo>
                <a:cubicBezTo>
                  <a:pt x="165" y="26"/>
                  <a:pt x="176" y="32"/>
                  <a:pt x="183" y="43"/>
                </a:cubicBezTo>
                <a:cubicBezTo>
                  <a:pt x="190" y="55"/>
                  <a:pt x="196" y="82"/>
                  <a:pt x="196" y="82"/>
                </a:cubicBezTo>
              </a:path>
            </a:pathLst>
          </a:custGeom>
          <a:noFill/>
          <a:ln w="9360">
            <a:solidFill>
              <a:srgbClr val="e02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象集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定一个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属性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象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 S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Z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表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属性组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值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诸元组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分量的集合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266720" y="1600200"/>
            <a:ext cx="418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象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Z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x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象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Z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x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象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e02920"/>
                </a:solidFill>
                <a:latin typeface="Arial"/>
              </a:rPr>
              <a:t>Z</a:t>
            </a:r>
            <a:r>
              <a:rPr b="1" lang="en-US" sz="2400" spc="-1" strike="noStrike" baseline="-30000">
                <a:solidFill>
                  <a:srgbClr val="e02920"/>
                </a:solidFill>
                <a:latin typeface="Arial"/>
              </a:rPr>
              <a:t>x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23"/>
          <p:cNvPicPr/>
          <p:nvPr/>
        </p:nvPicPr>
        <p:blipFill>
          <a:blip r:embed="rId1"/>
          <a:stretch/>
        </p:blipFill>
        <p:spPr>
          <a:xfrm>
            <a:off x="1116000" y="1557360"/>
            <a:ext cx="2408400" cy="39592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5"/>
          <p:cNvSpPr/>
          <p:nvPr/>
        </p:nvSpPr>
        <p:spPr>
          <a:xfrm>
            <a:off x="1810440" y="5588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象集举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9240" indent="-476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9240" indent="-476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9240" indent="-476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9240" indent="-476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82"/>
          <p:cNvSpPr/>
          <p:nvPr/>
        </p:nvSpPr>
        <p:spPr>
          <a:xfrm>
            <a:off x="1042920" y="5732640"/>
            <a:ext cx="69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3"/>
          <p:cNvSpPr/>
          <p:nvPr/>
        </p:nvSpPr>
        <p:spPr>
          <a:xfrm>
            <a:off x="468360" y="2133720"/>
            <a:ext cx="91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1"/>
          <p:cNvSpPr/>
          <p:nvPr/>
        </p:nvSpPr>
        <p:spPr>
          <a:xfrm>
            <a:off x="539640" y="1127160"/>
            <a:ext cx="748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程数据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生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课程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选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关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539640" y="2709720"/>
          <a:ext cx="8229600" cy="2852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别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e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所在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e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826920" y="1628640"/>
          <a:ext cx="7273800" cy="4429080"/>
        </p:xfrm>
        <a:graphic>
          <a:graphicData uri="http://schemas.openxmlformats.org/drawingml/2006/table">
            <a:tbl>
              <a:tblPr/>
              <a:tblGrid>
                <a:gridCol w="1819440"/>
                <a:gridCol w="1925640"/>
                <a:gridCol w="1711080"/>
                <a:gridCol w="18176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课程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课程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先行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red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据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信息系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操作系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据结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据处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语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Text Box 502"/>
          <p:cNvSpPr/>
          <p:nvPr/>
        </p:nvSpPr>
        <p:spPr>
          <a:xfrm>
            <a:off x="1048680" y="105264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05"/>
          <p:cNvSpPr/>
          <p:nvPr/>
        </p:nvSpPr>
        <p:spPr>
          <a:xfrm>
            <a:off x="4418640" y="6021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7318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笛卡尔积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rtesian Produc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笛卡尔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定一组域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允许其中某些域是相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笛卡尔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…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｛（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域的所有取值的一个组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重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专门的关系运算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15"/>
          <p:cNvSpPr/>
          <p:nvPr/>
        </p:nvSpPr>
        <p:spPr>
          <a:xfrm>
            <a:off x="3240" y="339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82"/>
          <p:cNvSpPr/>
          <p:nvPr/>
        </p:nvSpPr>
        <p:spPr>
          <a:xfrm>
            <a:off x="4094280" y="537372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84"/>
          <p:cNvSpPr/>
          <p:nvPr/>
        </p:nvSpPr>
        <p:spPr>
          <a:xfrm>
            <a:off x="6705720" y="32004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85"/>
          <p:cNvSpPr/>
          <p:nvPr/>
        </p:nvSpPr>
        <p:spPr>
          <a:xfrm>
            <a:off x="684360" y="1197000"/>
            <a:ext cx="107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6"/>
          <p:cNvSpPr/>
          <p:nvPr/>
        </p:nvSpPr>
        <p:spPr>
          <a:xfrm>
            <a:off x="6477120" y="3809880"/>
            <a:ext cx="99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900000" y="1773360"/>
          <a:ext cx="7272360" cy="3601800"/>
        </p:xfrm>
        <a:graphic>
          <a:graphicData uri="http://schemas.openxmlformats.org/drawingml/2006/table">
            <a:tbl>
              <a:tblPr/>
              <a:tblGrid>
                <a:gridCol w="2424240"/>
                <a:gridCol w="2423880"/>
                <a:gridCol w="24242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学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课程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成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ecti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755640" y="141264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选择又称为限制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triction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选择运算符的含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选择满足给定条件的诸元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= 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'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选择条件，是一个逻辑表达式，取值为“真”或“假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基本形式为：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示比较运算符，它可以是＞，≥，＜，≤，＝或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&gt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运算是从关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选取使逻辑表达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真的元组，是从行的角度进行的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2124000" y="3716280"/>
            <a:ext cx="4191120" cy="1219320"/>
            <a:chOff x="2124000" y="3716280"/>
            <a:chExt cx="4191120" cy="1219320"/>
          </a:xfrm>
        </p:grpSpPr>
        <p:sp>
          <p:nvSpPr>
            <p:cNvPr id="453" name="Rectangle 5"/>
            <p:cNvSpPr/>
            <p:nvPr/>
          </p:nvSpPr>
          <p:spPr>
            <a:xfrm>
              <a:off x="2124000" y="3716280"/>
              <a:ext cx="1447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"/>
            <p:cNvSpPr/>
            <p:nvPr/>
          </p:nvSpPr>
          <p:spPr>
            <a:xfrm>
              <a:off x="2124000" y="3868560"/>
              <a:ext cx="1447920" cy="15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7"/>
            <p:cNvSpPr/>
            <p:nvPr/>
          </p:nvSpPr>
          <p:spPr>
            <a:xfrm>
              <a:off x="2124000" y="4021200"/>
              <a:ext cx="1447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8"/>
            <p:cNvSpPr/>
            <p:nvPr/>
          </p:nvSpPr>
          <p:spPr>
            <a:xfrm>
              <a:off x="2124000" y="4782960"/>
              <a:ext cx="14479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"/>
            <p:cNvSpPr/>
            <p:nvPr/>
          </p:nvSpPr>
          <p:spPr>
            <a:xfrm>
              <a:off x="2124000" y="4173480"/>
              <a:ext cx="1447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0"/>
            <p:cNvSpPr/>
            <p:nvPr/>
          </p:nvSpPr>
          <p:spPr>
            <a:xfrm>
              <a:off x="2124000" y="4325760"/>
              <a:ext cx="1447920" cy="152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1"/>
            <p:cNvSpPr/>
            <p:nvPr/>
          </p:nvSpPr>
          <p:spPr>
            <a:xfrm>
              <a:off x="2124000" y="4478400"/>
              <a:ext cx="1447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2"/>
            <p:cNvSpPr/>
            <p:nvPr/>
          </p:nvSpPr>
          <p:spPr>
            <a:xfrm>
              <a:off x="2124000" y="4630680"/>
              <a:ext cx="14479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3"/>
            <p:cNvSpPr/>
            <p:nvPr/>
          </p:nvSpPr>
          <p:spPr>
            <a:xfrm>
              <a:off x="4867200" y="4325760"/>
              <a:ext cx="1447920" cy="152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4"/>
            <p:cNvSpPr/>
            <p:nvPr/>
          </p:nvSpPr>
          <p:spPr>
            <a:xfrm>
              <a:off x="4867200" y="4173480"/>
              <a:ext cx="1447920" cy="15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5"/>
            <p:cNvSpPr/>
            <p:nvPr/>
          </p:nvSpPr>
          <p:spPr>
            <a:xfrm>
              <a:off x="4867200" y="4021200"/>
              <a:ext cx="1447920" cy="15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6"/>
            <p:cNvSpPr/>
            <p:nvPr/>
          </p:nvSpPr>
          <p:spPr>
            <a:xfrm>
              <a:off x="3876480" y="4173480"/>
              <a:ext cx="838440" cy="228600"/>
            </a:xfrm>
            <a:prstGeom prst="rightArrow">
              <a:avLst>
                <a:gd name="adj1" fmla="val 50000"/>
                <a:gd name="adj2" fmla="val 9164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7"/>
            <p:cNvSpPr/>
            <p:nvPr/>
          </p:nvSpPr>
          <p:spPr>
            <a:xfrm>
              <a:off x="3876480" y="3716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35120" y="1557000"/>
            <a:ext cx="7354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询信息系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）全体学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d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= 'IS'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ud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结果：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177920" y="3645000"/>
          <a:ext cx="7210440" cy="1439640"/>
        </p:xfrm>
        <a:graphic>
          <a:graphicData uri="http://schemas.openxmlformats.org/drawingml/2006/table">
            <a:tbl>
              <a:tblPr/>
              <a:tblGrid>
                <a:gridCol w="1584360"/>
                <a:gridCol w="1301760"/>
                <a:gridCol w="1438200"/>
                <a:gridCol w="1443240"/>
                <a:gridCol w="1442880"/>
              </a:tblGrid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e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e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张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选择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1200" y="1341000"/>
            <a:ext cx="821844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年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学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age &lt; 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udent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果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1"/>
          <p:cNvSpPr/>
          <p:nvPr/>
        </p:nvSpPr>
        <p:spPr>
          <a:xfrm>
            <a:off x="0" y="5459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888840" y="2781360"/>
          <a:ext cx="7707240" cy="2535120"/>
        </p:xfrm>
        <a:graphic>
          <a:graphicData uri="http://schemas.openxmlformats.org/drawingml/2006/table">
            <a:tbl>
              <a:tblPr/>
              <a:tblGrid>
                <a:gridCol w="1657440"/>
                <a:gridCol w="1512720"/>
                <a:gridCol w="1513080"/>
                <a:gridCol w="1512720"/>
                <a:gridCol w="15112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e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e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刘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王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15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张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投影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i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选择出若干属性列组成新的关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|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属性列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投影操作主要是从列的角度进行运算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影之后不仅取消了原关系中的某些列，而且还可能取消某些元组（避免重复行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7"/>
          <p:cNvGrpSpPr/>
          <p:nvPr/>
        </p:nvGrpSpPr>
        <p:grpSpPr>
          <a:xfrm>
            <a:off x="2340000" y="3268800"/>
            <a:ext cx="2743200" cy="1600200"/>
            <a:chOff x="2340000" y="3268800"/>
            <a:chExt cx="2743200" cy="1600200"/>
          </a:xfrm>
        </p:grpSpPr>
        <p:sp>
          <p:nvSpPr>
            <p:cNvPr id="476" name="AutoShape 16"/>
            <p:cNvSpPr/>
            <p:nvPr/>
          </p:nvSpPr>
          <p:spPr>
            <a:xfrm>
              <a:off x="3635640" y="3954600"/>
              <a:ext cx="838080" cy="228600"/>
            </a:xfrm>
            <a:prstGeom prst="rightArrow">
              <a:avLst>
                <a:gd name="adj1" fmla="val 50000"/>
                <a:gd name="adj2" fmla="val 916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7"/>
            <p:cNvSpPr/>
            <p:nvPr/>
          </p:nvSpPr>
          <p:spPr>
            <a:xfrm>
              <a:off x="3635640" y="3497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2340000" y="3268800"/>
              <a:ext cx="15264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2492640" y="3268800"/>
              <a:ext cx="152280" cy="1600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2644920" y="3268800"/>
              <a:ext cx="15228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2797200" y="3268800"/>
              <a:ext cx="15264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2949840" y="3268800"/>
              <a:ext cx="152280" cy="1600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4"/>
            <p:cNvSpPr/>
            <p:nvPr/>
          </p:nvSpPr>
          <p:spPr>
            <a:xfrm>
              <a:off x="3102120" y="3268800"/>
              <a:ext cx="15228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5"/>
            <p:cNvSpPr/>
            <p:nvPr/>
          </p:nvSpPr>
          <p:spPr>
            <a:xfrm>
              <a:off x="4778640" y="3268800"/>
              <a:ext cx="152280" cy="16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6"/>
            <p:cNvSpPr/>
            <p:nvPr/>
          </p:nvSpPr>
          <p:spPr>
            <a:xfrm>
              <a:off x="4930920" y="3268800"/>
              <a:ext cx="152280" cy="1600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投影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267920"/>
            <a:ext cx="822960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6]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学生的姓名和所在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上学生姓名和所在系两个属性上的投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name,Sd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ud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908000" y="3452760"/>
          <a:ext cx="4680000" cy="229716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e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投影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35164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学生关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都有哪些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d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ud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132000" y="3141720"/>
          <a:ext cx="1658880" cy="2305080"/>
        </p:xfrm>
        <a:graphic>
          <a:graphicData uri="http://schemas.openxmlformats.org/drawingml/2006/table">
            <a:tbl>
              <a:tblPr/>
              <a:tblGrid>
                <a:gridCol w="16588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e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i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97040" y="10987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也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运算的含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从两个关系的笛卡尔积中选取属性间满足一定条件的元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        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{          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别为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上度数相等且可比的属性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：比较运算符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连接运算从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广义笛卡尔积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选取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关系在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属性组上的值与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关系在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属性组上的值满足比较关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元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6"/>
          <p:cNvGrpSpPr/>
          <p:nvPr/>
        </p:nvGrpSpPr>
        <p:grpSpPr>
          <a:xfrm>
            <a:off x="1676520" y="2671920"/>
            <a:ext cx="1599840" cy="685800"/>
            <a:chOff x="1676520" y="2671920"/>
            <a:chExt cx="1599840" cy="685800"/>
          </a:xfrm>
        </p:grpSpPr>
        <p:grpSp>
          <p:nvGrpSpPr>
            <p:cNvPr id="495" name="Group 4"/>
            <p:cNvGrpSpPr/>
            <p:nvPr/>
          </p:nvGrpSpPr>
          <p:grpSpPr>
            <a:xfrm>
              <a:off x="1676520" y="2747520"/>
              <a:ext cx="1599840" cy="609840"/>
              <a:chOff x="1676520" y="2747520"/>
              <a:chExt cx="1599840" cy="609840"/>
            </a:xfrm>
          </p:grpSpPr>
          <p:sp>
            <p:nvSpPr>
              <p:cNvPr id="496" name="AutoShape 5"/>
              <p:cNvSpPr/>
              <p:nvPr/>
            </p:nvSpPr>
            <p:spPr>
              <a:xfrm flipV="1" rot="5400000">
                <a:off x="2351520" y="2650680"/>
                <a:ext cx="129240" cy="322200"/>
              </a:xfrm>
              <a:prstGeom prst="flowChartCollat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 flipV="1">
                <a:off x="1676520" y="2754720"/>
                <a:ext cx="1599840" cy="60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Rectangle 10"/>
            <p:cNvSpPr/>
            <p:nvPr/>
          </p:nvSpPr>
          <p:spPr>
            <a:xfrm>
              <a:off x="1905120" y="2671920"/>
              <a:ext cx="914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276720" y="2676600"/>
            <a:ext cx="609480" cy="350640"/>
            <a:chOff x="3276720" y="2676600"/>
            <a:chExt cx="609480" cy="350640"/>
          </a:xfrm>
        </p:grpSpPr>
        <p:sp>
          <p:nvSpPr>
            <p:cNvPr id="500" name="Text Box 13"/>
            <p:cNvSpPr/>
            <p:nvPr/>
          </p:nvSpPr>
          <p:spPr>
            <a:xfrm>
              <a:off x="3276720" y="2703600"/>
              <a:ext cx="6094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4"/>
            <p:cNvSpPr/>
            <p:nvPr/>
          </p:nvSpPr>
          <p:spPr>
            <a:xfrm>
              <a:off x="3441600" y="2676600"/>
              <a:ext cx="247320" cy="98280"/>
            </a:xfrm>
            <a:custGeom>
              <a:avLst/>
              <a:gdLst/>
              <a:ahLst/>
              <a:rect l="l" t="t" r="r" b="b"/>
              <a:pathLst>
                <a:path w="156" h="62">
                  <a:moveTo>
                    <a:pt x="0" y="62"/>
                  </a:moveTo>
                  <a:cubicBezTo>
                    <a:pt x="89" y="2"/>
                    <a:pt x="48" y="0"/>
                    <a:pt x="117" y="23"/>
                  </a:cubicBezTo>
                  <a:cubicBezTo>
                    <a:pt x="130" y="36"/>
                    <a:pt x="156" y="62"/>
                    <a:pt x="156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55640" y="1098360"/>
            <a:ext cx="7772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类常用连接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值连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jo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为“＝”的连接运算称为等值连接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从关系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广义笛卡尔积中选取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属性值相等的那些元组，即等值连接为：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    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{       |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2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 }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9"/>
          <p:cNvGrpSpPr/>
          <p:nvPr/>
        </p:nvGrpSpPr>
        <p:grpSpPr>
          <a:xfrm>
            <a:off x="1979640" y="3933720"/>
            <a:ext cx="1294920" cy="677520"/>
            <a:chOff x="1979640" y="3933720"/>
            <a:chExt cx="1294920" cy="677520"/>
          </a:xfrm>
        </p:grpSpPr>
        <p:sp>
          <p:nvSpPr>
            <p:cNvPr id="505" name="AutoShape 10"/>
            <p:cNvSpPr/>
            <p:nvPr/>
          </p:nvSpPr>
          <p:spPr>
            <a:xfrm flipV="1" rot="5400000">
              <a:off x="2505240" y="3940920"/>
              <a:ext cx="145440" cy="26100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 flipV="1">
              <a:off x="1979640" y="3933720"/>
              <a:ext cx="129492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12"/>
          <p:cNvSpPr/>
          <p:nvPr/>
        </p:nvSpPr>
        <p:spPr>
          <a:xfrm>
            <a:off x="1979640" y="4140360"/>
            <a:ext cx="1143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=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6"/>
          <p:cNvGrpSpPr/>
          <p:nvPr/>
        </p:nvGrpSpPr>
        <p:grpSpPr>
          <a:xfrm>
            <a:off x="3348000" y="3933720"/>
            <a:ext cx="574560" cy="353160"/>
            <a:chOff x="3348000" y="3933720"/>
            <a:chExt cx="574560" cy="353160"/>
          </a:xfrm>
        </p:grpSpPr>
        <p:sp>
          <p:nvSpPr>
            <p:cNvPr id="509" name="Text Box 14"/>
            <p:cNvSpPr/>
            <p:nvPr/>
          </p:nvSpPr>
          <p:spPr>
            <a:xfrm>
              <a:off x="3348000" y="3963240"/>
              <a:ext cx="5745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5"/>
            <p:cNvSpPr/>
            <p:nvPr/>
          </p:nvSpPr>
          <p:spPr>
            <a:xfrm>
              <a:off x="3503520" y="3933720"/>
              <a:ext cx="233280" cy="108000"/>
            </a:xfrm>
            <a:custGeom>
              <a:avLst/>
              <a:gdLst/>
              <a:ahLst/>
              <a:rect l="l" t="t" r="r" b="b"/>
              <a:pathLst>
                <a:path w="156" h="62">
                  <a:moveTo>
                    <a:pt x="0" y="62"/>
                  </a:moveTo>
                  <a:cubicBezTo>
                    <a:pt x="89" y="2"/>
                    <a:pt x="48" y="0"/>
                    <a:pt x="117" y="23"/>
                  </a:cubicBezTo>
                  <a:cubicBezTo>
                    <a:pt x="130" y="36"/>
                    <a:pt x="156" y="62"/>
                    <a:pt x="156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笛卡尔积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元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p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笛卡尔积中每一个元素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叫作一个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元组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-tupl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或简称元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张清玫，计算机专业，李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张清玫，计算机专业，刘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等 都是元组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笛卡尔积元素（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中的每一个值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叫作一个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张清玫、计算机专业、李勇、刘晨等都是分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341360"/>
            <a:ext cx="77724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连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jo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连接是一种特殊的等值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228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两个关系中进行比较的分量必须是相同的属性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228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在结果中把重复的属性列去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连接的含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具有相同的属性组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       [U-B] | 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}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"/>
          <p:cNvSpPr/>
          <p:nvPr/>
        </p:nvSpPr>
        <p:spPr>
          <a:xfrm flipV="1" rot="5400000">
            <a:off x="2195640" y="4291560"/>
            <a:ext cx="228600" cy="228600"/>
          </a:xfrm>
          <a:prstGeom prst="flowChartCollat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6"/>
          <p:cNvGrpSpPr/>
          <p:nvPr/>
        </p:nvGrpSpPr>
        <p:grpSpPr>
          <a:xfrm>
            <a:off x="3132000" y="4222800"/>
            <a:ext cx="609840" cy="429120"/>
            <a:chOff x="3132000" y="4222800"/>
            <a:chExt cx="609840" cy="429120"/>
          </a:xfrm>
        </p:grpSpPr>
        <p:sp>
          <p:nvSpPr>
            <p:cNvPr id="515" name="Text Box 7"/>
            <p:cNvSpPr/>
            <p:nvPr/>
          </p:nvSpPr>
          <p:spPr>
            <a:xfrm>
              <a:off x="3132000" y="4328280"/>
              <a:ext cx="6098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3297240" y="4222800"/>
              <a:ext cx="247680" cy="126000"/>
            </a:xfrm>
            <a:custGeom>
              <a:avLst/>
              <a:gdLst/>
              <a:ahLst/>
              <a:rect l="l" t="t" r="r" b="b"/>
              <a:pathLst>
                <a:path w="156" h="62">
                  <a:moveTo>
                    <a:pt x="0" y="62"/>
                  </a:moveTo>
                  <a:cubicBezTo>
                    <a:pt x="89" y="2"/>
                    <a:pt x="48" y="0"/>
                    <a:pt x="117" y="23"/>
                  </a:cubicBezTo>
                  <a:cubicBezTo>
                    <a:pt x="130" y="36"/>
                    <a:pt x="156" y="62"/>
                    <a:pt x="156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33956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的连接操作是从行的角度进行运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连接还需要取消重复列，所以是同时从行和列的角度进行运算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44"/>
          <p:cNvGrpSpPr/>
          <p:nvPr/>
        </p:nvGrpSpPr>
        <p:grpSpPr>
          <a:xfrm>
            <a:off x="1461960" y="2060640"/>
            <a:ext cx="5486400" cy="2286000"/>
            <a:chOff x="1461960" y="2060640"/>
            <a:chExt cx="5486400" cy="2286000"/>
          </a:xfrm>
        </p:grpSpPr>
        <p:grpSp>
          <p:nvGrpSpPr>
            <p:cNvPr id="520" name="Group 18"/>
            <p:cNvGrpSpPr/>
            <p:nvPr/>
          </p:nvGrpSpPr>
          <p:grpSpPr>
            <a:xfrm>
              <a:off x="1995480" y="2136600"/>
              <a:ext cx="1447560" cy="1218960"/>
              <a:chOff x="1995480" y="2136600"/>
              <a:chExt cx="1447560" cy="1218960"/>
            </a:xfrm>
          </p:grpSpPr>
          <p:sp>
            <p:nvSpPr>
              <p:cNvPr id="521" name="Rectangle 5"/>
              <p:cNvSpPr/>
              <p:nvPr/>
            </p:nvSpPr>
            <p:spPr>
              <a:xfrm>
                <a:off x="1995480" y="2136600"/>
                <a:ext cx="144756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6"/>
              <p:cNvSpPr/>
              <p:nvPr/>
            </p:nvSpPr>
            <p:spPr>
              <a:xfrm>
                <a:off x="1995480" y="2288880"/>
                <a:ext cx="144756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7"/>
              <p:cNvSpPr/>
              <p:nvPr/>
            </p:nvSpPr>
            <p:spPr>
              <a:xfrm>
                <a:off x="1995480" y="2441160"/>
                <a:ext cx="14475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8"/>
              <p:cNvSpPr/>
              <p:nvPr/>
            </p:nvSpPr>
            <p:spPr>
              <a:xfrm>
                <a:off x="1995480" y="3203280"/>
                <a:ext cx="144756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9"/>
              <p:cNvSpPr/>
              <p:nvPr/>
            </p:nvSpPr>
            <p:spPr>
              <a:xfrm>
                <a:off x="1995480" y="2593800"/>
                <a:ext cx="144756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0"/>
              <p:cNvSpPr/>
              <p:nvPr/>
            </p:nvSpPr>
            <p:spPr>
              <a:xfrm>
                <a:off x="1995480" y="2746080"/>
                <a:ext cx="144756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11"/>
              <p:cNvSpPr/>
              <p:nvPr/>
            </p:nvSpPr>
            <p:spPr>
              <a:xfrm>
                <a:off x="1995480" y="2898360"/>
                <a:ext cx="14475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2"/>
              <p:cNvSpPr/>
              <p:nvPr/>
            </p:nvSpPr>
            <p:spPr>
              <a:xfrm>
                <a:off x="1995480" y="3051000"/>
                <a:ext cx="1447560" cy="152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AutoShape 16"/>
            <p:cNvSpPr/>
            <p:nvPr/>
          </p:nvSpPr>
          <p:spPr>
            <a:xfrm rot="2235000">
              <a:off x="3595320" y="3203280"/>
              <a:ext cx="761760" cy="228600"/>
            </a:xfrm>
            <a:prstGeom prst="rightArrow">
              <a:avLst>
                <a:gd name="adj1" fmla="val 50000"/>
                <a:gd name="adj2" fmla="val 832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27"/>
            <p:cNvGrpSpPr/>
            <p:nvPr/>
          </p:nvGrpSpPr>
          <p:grpSpPr>
            <a:xfrm>
              <a:off x="2376360" y="3736800"/>
              <a:ext cx="838080" cy="609840"/>
              <a:chOff x="2376360" y="3736800"/>
              <a:chExt cx="838080" cy="609840"/>
            </a:xfrm>
          </p:grpSpPr>
          <p:sp>
            <p:nvSpPr>
              <p:cNvPr id="531" name="Rectangle 19"/>
              <p:cNvSpPr/>
              <p:nvPr/>
            </p:nvSpPr>
            <p:spPr>
              <a:xfrm>
                <a:off x="2376360" y="3736800"/>
                <a:ext cx="838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20"/>
              <p:cNvSpPr/>
              <p:nvPr/>
            </p:nvSpPr>
            <p:spPr>
              <a:xfrm>
                <a:off x="2376360" y="3889440"/>
                <a:ext cx="838080" cy="152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1"/>
              <p:cNvSpPr/>
              <p:nvPr/>
            </p:nvSpPr>
            <p:spPr>
              <a:xfrm>
                <a:off x="2376360" y="4041720"/>
                <a:ext cx="83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23"/>
              <p:cNvSpPr/>
              <p:nvPr/>
            </p:nvSpPr>
            <p:spPr>
              <a:xfrm>
                <a:off x="2376360" y="4194000"/>
                <a:ext cx="838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43"/>
            <p:cNvGrpSpPr/>
            <p:nvPr/>
          </p:nvGrpSpPr>
          <p:grpSpPr>
            <a:xfrm>
              <a:off x="2985840" y="3355920"/>
              <a:ext cx="1599840" cy="685800"/>
              <a:chOff x="2985840" y="3355920"/>
              <a:chExt cx="1599840" cy="685800"/>
            </a:xfrm>
          </p:grpSpPr>
          <p:grpSp>
            <p:nvGrpSpPr>
              <p:cNvPr id="536" name="Group 29"/>
              <p:cNvGrpSpPr/>
              <p:nvPr/>
            </p:nvGrpSpPr>
            <p:grpSpPr>
              <a:xfrm>
                <a:off x="2985840" y="3431520"/>
                <a:ext cx="1599840" cy="609840"/>
                <a:chOff x="2985840" y="3431520"/>
                <a:chExt cx="1599840" cy="609840"/>
              </a:xfrm>
            </p:grpSpPr>
            <p:sp>
              <p:nvSpPr>
                <p:cNvPr id="537" name="AutoShape 30"/>
                <p:cNvSpPr/>
                <p:nvPr/>
              </p:nvSpPr>
              <p:spPr>
                <a:xfrm flipV="1" rot="5400000">
                  <a:off x="3660840" y="3334680"/>
                  <a:ext cx="129240" cy="322200"/>
                </a:xfrm>
                <a:prstGeom prst="flowChartCollat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31"/>
                <p:cNvSpPr/>
                <p:nvPr/>
              </p:nvSpPr>
              <p:spPr>
                <a:xfrm flipV="1">
                  <a:off x="2985840" y="3438720"/>
                  <a:ext cx="159984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Rectangle 32"/>
              <p:cNvSpPr/>
              <p:nvPr/>
            </p:nvSpPr>
            <p:spPr>
              <a:xfrm>
                <a:off x="3214440" y="3355920"/>
                <a:ext cx="9144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θ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AutoShape 33"/>
            <p:cNvSpPr/>
            <p:nvPr/>
          </p:nvSpPr>
          <p:spPr>
            <a:xfrm rot="19767000">
              <a:off x="3671280" y="381312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Group 39"/>
            <p:cNvGrpSpPr/>
            <p:nvPr/>
          </p:nvGrpSpPr>
          <p:grpSpPr>
            <a:xfrm>
              <a:off x="4662360" y="3279600"/>
              <a:ext cx="2286000" cy="457200"/>
              <a:chOff x="4662360" y="3279600"/>
              <a:chExt cx="2286000" cy="457200"/>
            </a:xfrm>
          </p:grpSpPr>
          <p:sp>
            <p:nvSpPr>
              <p:cNvPr id="542" name="Rectangle 13"/>
              <p:cNvSpPr/>
              <p:nvPr/>
            </p:nvSpPr>
            <p:spPr>
              <a:xfrm>
                <a:off x="4662360" y="3584160"/>
                <a:ext cx="1447560" cy="152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4"/>
              <p:cNvSpPr/>
              <p:nvPr/>
            </p:nvSpPr>
            <p:spPr>
              <a:xfrm>
                <a:off x="4662360" y="3431880"/>
                <a:ext cx="1447560" cy="1522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5"/>
              <p:cNvSpPr/>
              <p:nvPr/>
            </p:nvSpPr>
            <p:spPr>
              <a:xfrm>
                <a:off x="4662360" y="3279600"/>
                <a:ext cx="144756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5"/>
              <p:cNvSpPr/>
              <p:nvPr/>
            </p:nvSpPr>
            <p:spPr>
              <a:xfrm>
                <a:off x="6109920" y="3279600"/>
                <a:ext cx="83844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36"/>
              <p:cNvSpPr/>
              <p:nvPr/>
            </p:nvSpPr>
            <p:spPr>
              <a:xfrm>
                <a:off x="6109920" y="3431880"/>
                <a:ext cx="83844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7"/>
              <p:cNvSpPr/>
              <p:nvPr/>
            </p:nvSpPr>
            <p:spPr>
              <a:xfrm>
                <a:off x="6109920" y="3584160"/>
                <a:ext cx="838440" cy="1526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Text Box 40"/>
            <p:cNvSpPr/>
            <p:nvPr/>
          </p:nvSpPr>
          <p:spPr>
            <a:xfrm>
              <a:off x="1461960" y="2060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41"/>
            <p:cNvSpPr/>
            <p:nvPr/>
          </p:nvSpPr>
          <p:spPr>
            <a:xfrm>
              <a:off x="1766880" y="3736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033560" y="2835360"/>
          <a:ext cx="3035160" cy="2133360"/>
        </p:xfrm>
        <a:graphic>
          <a:graphicData uri="http://schemas.openxmlformats.org/drawingml/2006/table">
            <a:tbl>
              <a:tblPr/>
              <a:tblGrid>
                <a:gridCol w="1011240"/>
                <a:gridCol w="1012680"/>
                <a:gridCol w="101124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5281560" y="2693880"/>
          <a:ext cx="2112840" cy="2560680"/>
        </p:xfrm>
        <a:graphic>
          <a:graphicData uri="http://schemas.openxmlformats.org/drawingml/2006/table">
            <a:tbl>
              <a:tblPr/>
              <a:tblGrid>
                <a:gridCol w="1057320"/>
                <a:gridCol w="105552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sp>
        <p:nvSpPr>
          <p:cNvPr id="553" name="TextBox 7"/>
          <p:cNvSpPr/>
          <p:nvPr/>
        </p:nvSpPr>
        <p:spPr>
          <a:xfrm>
            <a:off x="1190880" y="22734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0"/>
          <p:cNvSpPr/>
          <p:nvPr/>
        </p:nvSpPr>
        <p:spPr>
          <a:xfrm>
            <a:off x="5500080" y="21178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1033560" y="1268280"/>
            <a:ext cx="7570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关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下所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14716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连接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     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果如下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97"/>
          <p:cNvGrpSpPr/>
          <p:nvPr/>
        </p:nvGrpSpPr>
        <p:grpSpPr>
          <a:xfrm>
            <a:off x="2196000" y="692640"/>
            <a:ext cx="1225080" cy="935640"/>
            <a:chOff x="2196000" y="692640"/>
            <a:chExt cx="1225080" cy="935640"/>
          </a:xfrm>
        </p:grpSpPr>
        <p:sp>
          <p:nvSpPr>
            <p:cNvPr id="559" name="AutoShape 98"/>
            <p:cNvSpPr/>
            <p:nvPr/>
          </p:nvSpPr>
          <p:spPr>
            <a:xfrm flipV="1" rot="16200000">
              <a:off x="2624760" y="1405440"/>
              <a:ext cx="198720" cy="24660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99"/>
            <p:cNvSpPr/>
            <p:nvPr/>
          </p:nvSpPr>
          <p:spPr>
            <a:xfrm flipV="1" rot="10800000">
              <a:off x="2196000" y="692280"/>
              <a:ext cx="1225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100"/>
          <p:cNvSpPr/>
          <p:nvPr/>
        </p:nvSpPr>
        <p:spPr>
          <a:xfrm>
            <a:off x="2268360" y="145080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116000" y="2060640"/>
          <a:ext cx="6840360" cy="322272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6920"/>
                <a:gridCol w="1368360"/>
                <a:gridCol w="13683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60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值连接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果如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87"/>
          <p:cNvGrpSpPr/>
          <p:nvPr/>
        </p:nvGrpSpPr>
        <p:grpSpPr>
          <a:xfrm>
            <a:off x="2496600" y="829440"/>
            <a:ext cx="1067040" cy="1447200"/>
            <a:chOff x="2496600" y="829440"/>
            <a:chExt cx="1067040" cy="1447200"/>
          </a:xfrm>
        </p:grpSpPr>
        <p:sp>
          <p:nvSpPr>
            <p:cNvPr id="566" name="Rectangle 4"/>
            <p:cNvSpPr/>
            <p:nvPr/>
          </p:nvSpPr>
          <p:spPr>
            <a:xfrm>
              <a:off x="2572920" y="166716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R.B=S.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6"/>
            <p:cNvGrpSpPr/>
            <p:nvPr/>
          </p:nvGrpSpPr>
          <p:grpSpPr>
            <a:xfrm>
              <a:off x="2496600" y="829440"/>
              <a:ext cx="990360" cy="914400"/>
              <a:chOff x="2496600" y="829440"/>
              <a:chExt cx="990360" cy="914400"/>
            </a:xfrm>
          </p:grpSpPr>
          <p:sp>
            <p:nvSpPr>
              <p:cNvPr id="568" name="AutoShape 7"/>
              <p:cNvSpPr/>
              <p:nvPr/>
            </p:nvSpPr>
            <p:spPr>
              <a:xfrm flipV="1" rot="16200000">
                <a:off x="2827080" y="1546920"/>
                <a:ext cx="194040" cy="199080"/>
              </a:xfrm>
              <a:prstGeom prst="flowChartCollat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"/>
              <p:cNvSpPr/>
              <p:nvPr/>
            </p:nvSpPr>
            <p:spPr>
              <a:xfrm flipV="1" rot="10800000">
                <a:off x="2496600" y="829440"/>
                <a:ext cx="99036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70" name=""/>
          <p:cNvGraphicFramePr/>
          <p:nvPr/>
        </p:nvGraphicFramePr>
        <p:xfrm>
          <a:off x="1042920" y="2182680"/>
          <a:ext cx="6840360" cy="266220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6920"/>
                <a:gridCol w="1368360"/>
                <a:gridCol w="13683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连接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果如下：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5"/>
          <p:cNvGrpSpPr/>
          <p:nvPr/>
        </p:nvGrpSpPr>
        <p:grpSpPr>
          <a:xfrm>
            <a:off x="2411640" y="837000"/>
            <a:ext cx="1223640" cy="937080"/>
            <a:chOff x="2411640" y="837000"/>
            <a:chExt cx="1223640" cy="937080"/>
          </a:xfrm>
        </p:grpSpPr>
        <p:sp>
          <p:nvSpPr>
            <p:cNvPr id="574" name="AutoShape 6"/>
            <p:cNvSpPr/>
            <p:nvPr/>
          </p:nvSpPr>
          <p:spPr>
            <a:xfrm flipV="1" rot="16200000">
              <a:off x="2839680" y="1550880"/>
              <a:ext cx="199080" cy="246240"/>
            </a:xfrm>
            <a:prstGeom prst="flowChartCollat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 flipV="1" rot="10800000">
              <a:off x="2411640" y="837000"/>
              <a:ext cx="1223640" cy="9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1116000" y="2095560"/>
          <a:ext cx="6840360" cy="3062160"/>
        </p:xfrm>
        <a:graphic>
          <a:graphicData uri="http://schemas.openxmlformats.org/drawingml/2006/table">
            <a:tbl>
              <a:tblPr/>
              <a:tblGrid>
                <a:gridCol w="1709640"/>
                <a:gridCol w="1710000"/>
                <a:gridCol w="1711080"/>
                <a:gridCol w="1709640"/>
              </a:tblGrid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098720"/>
            <a:ext cx="79725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悬浮元组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gling tup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做自然连接时，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某些元组有可能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不存在公共属性上值相等的元组，从而造成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这些元组在操作时被舍弃了，这些被舍弃的元组称为悬浮元组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连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er Jo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把悬浮元组也保存在结果关系中，而在其他属性上填空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ull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就叫做外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左外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EFT OUTER JO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JO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只保留左边关系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的悬浮元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右外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IGHT OUTER JO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JO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7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只保留右边关系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中的悬浮元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1420200" y="1125720"/>
            <a:ext cx="41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图是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外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98560" y="1846440"/>
          <a:ext cx="7272360" cy="3814560"/>
        </p:xfrm>
        <a:graphic>
          <a:graphicData uri="http://schemas.openxmlformats.org/drawingml/2006/table">
            <a:tbl>
              <a:tblPr/>
              <a:tblGrid>
                <a:gridCol w="1817640"/>
                <a:gridCol w="1817640"/>
                <a:gridCol w="1819440"/>
                <a:gridCol w="181764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64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连接（续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490760" y="1197360"/>
            <a:ext cx="64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关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左外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右外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84360" y="1919160"/>
          <a:ext cx="3814560" cy="3095640"/>
        </p:xfrm>
        <a:graphic>
          <a:graphicData uri="http://schemas.openxmlformats.org/drawingml/2006/table">
            <a:tbl>
              <a:tblPr/>
              <a:tblGrid>
                <a:gridCol w="953640"/>
                <a:gridCol w="954000"/>
                <a:gridCol w="952560"/>
                <a:gridCol w="9543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4788000" y="1990800"/>
          <a:ext cx="3898800" cy="3011400"/>
        </p:xfrm>
        <a:graphic>
          <a:graphicData uri="http://schemas.openxmlformats.org/drawingml/2006/table">
            <a:tbl>
              <a:tblPr/>
              <a:tblGrid>
                <a:gridCol w="974880"/>
                <a:gridCol w="974520"/>
                <a:gridCol w="974880"/>
                <a:gridCol w="97452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</a:tbl>
          </a:graphicData>
        </a:graphic>
      </p:graphicFrame>
      <p:sp>
        <p:nvSpPr>
          <p:cNvPr id="588" name="Rectangle 6"/>
          <p:cNvSpPr/>
          <p:nvPr/>
        </p:nvSpPr>
        <p:spPr>
          <a:xfrm>
            <a:off x="2030040" y="5144400"/>
            <a:ext cx="58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 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3T00:29:48Z</dcterms:created>
  <dc:creator/>
  <dc:description/>
  <dc:language>en-US</dc:language>
  <cp:lastModifiedBy>ミ胸_怀ゞ</cp:lastModifiedBy>
  <dcterms:modified xsi:type="dcterms:W3CDTF">2020-09-30T01:00:25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721</vt:lpwstr>
  </property>
</Properties>
</file>