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7"/>
          </p:nvPr>
        </p:nvSpPr>
        <p:spPr>
          <a:xfrm>
            <a:off x="3870360" y="-360"/>
            <a:ext cx="2962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1138320" y="747720"/>
            <a:ext cx="45561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2200" y="4739760"/>
            <a:ext cx="546732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8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9"/>
          </p:nvPr>
        </p:nvSpPr>
        <p:spPr>
          <a:xfrm>
            <a:off x="3870360" y="9477000"/>
            <a:ext cx="29620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6696-4F39-44BA-AB6F-EE0F6802BD8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87800" cy="37418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2200" y="4739760"/>
            <a:ext cx="54673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灯片编号占位符 3"/>
          <p:cNvSpPr/>
          <p:nvPr/>
        </p:nvSpPr>
        <p:spPr>
          <a:xfrm>
            <a:off x="3870360" y="9477360"/>
            <a:ext cx="2962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E0FC-B537-437E-B4E1-2E63C71D5A8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822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33956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33956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95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-33840"/>
            <a:ext cx="8229600" cy="52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95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822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33956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33956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95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-33840"/>
            <a:ext cx="8229600" cy="52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3395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822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33956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33956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395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3395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-33840"/>
            <a:ext cx="8229600" cy="52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3395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822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33956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33956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-33840"/>
            <a:ext cx="8229600" cy="52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395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未命名_副本"/>
          <p:cNvPicPr/>
          <p:nvPr/>
        </p:nvPicPr>
        <p:blipFill>
          <a:blip r:embed="rId2"/>
          <a:srcRect l="1406" t="12911" r="2876" b="10757"/>
          <a:stretch/>
        </p:blipFill>
        <p:spPr>
          <a:xfrm>
            <a:off x="-15840" y="838080"/>
            <a:ext cx="9155160" cy="5784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图片2"/>
          <p:cNvPicPr/>
          <p:nvPr/>
        </p:nvPicPr>
        <p:blipFill>
          <a:blip r:embed="rId3"/>
          <a:stretch/>
        </p:blipFill>
        <p:spPr>
          <a:xfrm>
            <a:off x="-15840" y="6453360"/>
            <a:ext cx="9159840" cy="3981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图片2"/>
          <p:cNvPicPr/>
          <p:nvPr/>
        </p:nvPicPr>
        <p:blipFill>
          <a:blip r:embed="rId4"/>
          <a:stretch/>
        </p:blipFill>
        <p:spPr>
          <a:xfrm>
            <a:off x="-15840" y="-22320"/>
            <a:ext cx="9159840" cy="86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5510160" y="645480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 Introduction to Databas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WordArt 8"/>
          <p:cNvSpPr txBox="1"/>
          <p:nvPr/>
        </p:nvSpPr>
        <p:spPr>
          <a:xfrm rot="19620000">
            <a:off x="1907640" y="2204640"/>
            <a:ext cx="5337360" cy="29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miter/>
                </a:ln>
                <a:noFill/>
                <a:latin typeface="华文琥珀"/>
              </a:rPr>
              <a:t>中国人民大学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noFill/>
              <a:latin typeface="华文琥珀"/>
              <a:ea typeface="华文琥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noFill/>
              <a:latin typeface="华文琥珀"/>
              <a:ea typeface="华文琥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noFill/>
              <a:latin typeface="华文琥珀"/>
              <a:ea typeface="华文琥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miter/>
                </a:ln>
                <a:noFill/>
                <a:latin typeface="华文琥珀"/>
              </a:rPr>
              <a:t>数据库系统概论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noFill/>
              <a:latin typeface="华文琥珀"/>
              <a:ea typeface="华文琥珀"/>
            </a:endParaRPr>
          </a:p>
        </p:txBody>
      </p:sp>
      <p:pic>
        <p:nvPicPr>
          <p:cNvPr id="7" name="Picture 9" descr="图片3"/>
          <p:cNvPicPr/>
          <p:nvPr/>
        </p:nvPicPr>
        <p:blipFill>
          <a:blip r:embed="rId5"/>
          <a:stretch/>
        </p:blipFill>
        <p:spPr>
          <a:xfrm>
            <a:off x="7516800" y="4797360"/>
            <a:ext cx="1528920" cy="219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未命名_副本"/>
          <p:cNvPicPr/>
          <p:nvPr/>
        </p:nvPicPr>
        <p:blipFill>
          <a:blip r:embed="rId2"/>
          <a:srcRect l="1406" t="12911" r="2876" b="10757"/>
          <a:stretch/>
        </p:blipFill>
        <p:spPr>
          <a:xfrm>
            <a:off x="-15840" y="838080"/>
            <a:ext cx="9155160" cy="5784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图片2"/>
          <p:cNvPicPr/>
          <p:nvPr/>
        </p:nvPicPr>
        <p:blipFill>
          <a:blip r:embed="rId3"/>
          <a:stretch/>
        </p:blipFill>
        <p:spPr>
          <a:xfrm>
            <a:off x="-15840" y="6453360"/>
            <a:ext cx="9159840" cy="398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图片2"/>
          <p:cNvPicPr/>
          <p:nvPr/>
        </p:nvPicPr>
        <p:blipFill>
          <a:blip r:embed="rId4"/>
          <a:stretch/>
        </p:blipFill>
        <p:spPr>
          <a:xfrm>
            <a:off x="-15840" y="-22320"/>
            <a:ext cx="9159840" cy="8604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5510160" y="645480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 Introduction to Databas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8"/>
          <p:cNvSpPr txBox="1"/>
          <p:nvPr/>
        </p:nvSpPr>
        <p:spPr>
          <a:xfrm rot="19620000">
            <a:off x="1907640" y="2204640"/>
            <a:ext cx="5337360" cy="29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miter/>
                </a:ln>
                <a:noFill/>
                <a:latin typeface="华文琥珀"/>
              </a:rPr>
              <a:t>中国人民大学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noFill/>
              <a:latin typeface="华文琥珀"/>
              <a:ea typeface="华文琥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noFill/>
              <a:latin typeface="华文琥珀"/>
              <a:ea typeface="华文琥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noFill/>
              <a:latin typeface="华文琥珀"/>
              <a:ea typeface="华文琥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miter/>
                </a:ln>
                <a:noFill/>
                <a:latin typeface="华文琥珀"/>
              </a:rPr>
              <a:t>数据库系统概论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noFill/>
              <a:latin typeface="华文琥珀"/>
              <a:ea typeface="华文琥珀"/>
            </a:endParaRPr>
          </a:p>
        </p:txBody>
      </p:sp>
      <p:pic>
        <p:nvPicPr>
          <p:cNvPr id="49" name="Picture 9" descr="图片3"/>
          <p:cNvPicPr/>
          <p:nvPr/>
        </p:nvPicPr>
        <p:blipFill>
          <a:blip r:embed="rId5"/>
          <a:stretch/>
        </p:blipFill>
        <p:spPr>
          <a:xfrm>
            <a:off x="7516800" y="4797360"/>
            <a:ext cx="1528920" cy="2198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2"/>
          </p:nvPr>
        </p:nvSpPr>
        <p:spPr>
          <a:xfrm>
            <a:off x="5219280" y="6381360"/>
            <a:ext cx="36003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ntroduction to Databas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未命名_副本"/>
          <p:cNvPicPr/>
          <p:nvPr/>
        </p:nvPicPr>
        <p:blipFill>
          <a:blip r:embed="rId2"/>
          <a:srcRect l="1406" t="12911" r="2876" b="10757"/>
          <a:stretch/>
        </p:blipFill>
        <p:spPr>
          <a:xfrm>
            <a:off x="-15840" y="838080"/>
            <a:ext cx="9155160" cy="5784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图片2"/>
          <p:cNvPicPr/>
          <p:nvPr/>
        </p:nvPicPr>
        <p:blipFill>
          <a:blip r:embed="rId3"/>
          <a:stretch/>
        </p:blipFill>
        <p:spPr>
          <a:xfrm>
            <a:off x="-15840" y="6453360"/>
            <a:ext cx="9159840" cy="398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图片2"/>
          <p:cNvPicPr/>
          <p:nvPr/>
        </p:nvPicPr>
        <p:blipFill>
          <a:blip r:embed="rId4"/>
          <a:stretch/>
        </p:blipFill>
        <p:spPr>
          <a:xfrm>
            <a:off x="-15840" y="-22320"/>
            <a:ext cx="9159840" cy="8604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7"/>
          <p:cNvSpPr/>
          <p:nvPr/>
        </p:nvSpPr>
        <p:spPr>
          <a:xfrm>
            <a:off x="5510160" y="645480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 Introduction to Databas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8"/>
          <p:cNvSpPr txBox="1"/>
          <p:nvPr/>
        </p:nvSpPr>
        <p:spPr>
          <a:xfrm rot="19620000">
            <a:off x="1907640" y="2204640"/>
            <a:ext cx="5337360" cy="29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miter/>
                </a:ln>
                <a:noFill/>
                <a:latin typeface="华文琥珀"/>
              </a:rPr>
              <a:t>中国人民大学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noFill/>
              <a:latin typeface="华文琥珀"/>
              <a:ea typeface="华文琥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noFill/>
              <a:latin typeface="华文琥珀"/>
              <a:ea typeface="华文琥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noFill/>
              <a:latin typeface="华文琥珀"/>
              <a:ea typeface="华文琥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miter/>
                </a:ln>
                <a:noFill/>
                <a:latin typeface="华文琥珀"/>
              </a:rPr>
              <a:t>数据库系统概论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noFill/>
              <a:latin typeface="华文琥珀"/>
              <a:ea typeface="华文琥珀"/>
            </a:endParaRPr>
          </a:p>
        </p:txBody>
      </p:sp>
      <p:pic>
        <p:nvPicPr>
          <p:cNvPr id="95" name="Picture 9" descr="图片3"/>
          <p:cNvPicPr/>
          <p:nvPr/>
        </p:nvPicPr>
        <p:blipFill>
          <a:blip r:embed="rId5"/>
          <a:stretch/>
        </p:blipFill>
        <p:spPr>
          <a:xfrm>
            <a:off x="7516800" y="4797360"/>
            <a:ext cx="1528920" cy="21988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3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4"/>
          </p:nvPr>
        </p:nvSpPr>
        <p:spPr>
          <a:xfrm>
            <a:off x="5219280" y="6381360"/>
            <a:ext cx="36003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ntroduction to Databas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未命名_副本"/>
          <p:cNvPicPr/>
          <p:nvPr/>
        </p:nvPicPr>
        <p:blipFill>
          <a:blip r:embed="rId2"/>
          <a:srcRect l="1406" t="12911" r="2876" b="10757"/>
          <a:stretch/>
        </p:blipFill>
        <p:spPr>
          <a:xfrm>
            <a:off x="-15840" y="838080"/>
            <a:ext cx="9155160" cy="5784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图片2"/>
          <p:cNvPicPr/>
          <p:nvPr/>
        </p:nvPicPr>
        <p:blipFill>
          <a:blip r:embed="rId3"/>
          <a:stretch/>
        </p:blipFill>
        <p:spPr>
          <a:xfrm>
            <a:off x="-15840" y="6453360"/>
            <a:ext cx="9159840" cy="398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图片2"/>
          <p:cNvPicPr/>
          <p:nvPr/>
        </p:nvPicPr>
        <p:blipFill>
          <a:blip r:embed="rId4"/>
          <a:stretch/>
        </p:blipFill>
        <p:spPr>
          <a:xfrm>
            <a:off x="-15840" y="-22320"/>
            <a:ext cx="9159840" cy="8604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7"/>
          <p:cNvSpPr/>
          <p:nvPr/>
        </p:nvSpPr>
        <p:spPr>
          <a:xfrm>
            <a:off x="5510160" y="645480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 Introduction to Databas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8"/>
          <p:cNvSpPr txBox="1"/>
          <p:nvPr/>
        </p:nvSpPr>
        <p:spPr>
          <a:xfrm rot="19620000">
            <a:off x="1907640" y="2204640"/>
            <a:ext cx="5337360" cy="29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miter/>
                </a:ln>
                <a:noFill/>
                <a:latin typeface="华文琥珀"/>
              </a:rPr>
              <a:t>中国人民大学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noFill/>
              <a:latin typeface="华文琥珀"/>
              <a:ea typeface="华文琥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noFill/>
              <a:latin typeface="华文琥珀"/>
              <a:ea typeface="华文琥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noFill/>
              <a:latin typeface="华文琥珀"/>
              <a:ea typeface="华文琥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miter/>
                </a:ln>
                <a:noFill/>
                <a:latin typeface="华文琥珀"/>
              </a:rPr>
              <a:t>数据库系统概论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noFill/>
              <a:latin typeface="华文琥珀"/>
              <a:ea typeface="华文琥珀"/>
            </a:endParaRPr>
          </a:p>
        </p:txBody>
      </p:sp>
      <p:pic>
        <p:nvPicPr>
          <p:cNvPr id="141" name="Picture 9" descr="图片3"/>
          <p:cNvPicPr/>
          <p:nvPr/>
        </p:nvPicPr>
        <p:blipFill>
          <a:blip r:embed="rId5"/>
          <a:stretch/>
        </p:blipFill>
        <p:spPr>
          <a:xfrm>
            <a:off x="7516800" y="4797360"/>
            <a:ext cx="1528920" cy="21988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5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6"/>
          </p:nvPr>
        </p:nvSpPr>
        <p:spPr>
          <a:xfrm>
            <a:off x="5219280" y="6381360"/>
            <a:ext cx="36003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ntroduction to Databas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4"/>
          <p:cNvSpPr/>
          <p:nvPr/>
        </p:nvSpPr>
        <p:spPr>
          <a:xfrm>
            <a:off x="324000" y="620640"/>
            <a:ext cx="82087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数据库系统概论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 Introduction to Databas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1692360" y="5568840"/>
            <a:ext cx="525600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中国人民大学信息学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611280" y="378936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第三章 关系数据库标准语言</a:t>
            </a:r>
            <a:r>
              <a:rPr b="1" lang="en-US" sz="4400" spc="-1" strike="noStrike">
                <a:solidFill>
                  <a:srgbClr val="ffffff"/>
                </a:solidFill>
                <a:latin typeface="黑体"/>
                <a:ea typeface="黑体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以同一种语法结构提供多种使用方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独立的语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够独立地用于联机交互的使用方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又是嵌入式语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够嵌入到高级语言（例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+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程序中，供程序员设计程序时使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73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语言简洁，易学易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77151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功能极强，完成核心功能只用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动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2"/>
          <p:cNvGraphicFramePr/>
          <p:nvPr/>
        </p:nvGraphicFramePr>
        <p:xfrm>
          <a:off x="258840" y="2360520"/>
          <a:ext cx="8267760" cy="369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840" y="2360520"/>
                    <a:ext cx="8267760" cy="369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1 SQL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1280" y="1339560"/>
            <a:ext cx="807552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1.1  SQ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产生与发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1.2  SQ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特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3.1.3  SQL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的基本概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的基本概念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Group 1055"/>
          <p:cNvGrpSpPr/>
          <p:nvPr/>
        </p:nvGrpSpPr>
        <p:grpSpPr>
          <a:xfrm>
            <a:off x="755640" y="2036880"/>
            <a:ext cx="7561440" cy="3816360"/>
            <a:chOff x="755640" y="2036880"/>
            <a:chExt cx="7561440" cy="3816360"/>
          </a:xfrm>
        </p:grpSpPr>
        <p:sp>
          <p:nvSpPr>
            <p:cNvPr id="224" name="Rectangle 1028"/>
            <p:cNvSpPr/>
            <p:nvPr/>
          </p:nvSpPr>
          <p:spPr>
            <a:xfrm>
              <a:off x="2556000" y="2036880"/>
              <a:ext cx="1150920" cy="576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bbbb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Q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029"/>
            <p:cNvSpPr/>
            <p:nvPr/>
          </p:nvSpPr>
          <p:spPr>
            <a:xfrm>
              <a:off x="5219640" y="3116520"/>
              <a:ext cx="1150920" cy="576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bbbb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视图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030"/>
            <p:cNvSpPr/>
            <p:nvPr/>
          </p:nvSpPr>
          <p:spPr>
            <a:xfrm>
              <a:off x="2556000" y="3116520"/>
              <a:ext cx="1150920" cy="576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bbbb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视图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031"/>
            <p:cNvSpPr/>
            <p:nvPr/>
          </p:nvSpPr>
          <p:spPr>
            <a:xfrm>
              <a:off x="2627280" y="4197600"/>
              <a:ext cx="1150920" cy="576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bbbb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基本表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032"/>
            <p:cNvSpPr/>
            <p:nvPr/>
          </p:nvSpPr>
          <p:spPr>
            <a:xfrm>
              <a:off x="898560" y="4197600"/>
              <a:ext cx="1150920" cy="576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bbbb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基本表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033"/>
            <p:cNvSpPr/>
            <p:nvPr/>
          </p:nvSpPr>
          <p:spPr>
            <a:xfrm>
              <a:off x="4356000" y="4197600"/>
              <a:ext cx="1150920" cy="576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bbbb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基本表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034"/>
            <p:cNvSpPr/>
            <p:nvPr/>
          </p:nvSpPr>
          <p:spPr>
            <a:xfrm>
              <a:off x="6012000" y="4197600"/>
              <a:ext cx="1150920" cy="576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bbbb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基本表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035"/>
            <p:cNvSpPr/>
            <p:nvPr/>
          </p:nvSpPr>
          <p:spPr>
            <a:xfrm>
              <a:off x="6012000" y="5205600"/>
              <a:ext cx="1187280" cy="576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bbbb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存储文件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036"/>
            <p:cNvSpPr/>
            <p:nvPr/>
          </p:nvSpPr>
          <p:spPr>
            <a:xfrm>
              <a:off x="2627280" y="5276880"/>
              <a:ext cx="1187640" cy="576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bbbb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存储文件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037"/>
            <p:cNvSpPr/>
            <p:nvPr/>
          </p:nvSpPr>
          <p:spPr>
            <a:xfrm flipH="1">
              <a:off x="1186920" y="2613240"/>
              <a:ext cx="1584360" cy="158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038"/>
            <p:cNvSpPr/>
            <p:nvPr/>
          </p:nvSpPr>
          <p:spPr>
            <a:xfrm>
              <a:off x="3059280" y="2613240"/>
              <a:ext cx="0" cy="50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039"/>
            <p:cNvSpPr/>
            <p:nvPr/>
          </p:nvSpPr>
          <p:spPr>
            <a:xfrm>
              <a:off x="3059280" y="3692520"/>
              <a:ext cx="0" cy="50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040"/>
            <p:cNvSpPr/>
            <p:nvPr/>
          </p:nvSpPr>
          <p:spPr>
            <a:xfrm>
              <a:off x="3059280" y="4772160"/>
              <a:ext cx="0" cy="50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043"/>
            <p:cNvSpPr/>
            <p:nvPr/>
          </p:nvSpPr>
          <p:spPr>
            <a:xfrm>
              <a:off x="3492360" y="2613240"/>
              <a:ext cx="2087640" cy="50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044"/>
            <p:cNvSpPr/>
            <p:nvPr/>
          </p:nvSpPr>
          <p:spPr>
            <a:xfrm flipH="1">
              <a:off x="5003280" y="3692520"/>
              <a:ext cx="505080" cy="505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045"/>
            <p:cNvSpPr/>
            <p:nvPr/>
          </p:nvSpPr>
          <p:spPr>
            <a:xfrm>
              <a:off x="6012000" y="3692520"/>
              <a:ext cx="792000" cy="505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046"/>
            <p:cNvSpPr/>
            <p:nvPr/>
          </p:nvSpPr>
          <p:spPr>
            <a:xfrm>
              <a:off x="1332000" y="4772160"/>
              <a:ext cx="1655640" cy="50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047"/>
            <p:cNvSpPr/>
            <p:nvPr/>
          </p:nvSpPr>
          <p:spPr>
            <a:xfrm flipH="1">
              <a:off x="3203640" y="4772160"/>
              <a:ext cx="1728720" cy="50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048"/>
            <p:cNvSpPr/>
            <p:nvPr/>
          </p:nvSpPr>
          <p:spPr>
            <a:xfrm>
              <a:off x="6588000" y="4772160"/>
              <a:ext cx="0" cy="43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049"/>
            <p:cNvSpPr/>
            <p:nvPr/>
          </p:nvSpPr>
          <p:spPr>
            <a:xfrm>
              <a:off x="755640" y="2828880"/>
              <a:ext cx="720108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050"/>
            <p:cNvSpPr/>
            <p:nvPr/>
          </p:nvSpPr>
          <p:spPr>
            <a:xfrm>
              <a:off x="789120" y="3875040"/>
              <a:ext cx="7200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051"/>
            <p:cNvSpPr/>
            <p:nvPr/>
          </p:nvSpPr>
          <p:spPr>
            <a:xfrm>
              <a:off x="789120" y="5037120"/>
              <a:ext cx="7200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052"/>
            <p:cNvSpPr/>
            <p:nvPr/>
          </p:nvSpPr>
          <p:spPr>
            <a:xfrm>
              <a:off x="7164360" y="326088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外模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053"/>
            <p:cNvSpPr/>
            <p:nvPr/>
          </p:nvSpPr>
          <p:spPr>
            <a:xfrm>
              <a:off x="7164360" y="426888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模 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054"/>
            <p:cNvSpPr/>
            <p:nvPr/>
          </p:nvSpPr>
          <p:spPr>
            <a:xfrm>
              <a:off x="7235640" y="534852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内模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1056"/>
          <p:cNvSpPr/>
          <p:nvPr/>
        </p:nvSpPr>
        <p:spPr>
          <a:xfrm>
            <a:off x="1340640" y="1098720"/>
            <a:ext cx="37684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支持关系数据库三级模式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的基本概念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09512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身独立存在的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一个关系就对应一个基本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多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基本表对应一个存储文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表可以带若干索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的基本概念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09512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存储文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逻辑结构组成了关系数据库的内模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物理结构对用户是隐蔽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的基本概念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09512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视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一个或几个基本表导出的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库中只存放视图的定义而不存放视图对应的数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视图是一个虚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户可以在视图上再定义视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第三章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关系数据库标准语言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SQ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71640" y="1127160"/>
            <a:ext cx="6508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1 SQ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概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3.2 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学生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课程数据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定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查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更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空值的处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视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2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课程 数据库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339560"/>
            <a:ext cx="843588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程模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-T :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生表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n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Sname,Ssex,Sage,Sdep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程表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n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Cname,Cpno,Ccredi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生选课表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no,Cn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Grad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udent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表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11280" y="1773360"/>
          <a:ext cx="8180280" cy="3195360"/>
        </p:xfrm>
        <a:graphic>
          <a:graphicData uri="http://schemas.openxmlformats.org/drawingml/2006/table">
            <a:tbl>
              <a:tblPr/>
              <a:tblGrid>
                <a:gridCol w="1584360"/>
                <a:gridCol w="1304640"/>
                <a:gridCol w="1812960"/>
                <a:gridCol w="1828800"/>
                <a:gridCol w="164952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学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姓名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性别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se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年龄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所在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dep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151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李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151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刘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151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王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1512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张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页脚占位符 4"/>
          <p:cNvSpPr/>
          <p:nvPr/>
        </p:nvSpPr>
        <p:spPr>
          <a:xfrm>
            <a:off x="5219640" y="6381720"/>
            <a:ext cx="36003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第三章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关系数据库标准语言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SQ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71640" y="1098360"/>
            <a:ext cx="65088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3.1 SQL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概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程数据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定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查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更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空值的处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视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urse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表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914400" y="1627200"/>
          <a:ext cx="7175520" cy="4103640"/>
        </p:xfrm>
        <a:graphic>
          <a:graphicData uri="http://schemas.openxmlformats.org/drawingml/2006/table">
            <a:tbl>
              <a:tblPr/>
              <a:tblGrid>
                <a:gridCol w="1584360"/>
                <a:gridCol w="1949400"/>
                <a:gridCol w="1812960"/>
                <a:gridCol w="1828800"/>
              </a:tblGrid>
              <a:tr h="892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课程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课程名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先行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credi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据库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信息系统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操作系统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据结构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据处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CAL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语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763640" y="1700280"/>
          <a:ext cx="5346720" cy="3186000"/>
        </p:xfrm>
        <a:graphic>
          <a:graphicData uri="http://schemas.openxmlformats.org/drawingml/2006/table">
            <a:tbl>
              <a:tblPr/>
              <a:tblGrid>
                <a:gridCol w="1584360"/>
                <a:gridCol w="1949400"/>
                <a:gridCol w="1812960"/>
              </a:tblGrid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 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课程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成绩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151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15121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15121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151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151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第三章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关系数据库标准语言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SQ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71640" y="1125360"/>
            <a:ext cx="6508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1 SQ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概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程数据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3.3 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数据定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查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更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空值的处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视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3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数据定义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9" name="Object 2"/>
          <p:cNvGraphicFramePr/>
          <p:nvPr/>
        </p:nvGraphicFramePr>
        <p:xfrm>
          <a:off x="-219240" y="3138480"/>
          <a:ext cx="9582480" cy="326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19240" y="3138480"/>
                    <a:ext cx="9582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Rectangle 4"/>
          <p:cNvSpPr/>
          <p:nvPr/>
        </p:nvSpPr>
        <p:spPr>
          <a:xfrm>
            <a:off x="393840" y="1193040"/>
            <a:ext cx="7961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数据定义功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模式定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定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视图和索引的定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15880" y="188640"/>
            <a:ext cx="6105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模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85920" y="3573000"/>
            <a:ext cx="86500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现代关系数据库管理系统提供了一个层次化的数据库对象命名机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关系数据库管理系统的实例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anc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中可以建立多个数据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数据库中可以建立多个模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模式下通常包括多个表、视图和索引等数据库对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2627280" y="1157400"/>
            <a:ext cx="3529080" cy="220032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12"/>
          <p:cNvSpPr/>
          <p:nvPr/>
        </p:nvSpPr>
        <p:spPr>
          <a:xfrm>
            <a:off x="2738520" y="1300320"/>
            <a:ext cx="392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数据库（有的系统称为目录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0"/>
          <p:cNvSpPr/>
          <p:nvPr/>
        </p:nvSpPr>
        <p:spPr>
          <a:xfrm>
            <a:off x="4248000" y="1700280"/>
            <a:ext cx="252720" cy="409680"/>
          </a:xfrm>
          <a:prstGeom prst="downArrow">
            <a:avLst>
              <a:gd name="adj1" fmla="val 50000"/>
              <a:gd name="adj2" fmla="val 58209"/>
            </a:avLst>
          </a:prstGeom>
          <a:solidFill>
            <a:srgbClr val="ffffff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14"/>
          <p:cNvSpPr/>
          <p:nvPr/>
        </p:nvSpPr>
        <p:spPr>
          <a:xfrm>
            <a:off x="4068720" y="21099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模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15"/>
          <p:cNvSpPr/>
          <p:nvPr/>
        </p:nvSpPr>
        <p:spPr>
          <a:xfrm>
            <a:off x="3119400" y="2813040"/>
            <a:ext cx="26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表以及视图、索引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0"/>
          <p:cNvSpPr/>
          <p:nvPr/>
        </p:nvSpPr>
        <p:spPr>
          <a:xfrm>
            <a:off x="4284720" y="2473200"/>
            <a:ext cx="249120" cy="411120"/>
          </a:xfrm>
          <a:prstGeom prst="downArrow">
            <a:avLst>
              <a:gd name="adj1" fmla="val 50000"/>
              <a:gd name="adj2" fmla="val 58226"/>
            </a:avLst>
          </a:prstGeom>
          <a:solidFill>
            <a:srgbClr val="ffffff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3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数据定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11280" y="1339560"/>
            <a:ext cx="807552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3.3.1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模式的定义与删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3.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表的定义、删除与修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3.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索引的建立与删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定义模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840" y="1098720"/>
            <a:ext cx="9047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1]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用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定义一个学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课程模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-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SCHEMA “S-T” AUTHORIZATION WANG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2] CREATE SCHEMA AUTHORIZATION WA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该语句没有指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模式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模式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隐含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户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定义模式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定义模式实际上定义了一个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命名空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这个空间中可以定义该模式包含的数据库对象，例如基本表、视图、索引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SCHEM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可以接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TABL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VIEW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N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子句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SCHEMA &l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模式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AUTHORIZATION &l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户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[&l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定义子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|&l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视图定义子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|&l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授权定义子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定义模式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3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用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HA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创建了一个模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并且在其中定义一个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SCHEMA TEST AUTHORIZATION ZHA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TABLE TAB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(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1 SMALLINT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2 INT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3 CHA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4 NUMERI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,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5 DECIMA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,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删除模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09836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OP SCHEMA &l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模式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&lt;CASCADE|RESTRICT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CA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级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SzPct val="87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删除模式的同时把该模式中所有的数据库对象全部删除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TRI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限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SzPct val="87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如果该模式中定义了下属的数据库对象（如表、视图等），则拒绝该删除语句的执行。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SzPct val="87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仅当该模式中没有任何下属的对象时才能执行。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1 SQL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ed Query Languag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构化查询语言，是关系数据库的标准语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一个通用的、功能极强的关系数据库语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删除模式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4]  DROP SCHEMA ZHANG CASCAD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删除模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HA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同时该模式中定义的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也被删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3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数据定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4000" y="1339560"/>
            <a:ext cx="800244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3.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模式的定义与删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3.3.2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基本表的定义、删除与修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3.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索引的建立与删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3.2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基本表的定义、删除与修改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8000" y="980640"/>
            <a:ext cx="903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定义基本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EATE TABLE &lt;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表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列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gt; &lt;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数据类型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gt;[ &lt;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列级完整性约束条件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gt; ]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列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gt; &lt;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数据类型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gt;[ &lt;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列级完整性约束条件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gt;] ]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表级完整性约束条件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gt; ]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&lt;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表名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所要定义的基本表的名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&lt;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列名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组成该表的各个属性（列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&lt;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列级完整性约束条件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涉及相应属性列的完整性约束条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&lt;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表级完整性约束条件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涉及一个或多个属性列的完整性约束条件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完整性约束条件涉及到该表的多个属性列，则必须定义在表级上，否则既可以定义在列级也可以定义在表级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学生表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ud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098360"/>
            <a:ext cx="8867880" cy="42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5]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建立“学生”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学号是主码，姓名取值唯一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TABLE Student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o   CHA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PRIMARY KE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列级完整性约束条件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Sno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主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ame CHA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UNIQU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* Snam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取唯一值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ex    CHA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ge   SMALLIN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dept  CHA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7"/>
          <p:cNvSpPr/>
          <p:nvPr/>
        </p:nvSpPr>
        <p:spPr>
          <a:xfrm>
            <a:off x="6156360" y="1595520"/>
            <a:ext cx="914400" cy="609480"/>
          </a:xfrm>
          <a:prstGeom prst="wedgeRoundRectCallout">
            <a:avLst>
              <a:gd name="adj1" fmla="val -151287"/>
              <a:gd name="adj2" fmla="val 79305"/>
              <a:gd name="adj3" fmla="val 16667"/>
            </a:avLst>
          </a:prstGeom>
          <a:gradFill rotWithShape="0">
            <a:gsLst>
              <a:gs pos="0">
                <a:srgbClr val="ccffff">
                  <a:alpha val="73333"/>
                </a:srgbClr>
              </a:gs>
              <a:gs pos="100000">
                <a:srgbClr val="b9cc4a"/>
              </a:gs>
            </a:gsLst>
            <a:lin ang="5400000"/>
          </a:grad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主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6156360" y="3700440"/>
            <a:ext cx="1079640" cy="609480"/>
          </a:xfrm>
          <a:prstGeom prst="wedgeRoundRectCallout">
            <a:avLst>
              <a:gd name="adj1" fmla="val -196078"/>
              <a:gd name="adj2" fmla="val -87884"/>
              <a:gd name="adj3" fmla="val 16667"/>
            </a:avLst>
          </a:prstGeom>
          <a:gradFill rotWithShape="0">
            <a:gsLst>
              <a:gs pos="0">
                <a:srgbClr val="ccffff">
                  <a:alpha val="73333"/>
                </a:srgbClr>
              </a:gs>
              <a:gs pos="100000">
                <a:srgbClr val="b9cc4a"/>
              </a:gs>
            </a:gsLst>
            <a:lin ang="5400000"/>
          </a:grad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约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课程表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urs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8000" y="1098720"/>
            <a:ext cx="9036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6 ]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建立一个“课程”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r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TABLE  Cour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no       CHA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IMARY KE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name  CHA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,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no     CHA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,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redit  SMALLIN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EIGN KEY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n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FERENCES  Cour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n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6"/>
          <p:cNvSpPr/>
          <p:nvPr/>
        </p:nvSpPr>
        <p:spPr>
          <a:xfrm>
            <a:off x="5867280" y="2565360"/>
            <a:ext cx="1008360" cy="528840"/>
          </a:xfrm>
          <a:prstGeom prst="wedgeRoundRectCallout">
            <a:avLst>
              <a:gd name="adj1" fmla="val -211300"/>
              <a:gd name="adj2" fmla="val 58407"/>
              <a:gd name="adj3" fmla="val 16667"/>
            </a:avLst>
          </a:prstGeom>
          <a:gradFill rotWithShape="0">
            <a:gsLst>
              <a:gs pos="0">
                <a:srgbClr val="c4f2d2"/>
              </a:gs>
              <a:gs pos="100000">
                <a:srgbClr val="f6fdf8"/>
              </a:gs>
            </a:gsLst>
            <a:lin ang="5400000"/>
          </a:gradFill>
          <a:ln w="25560">
            <a:solidFill>
              <a:srgbClr val="cfde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先修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8"/>
          <p:cNvSpPr/>
          <p:nvPr/>
        </p:nvSpPr>
        <p:spPr>
          <a:xfrm>
            <a:off x="4714920" y="4586400"/>
            <a:ext cx="2448000" cy="1008000"/>
          </a:xfrm>
          <a:prstGeom prst="wedgeRoundRectCallout">
            <a:avLst>
              <a:gd name="adj1" fmla="val -58754"/>
              <a:gd name="adj2" fmla="val -83856"/>
              <a:gd name="adj3" fmla="val 16667"/>
            </a:avLst>
          </a:prstGeom>
          <a:gradFill rotWithShape="0">
            <a:gsLst>
              <a:gs pos="0">
                <a:srgbClr val="c4f2d2"/>
              </a:gs>
              <a:gs pos="100000">
                <a:srgbClr val="e9faee"/>
              </a:gs>
            </a:gsLst>
            <a:lin ang="5400000"/>
          </a:grad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n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是外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被参照表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被参照列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学生选课表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098720"/>
            <a:ext cx="8229600" cy="48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7]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建立一个学生选课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EATE TABLE  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no  CHAR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no  CHAR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),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de  SMALLINT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MARY KEY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no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no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),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主码由两个属性构成，必须作为表级完整性进行定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EIGN KEY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no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REFERENCES Student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no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表级完整性约束条件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n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是外码，被参照表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ent 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EIGN KEY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no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S Course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no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表级完整性约束条件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是外码，被参照表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rse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数据类型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19120" y="12682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域的概念用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数据类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实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定义表的属性时需要指明其数据类型及长度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用哪种数据类型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取值范围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要做哪些运算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数据类型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571680" y="981000"/>
          <a:ext cx="8126280" cy="5243760"/>
        </p:xfrm>
        <a:graphic>
          <a:graphicData uri="http://schemas.openxmlformats.org/drawingml/2006/table">
            <a:tbl>
              <a:tblPr/>
              <a:tblGrid>
                <a:gridCol w="3136680"/>
                <a:gridCol w="49896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数据类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含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R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CHARACTER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长度为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的定长字符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CHAR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CHARACTERVARYING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最大长度为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的变长字符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O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字符串大对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O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二进制大对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长整数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字节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MALL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短整数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字节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G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大整数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字节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ERIC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，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定点数，由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位数字（不包括符号、小数点）组成，小数后面有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位数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IMAL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DEC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ER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取决于机器精度的单精度浮点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UBLE PRECI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取决于机器精度的双精度浮点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OAT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可选精度的浮点数，精度至少为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位数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OLE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逻辑布尔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日期，包含年、月、日，格式为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YYY-MM-D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时间，包含一日的时、分、秒，格式为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:MM: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STA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时间戳类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时间间隔类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模式与表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23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一个基本表都属于某一个模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模式包含多个基本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定义基本表所属模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方法一：在表名中明显地给出模式名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tabl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-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Studen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*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模式名为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-T*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table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-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Courc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table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-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S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方法二：在创建模式语句中同时创建表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方法三：设置所属的模式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模式与表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85920" y="1098360"/>
            <a:ext cx="8434080" cy="45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创建基本表（其他数据库对象也一样）时，若没有指定模式，系统根据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搜索路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确定该对象所属的模式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数据库管理系统会使用模式列表中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第一个存在的模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为数据库对象的模式名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搜索路径中的模式名都不存在，系统将给出错误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显示当前的搜索路径：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W search_path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搜索路径的当前默认值是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us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页脚占位符 4"/>
          <p:cNvSpPr/>
          <p:nvPr/>
        </p:nvSpPr>
        <p:spPr>
          <a:xfrm>
            <a:off x="5219640" y="6381720"/>
            <a:ext cx="36003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概述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6560" y="1339560"/>
            <a:ext cx="785988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3.1.1  SQL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的产生与发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1.2  SQ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特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1.3  SQ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基本概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模式与表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库管理员用户可以设置搜索路径，然后定义基本表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SET search_path TO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-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table Studen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果建立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-T.Studen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基本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关系数据库管理系统发现搜索路径中第一个模式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-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就把该模式作为基本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属的模式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修改基本表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78544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 TABLE &l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 ADD[COLUMN] &lt;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新列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gt; &lt;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数据类型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gt; [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完整性约束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] ]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 ADD &lt;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表级完整性约束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gt;]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 DROP [ COLUMN ] &lt;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列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gt; [CASCADE| RESTRICT] ]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 DROP CONSTRAINT&lt;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完整性约束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gt;[ RESTRICT | CASCADE 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ALTER COLUMN &lt;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列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gt;&lt;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数据类型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修改基本表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05408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要修改的基本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AD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子句用于增加新列、新的列级完整性约束条件和新的表级完整性约束条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DROP COLUM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子句用于删除表中的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果指定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CAD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短语，则自动删除引用了该列的其他对象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果指定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TRIC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短语，则如果该列被其他对象引用，关系数据库管理系统将拒绝删除该列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DROP CONSTRAIN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子句用于删除指定的完整性约束条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ALTER COLUM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子句用于修改原有的列定义，包括修改列名和数据类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修改基本表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0" y="1098360"/>
            <a:ext cx="8820000" cy="50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8]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增加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入学时间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列，其数据类型为日期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 TABLE Student ADD S_entrance DAT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管基本表中原来是否已有数据，新增加的列一律为空值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修改基本表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24000" y="1098360"/>
            <a:ext cx="8362800" cy="50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9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年龄的数据类型由字符型（假设原来的数据类型是字符型）改为整数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 TABLE Student ALTER COLUMN Sage IN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10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增加课程名称必须取唯一值的约束条件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 TABLE Course ADD UNIQU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nam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删除基本表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53452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OP TABLE &lt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TRICT| CASCAD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TRIC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删除表是有限制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欲删除的基本表不能被其他表的约束所引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存在依赖该表的对象，则此表不能被删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SCAD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删除该表没有限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删除基本表的同时，相关的依赖对象一起删除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删除基本表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11]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删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OP TABLE  Student  CASCADE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基本表定义被删除，数据被删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上建立的索引、视图、触发器等一般也将被删除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删除基本表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8000" y="1098720"/>
            <a:ext cx="9036000" cy="54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12 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若表上建有视图，选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TRIC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表不能删除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CAD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可以删除表，视图也自动删除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VIEW IS_Student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Sno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nam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 Stu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Sdept='IS'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OP TABLE Student RESTRICT;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ERR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cannot drop table Student because other objects depend on 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删除基本表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选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CAD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可以删除表，视图也自动被删除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OP TABLE Student CASCADE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NOTI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drop cascades to view IS_Stud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* FROM IS_Studen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ERR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relation " IS_Student " does not exis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删除基本表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1827360" y="1927080"/>
            <a:ext cx="29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67"/>
          <p:cNvSpPr/>
          <p:nvPr/>
        </p:nvSpPr>
        <p:spPr>
          <a:xfrm>
            <a:off x="4599000" y="229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388800" y="1197000"/>
          <a:ext cx="8575920" cy="4737240"/>
        </p:xfrm>
        <a:graphic>
          <a:graphicData uri="http://schemas.openxmlformats.org/drawingml/2006/table">
            <a:tbl>
              <a:tblPr/>
              <a:tblGrid>
                <a:gridCol w="435240"/>
                <a:gridCol w="2900160"/>
                <a:gridCol w="615960"/>
                <a:gridCol w="520920"/>
                <a:gridCol w="742680"/>
                <a:gridCol w="746280"/>
                <a:gridCol w="684000"/>
                <a:gridCol w="756000"/>
                <a:gridCol w="1174680"/>
              </a:tblGrid>
              <a:tr h="9147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标准及主流数据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的处理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依赖基本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的对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QL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ingbase 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cle 12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S SQ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rver 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索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无规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视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保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保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保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AULT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MARY KEY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CK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（只含该表的列）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NULL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等约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外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EIGN 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触发器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IG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函数或存储过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保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保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保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保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保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6" name="Text Box 873"/>
          <p:cNvSpPr/>
          <p:nvPr/>
        </p:nvSpPr>
        <p:spPr>
          <a:xfrm>
            <a:off x="248040" y="868320"/>
            <a:ext cx="692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OP TABL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QL2011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与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DBM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处理策略比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876"/>
          <p:cNvSpPr/>
          <p:nvPr/>
        </p:nvSpPr>
        <p:spPr>
          <a:xfrm>
            <a:off x="250920" y="5877000"/>
            <a:ext cx="88930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TRICT , C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SC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'×'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表示不能删除基本表，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'√'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表示能删除基本表，‘保留’表示删除基本表后，还保留依赖对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直接连接符 14"/>
          <p:cNvSpPr/>
          <p:nvPr/>
        </p:nvSpPr>
        <p:spPr>
          <a:xfrm>
            <a:off x="826920" y="1197000"/>
            <a:ext cx="288144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0620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标准的进展过程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17560" y="1557360"/>
          <a:ext cx="7083360" cy="3778200"/>
        </p:xfrm>
        <a:graphic>
          <a:graphicData uri="http://schemas.openxmlformats.org/drawingml/2006/table">
            <a:tbl>
              <a:tblPr/>
              <a:tblGrid>
                <a:gridCol w="2922480"/>
                <a:gridCol w="2038320"/>
                <a:gridCol w="2122560"/>
              </a:tblGrid>
              <a:tr h="3988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标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致页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发布日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</a:tr>
              <a:tr h="475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L/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6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</a:tr>
              <a:tr h="4618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L/89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PS 127-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</a:tr>
              <a:tr h="4755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L/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</a:tr>
              <a:tr h="475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L99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L 3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</a:tr>
              <a:tr h="475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L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</a:tr>
              <a:tr h="3988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L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7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</a:tr>
              <a:tr h="615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L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</a:tr>
            </a:tbl>
          </a:graphicData>
        </a:graphic>
      </p:graphicFrame>
      <p:sp>
        <p:nvSpPr>
          <p:cNvPr id="205" name="Rectangle 3"/>
          <p:cNvSpPr/>
          <p:nvPr/>
        </p:nvSpPr>
        <p:spPr>
          <a:xfrm>
            <a:off x="250920" y="5589720"/>
            <a:ext cx="8893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目前，没有一个数据库系统能够支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标准的所有概念和特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3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数据定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1280" y="1339560"/>
            <a:ext cx="807552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3.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模式的定义与删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3.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表的定义、删除与修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3.3.3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索引的建立与删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3.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字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3.3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索引的建立与删除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立索引的目的：加快查询速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数据库管理系统中常见索引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顺序文件上的索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树索引（参见爱课程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节动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树的增删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散列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索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图索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点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树索引具有动态平衡的优点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索引具有查找速度快的特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索  引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谁可以建立索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库管理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 表的属主（即建立表的人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谁维护索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关系数据库管理系统自动完成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索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关系数据库管理系统自动选择合适的索引作为存取路径，用户不必也不能显式地选择索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建立索引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52000" y="1100160"/>
            <a:ext cx="8712360" cy="53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语句格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[UNIQUE] [CLUSTER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DEX &l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索引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&l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(&l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列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[&l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次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][,&l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列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[&l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次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] ]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&lt;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表名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&gt;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要建索引的基本表的名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索引：可以建立在该表的一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多列上，各列名之间用逗号分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&lt;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次序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&gt;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定索引值的排列次序，升序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降序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缺省值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UNIQUE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此索引的每一个索引值只对应唯一的数据记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CLUSTER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要建立的索引是聚簇索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1612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建立索引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7640" y="982440"/>
            <a:ext cx="893772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13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学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课程数据库中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个表建立索引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按学号升序建唯一索引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按课程号升序建唯一索引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按学号升序和课程号降序建唯一索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EATE UNIQUE INDEX  Stusno ON Student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no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EATE UNIQUE INDEX  Coucno ON Course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no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EATE UNIQUE INDEX  SCno ON SC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no ASC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no DESC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修改索引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AL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EX &lt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旧索引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 RENAME TO &lt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新索引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14]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n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索引名改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Sn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 INDEX SCno RENAME TO SCSno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删除索引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DRO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DEX &lt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索引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删除索引时，系统会从数据字典中删去有关该索引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描述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15]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删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snam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索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OP INDEX Stusnam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3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数据定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1280" y="1339560"/>
            <a:ext cx="807552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3.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模式的定义与删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3.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表的定义、删除与修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3.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索引的建立与删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3.3.4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数据字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数据字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19664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字典是关系数据库管理系统内部的一组系统表，它记录了数据库中所有定义信息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关系模式定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视图定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索引定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完整性约束定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各类用户对数据库的操作权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统计信息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数据库管理系统在执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数据定义语句时，实际上就是在更新数据字典表中的相应信息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第三章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关系数据库标准语言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SQ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71640" y="1198440"/>
            <a:ext cx="6508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1 SQ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概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程数据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定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3.4 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数据查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更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空值的处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视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1 SQL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000" y="1339560"/>
            <a:ext cx="800244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1.1  SQ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产生与发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3.1.2  SQL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的特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1.3  SQ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基本概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数据查询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88720" y="1052640"/>
            <a:ext cx="917892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语句格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75b5b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ff"/>
                </a:solidFill>
                <a:latin typeface="Arial"/>
              </a:rPr>
              <a:t>SELEC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[ALL|DISTINCT] &lt;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目标列表达式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gt;[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目标列表达式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gt;]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75b5b"/>
                </a:solidFill>
                <a:latin typeface="Arial"/>
              </a:rPr>
              <a:t>       </a:t>
            </a:r>
            <a:r>
              <a:rPr b="1" lang="en-US" sz="2200" spc="-1" strike="noStrike">
                <a:solidFill>
                  <a:srgbClr val="ff00ff"/>
                </a:solidFill>
                <a:latin typeface="Arial"/>
              </a:rPr>
              <a:t>FROM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表名或视图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gt;[,&lt;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表名或视图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gt; ]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…|</a:t>
            </a:r>
            <a:r>
              <a:rPr b="1" lang="zh-CN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语句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)   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AS]&lt;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别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 algn="just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200" spc="-1" strike="noStrike">
                <a:solidFill>
                  <a:srgbClr val="ff00ff"/>
                </a:solidFill>
                <a:latin typeface="Arial"/>
              </a:rPr>
              <a:t>WHER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条件表达式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gt; ]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 algn="just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200" spc="-1" strike="noStrike">
                <a:solidFill>
                  <a:srgbClr val="ff00ff"/>
                </a:solidFill>
                <a:latin typeface="Arial"/>
              </a:rPr>
              <a:t>GROUP BY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列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&gt; [ </a:t>
            </a:r>
            <a:r>
              <a:rPr b="1" lang="en-US" sz="2200" spc="-1" strike="noStrike">
                <a:solidFill>
                  <a:srgbClr val="ff00ff"/>
                </a:solidFill>
                <a:latin typeface="Arial"/>
              </a:rPr>
              <a:t>HAV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条件表达式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gt; ] ]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 algn="just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200" spc="-1" strike="noStrike">
                <a:solidFill>
                  <a:srgbClr val="ff00ff"/>
                </a:solidFill>
                <a:latin typeface="Arial"/>
              </a:rPr>
              <a:t>ORDER BY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列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&gt; [ ASC|DESC ] ]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数据查询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24000" y="1052280"/>
            <a:ext cx="836280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子句：指定要显示的属性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子句：指定查询对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基本表或视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子句：指定查询条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B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子句：对查询结果按指定列的值分组，该属性列值相等的元组为一个组。通常会在每组中作用聚集函数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短语：只有满足指定条件的组才予以输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DER B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子句：对查询结果表按指定列值的升序或降序排序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4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数据查询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6107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3.4.1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单表查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4.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查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4.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嵌套查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4.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集合查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4.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于派生表的查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4.6 Selec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语句的一般形式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4.1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单表查询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询仅涉及一个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选择表中的若干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择表中的若干元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ORDER B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子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聚集函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GROUP B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子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选择表中的若干列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询指定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16]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查询全体学生的学号与姓名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LECT Sno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na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OM Student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0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17]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查询全体学生的姓名、学号、所在系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LECT Sname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no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dep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OM Student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选择表中的若干列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09836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询全部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出所有属性列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SzPct val="87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关键字后面列出所有列名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SzPct val="87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将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目标列表达式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指定为 </a:t>
            </a:r>
            <a:r>
              <a:rPr b="1" lang="zh-CN" sz="22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zh-CN" sz="2200" spc="-1" strike="noStrike">
                <a:solidFill>
                  <a:srgbClr val="ff00ff"/>
                </a:solidFill>
                <a:latin typeface="Arial"/>
              </a:rPr>
              <a:t>*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18]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查询全体学生的详细记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 Sn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am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e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g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dep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Studen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 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Studen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479520" y="1098720"/>
            <a:ext cx="822960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询经过计算的值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子句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目标列表达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仅可以为表中的属性列，也可以是表达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19]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查全体学生的姓名及其出生年份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Snam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4-Sage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*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假设当时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Studen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输出结果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name   2014-S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李勇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刘晨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王敏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张立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5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查询经过计算的值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Line 6"/>
          <p:cNvSpPr/>
          <p:nvPr/>
        </p:nvSpPr>
        <p:spPr>
          <a:xfrm>
            <a:off x="1403280" y="4797360"/>
            <a:ext cx="237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178920" y="981000"/>
            <a:ext cx="8280360" cy="52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20]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查询全体学生的姓名、出生年份和所在的院系，要求用小写字母表示系名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Sname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ear of Birth: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2014-Sage,LOWER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dep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Studen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输出结果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name   'Year of Birth:'  2014-Sage   LOWER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de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李勇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 of Birth:    1994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刘晨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 of Birth:    1995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王敏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 of Birth:    1996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张立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 of Birth:    1995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查询经过计算的值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4"/>
          <p:cNvSpPr/>
          <p:nvPr/>
        </p:nvSpPr>
        <p:spPr>
          <a:xfrm>
            <a:off x="826920" y="4219560"/>
            <a:ext cx="576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列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别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改变查询结果的列标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Sname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NAM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Year of Birth: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75b5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BIRTH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4-Sage </a:t>
            </a:r>
            <a:r>
              <a:rPr b="1" lang="en-US" sz="2000" spc="-1" strike="noStrike">
                <a:solidFill>
                  <a:srgbClr val="d75b5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BIRTHDAY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ER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dep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DEPART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Studen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输出结果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      BIRTH         BIRTHDAY   DEPART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李勇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ear of Birth:    1994             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刘晨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ear of Birth:    1995             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王敏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ear of Birth:    1996             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张立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ear of Birth:    1995             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查询经过计算的值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4"/>
          <p:cNvSpPr/>
          <p:nvPr/>
        </p:nvSpPr>
        <p:spPr>
          <a:xfrm>
            <a:off x="1260360" y="4006800"/>
            <a:ext cx="540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4.1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单表查询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询仅涉及一个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择表中的若干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选择表中的若干元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ORDER B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子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聚集函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GROUP B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子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1.2 SQL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的特点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098720"/>
            <a:ext cx="8229600" cy="53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综合统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集数据定义语言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D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，数据操纵语言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M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，数据控制语言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C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功能于一体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以独立完成数据库生命周期中的全部活动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7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定义和修改、删除关系模式，定义和删除视图，插入数据，建立数据库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7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对数据库中的数据进行查询和更新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7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数据库重构和维护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7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数据库安全性、完整性控制，以及事务控制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7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嵌入式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和动态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定义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户数据库投入运行后，可根据需要随时逐步修改模式，不影响数据库的运行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操作符统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457200" y="109836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消除取值重复的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没有指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INC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关键词，则缺省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21]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查询选修了课程的学生学号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Sno   FROM S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价于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ALL  Sno  FROM S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执行上面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句后，结果为：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n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21512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21512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21512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21512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21512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选择表中的若干元组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4"/>
          <p:cNvSpPr/>
          <p:nvPr/>
        </p:nvSpPr>
        <p:spPr>
          <a:xfrm>
            <a:off x="3851280" y="4651200"/>
            <a:ext cx="20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1612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消除取值重复的行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375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INC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键词，去掉表中重复的行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DISTIN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S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执行结果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21512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21512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4"/>
          <p:cNvSpPr/>
          <p:nvPr/>
        </p:nvSpPr>
        <p:spPr>
          <a:xfrm>
            <a:off x="3924360" y="4292640"/>
            <a:ext cx="22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）查询满足条件的元组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1143000" y="1752480"/>
            <a:ext cx="7543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1371600" y="1752480"/>
            <a:ext cx="7010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250920" y="2060640"/>
          <a:ext cx="8640720" cy="3051000"/>
        </p:xfrm>
        <a:graphic>
          <a:graphicData uri="http://schemas.openxmlformats.org/drawingml/2006/table">
            <a:tbl>
              <a:tblPr/>
              <a:tblGrid>
                <a:gridCol w="2305080"/>
                <a:gridCol w="6335640"/>
              </a:tblGrid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查 询 条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谓    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比    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=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=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!=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&gt;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!&gt;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!&lt;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+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上述比较运算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确定范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WEEN AND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BETWEEN 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确定集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字符匹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KE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LI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空    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 NUL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 NOT N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多重条件（逻辑运算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2" name="Text Box 182"/>
          <p:cNvSpPr/>
          <p:nvPr/>
        </p:nvSpPr>
        <p:spPr>
          <a:xfrm>
            <a:off x="2603520" y="1413000"/>
            <a:ext cx="293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6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常用的查询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①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比较大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68360" y="1054080"/>
            <a:ext cx="8075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22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查询计算机科学系全体学生的名单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Sn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    Stud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 Sdept=‘CS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23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查询所有年龄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以下的学生姓名及其年龄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Snam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g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    Student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 Sage &lt; 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24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查询考试成绩有不及格的学生的学号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DISTIN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 S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Grade&lt;6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确定范围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098720"/>
            <a:ext cx="868680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谓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TWEE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AND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BETWEEN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AND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25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查询年龄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~2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（包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）之间的学生的姓名、系别和年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Snam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dep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    Stud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  Sage BETWEEN 20 AND 2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26]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查询年龄不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~2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之间的学生姓名、系别和年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Snam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dep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   Stud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Sage NOT BETWEEN 20 AND 2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③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确定集合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9280" y="105408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谓词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&lt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值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,  NOT IN &lt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值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查询计算机科学系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、数学系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和信息系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学生的姓名和性别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Snam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se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 Stu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Sdept IN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CS','MA’,'IS'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8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查询既不是计算机科学系、数学系，也不是信息系的学生的姓名和性别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Snam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se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Stu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Sdept NOT IN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IS','MA’,'CS'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④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字符匹配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496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谓词：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[NOT] LIKE  ‘&lt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匹配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’  [ESCAPE ‘ &lt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换码字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’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匹配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以是一个完整的字符串，也可以含有通配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447480"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百分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）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表任意长度（长度可以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的字符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3480" indent="-447840" algn="just">
              <a:lnSpc>
                <a:spcPct val="120000"/>
              </a:lnSpc>
              <a:buClr>
                <a:srgbClr val="000000"/>
              </a:buClr>
              <a:buSzPct val="87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例如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%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表示以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开头，以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结尾的任意长度的字符串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447480"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下横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）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表任意单个字符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3480" indent="-447840" algn="just">
              <a:lnSpc>
                <a:spcPct val="120000"/>
              </a:lnSpc>
              <a:buClr>
                <a:srgbClr val="000000"/>
              </a:buClr>
              <a:buSzPct val="87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例如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_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表示以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开头，以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结尾的长度为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的任意字符串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字符匹配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098720"/>
            <a:ext cx="8229600" cy="49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3348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匹配串为固定字符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533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9]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查询学号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21512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学生的详细情况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*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 Student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 Sno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LIK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201215121'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价于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 *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 Studen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Sno = ' 201215121 '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字符匹配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09836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匹配串为含通配符的字符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30]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查询所有姓刘学生的姓名、学号和性别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Snam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e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Stud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 Sname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LIKE 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'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刘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%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'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31]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查询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欧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且全名为三个汉字的学生的姓名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Sn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  Stud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 Sname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LIKE '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欧阳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__'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字符匹配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32]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查询名字中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字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字的学生的姓名和学号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Snam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    Stud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 Sname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LIKE 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'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__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阳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%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'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33]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查询所有不姓刘的学生姓名、学号和性别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Snam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e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    Stud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 Sname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NOT LIKE '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刘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%'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高度非过程化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非关系数据模型的数据操纵语言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面向过程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必须指定存取路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要提出“做什么”，无须了解存取路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存取路径的选择以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操作过程由系统自动完成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字符匹配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185480"/>
            <a:ext cx="8229600" cy="57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换码字符将通配符转义为普通字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34]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查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B_Desig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课程的课程号和学分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Cn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red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    Cour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 Cname LIKE 'DB</a:t>
            </a:r>
            <a:r>
              <a:rPr b="1" lang="en-US" sz="2400" spc="-1" strike="noStrike">
                <a:solidFill>
                  <a:srgbClr val="852121"/>
                </a:solidFill>
                <a:latin typeface="Arial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Design'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ESCAPE '\ '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35]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查询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DB_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开头，且倒数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字符为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课程的详细情况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 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   Cour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 Cname LIKE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1" lang="en-US" sz="2400" spc="-1" strike="noStrike">
                <a:solidFill>
                  <a:srgbClr val="852121"/>
                </a:solidFill>
                <a:latin typeface="Arial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%i_ 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ESCAPE '\ '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99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9999"/>
                </a:solidFill>
                <a:latin typeface="Arial"/>
              </a:rPr>
              <a:t>ESCAPE '</a:t>
            </a:r>
            <a:r>
              <a:rPr b="1" lang="zh-CN" sz="2000" spc="-1" strike="noStrike">
                <a:solidFill>
                  <a:srgbClr val="009999"/>
                </a:solidFill>
                <a:latin typeface="Arial"/>
              </a:rPr>
              <a:t>＼</a:t>
            </a:r>
            <a:r>
              <a:rPr b="1" lang="zh-CN" sz="2000" spc="-1" strike="noStrike">
                <a:solidFill>
                  <a:srgbClr val="009999"/>
                </a:solidFill>
                <a:latin typeface="Arial"/>
              </a:rPr>
              <a:t>' </a:t>
            </a:r>
            <a:r>
              <a:rPr b="1" lang="zh-CN" sz="2000" spc="-1" strike="noStrike">
                <a:solidFill>
                  <a:srgbClr val="009999"/>
                </a:solidFill>
                <a:latin typeface="Arial"/>
              </a:rPr>
              <a:t>表示“ ＼” 为换码字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⑤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涉及空值的查询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50560" y="955800"/>
            <a:ext cx="84358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谓词：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NUL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NOT NU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”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能用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”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36]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某些学生选修课程后没有参加考试，所以有选课记录，但没 有考试成绩。查询缺少成绩的学生的学号和相应的课程号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Sn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n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   S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 Grade IS NU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37]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查所有有成绩的学生学号和课程号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Sn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n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    S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 Grade IS NOT NU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⑥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多重条件查询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逻辑运算符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连接多个查询条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优先级高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以用括号改变优先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38]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查询计算机系年龄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以下的学生姓名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Sn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 Stud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Sdept= 'CS' AND Sage&lt;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多重条件查询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52360" y="1197000"/>
            <a:ext cx="885672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改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27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27]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查询计算机科学系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、数学系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和信息系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学生的姓名和性别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Snam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e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    Stud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 Sdept IN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'CS ','MA ','IS'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改写为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Snam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e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    Stud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 Sdept= ' CS' OR Sdept= ' MA' OR Sdept= 'IS '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4.1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单表查询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询仅涉及一个表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择表中的若干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择表中的若干元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3.ORDER BY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子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聚集函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GROUP B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子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ORDER BY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子句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DER B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子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以按一个或多个属性列排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升序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降序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缺省值为升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于空值，排序时显示的次序由具体系统实现来决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RDER BY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子句 （续）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39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查询选修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号课程的学生的学号及其成绩，查询结果按分数降序排列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Sn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   S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 Cno= ' 3 '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DER BY Grade DES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40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查询全体学生情况，查询结果按所在系的系号升序排列，同一系中的学生按年龄降序排列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 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 Stud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DER BY Sdep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ge DES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4.1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单表查询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询仅涉及一个表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择表中的若干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择表中的若干元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ORDER B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子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聚集函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GROUP B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子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聚集函数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聚集函数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统计元组个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统计一列中值的个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DISTINCT|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&l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列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算一列值的总和（此列必须为数值型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DISTINCT|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&l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列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算一列值的平均值（此列必须为数值型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DISTINCT|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&l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列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求一列中的最大值和最小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DISTINCT|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&l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列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DISTINCT|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&l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列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聚集函数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09836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41]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查询学生总人数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COUN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 algn="just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 Studen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6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42]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查询选修了课程的学生人数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COUN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DISTIN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n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S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43]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号课程的学生平均成绩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AV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   S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Cno= ' 1 '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面向集合的操作方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098720"/>
            <a:ext cx="8362800" cy="52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非关系数据模型采用面向记录的操作方式，操作对象是一条记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采用集合操作方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操作对象、查找结果可以是元组的集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次插入、删除、更新操作的对象可以是元组的集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聚集函数 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42920" y="1098360"/>
            <a:ext cx="91440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44]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查询选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号课程的学生最高分数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MA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S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Cno='1'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45 ]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查询学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2150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修课程的总学分数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SU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redi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 SC,Cour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Sno='201215012' AN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.Cno=Course.Cno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4.1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单表查询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询仅涉及一个表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择表中的若干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择表中的若干元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ORDER B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子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聚集函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5.GROUP BY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子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. GROUP BY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子句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89308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UP B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子句分组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化聚集函数的作用对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未对查询结果分组，聚集函数将作用于整个查询结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查询结果分组后，聚集函数将分别作用于每个组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按指定的一列或多列值分组，值相等的为一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OUP BY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子句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14400" y="12700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6]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求各个课程号及相应的选课人数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Cn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COUNT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Sno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   S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BY Cn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查询结果可能为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no     COUN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          2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            3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            4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            3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            4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4"/>
          <p:cNvSpPr/>
          <p:nvPr/>
        </p:nvSpPr>
        <p:spPr>
          <a:xfrm>
            <a:off x="2511360" y="3787920"/>
            <a:ext cx="2563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OUP BY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子句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7]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查询选修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门以上课程的学生学号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Sn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 S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BY Sn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ING  COUN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      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OUP BY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子句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6840" y="1050480"/>
            <a:ext cx="858204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48 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查询平均成绩大于等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的学生学号和平均成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下面的语句是不对的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Sno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d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 S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AV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d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=9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 BY Sno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因为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WHERE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子句中是不能用聚集函数作为条件表达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正确的查询语句应该是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 Sno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d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 S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 BY Sn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ING AV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d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=9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OUP BY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子句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62120" y="1098720"/>
            <a:ext cx="777240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HAVI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短语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子句的区别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作用对象不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子句作用于基表或视图，从中选择满足条件的元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短语作用于组，从中选择满足条件的组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参见爱课程网 数据库系统概论 数据查询节    动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UP B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子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2T07:43:12Z</dcterms:created>
  <dc:creator>hp</dc:creator>
  <dc:description/>
  <cp:keywords/>
  <dc:language>en-US</dc:language>
  <cp:lastModifiedBy>hp</cp:lastModifiedBy>
  <dcterms:modified xsi:type="dcterms:W3CDTF">2015-01-20T01:38:09Z</dcterms:modified>
  <cp:revision>1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