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2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F4E4-4CDF-4069-991A-18A401908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669B-9E78-4EE8-9474-FFEC6A22B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3E3-FD8A-41B5-9512-F0065092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532-A20E-47F8-AA38-AB248E8A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476-B5AA-41C5-9CB0-54AE8DC9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1A1-4A82-4116-80F8-E9E26404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32A-68FE-45EE-BD3B-20468583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972-3644-4D6F-B7B6-1B5F6AAB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DB1-2FB7-4724-88F7-B179A34E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C9B4-5377-4087-8020-3C65451E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5D9-6C73-4163-AFC8-003AF96D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9F6-032C-46C1-9EFF-17AA9A56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3F1-334F-4EAC-8EDC-35ECCDB6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D6A1-0CCF-49D8-BDE6-DD1F6B4B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F811-E49D-414C-947A-F80C74B93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xuecn.com/" TargetMode="Externa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hi.baidu.com/songsongspace/album/item/ef2738efe108e9f4cf1b3e44.html" TargetMode="External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" Target="slide16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219320" y="1676520"/>
            <a:ext cx="633708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 </a:t>
            </a:r>
            <a:endParaRPr b="1" lang="en-US" sz="7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038480" y="649116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403720" y="1600200"/>
            <a:ext cx="476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拼最后六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定初一成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4"/>
          <p:cNvPicPr/>
          <p:nvPr/>
        </p:nvPicPr>
        <p:blipFill>
          <a:blip r:embed="rId1"/>
          <a:srcRect l="0" t="0" r="0" b="4760"/>
          <a:stretch/>
        </p:blipFill>
        <p:spPr>
          <a:xfrm>
            <a:off x="1692360" y="1773360"/>
            <a:ext cx="7219800" cy="48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02"/>
          <p:cNvPicPr/>
          <p:nvPr/>
        </p:nvPicPr>
        <p:blipFill>
          <a:blip r:embed="rId1"/>
          <a:srcRect l="0" t="0" r="0" b="3656"/>
          <a:stretch/>
        </p:blipFill>
        <p:spPr>
          <a:xfrm>
            <a:off x="2195640" y="1692360"/>
            <a:ext cx="6480000" cy="49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06"/>
          <p:cNvPicPr/>
          <p:nvPr/>
        </p:nvPicPr>
        <p:blipFill>
          <a:blip r:embed="rId1"/>
          <a:srcRect l="0" t="0" r="0" b="3521"/>
          <a:stretch/>
        </p:blipFill>
        <p:spPr>
          <a:xfrm>
            <a:off x="1908000" y="1773360"/>
            <a:ext cx="6840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820800" y="692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的生活会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W020060711832149210200"/>
          <p:cNvPicPr/>
          <p:nvPr/>
        </p:nvPicPr>
        <p:blipFill>
          <a:blip r:embed="rId1"/>
          <a:stretch/>
        </p:blipFill>
        <p:spPr>
          <a:xfrm>
            <a:off x="4495680" y="54000"/>
            <a:ext cx="4648320" cy="301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zjoyz2001_1155942112"/>
          <p:cNvPicPr/>
          <p:nvPr/>
        </p:nvPicPr>
        <p:blipFill>
          <a:blip r:embed="rId2"/>
          <a:stretch/>
        </p:blipFill>
        <p:spPr>
          <a:xfrm>
            <a:off x="0" y="2349360"/>
            <a:ext cx="4495680" cy="4496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200621385859873"/>
          <p:cNvPicPr/>
          <p:nvPr/>
        </p:nvPicPr>
        <p:blipFill>
          <a:blip r:embed="rId3"/>
          <a:stretch/>
        </p:blipFill>
        <p:spPr>
          <a:xfrm>
            <a:off x="4495680" y="3263760"/>
            <a:ext cx="4648320" cy="35499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4038480" y="6491160"/>
            <a:ext cx="510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866c5a3196bdefb1aedc1410b262a1d2"/>
          <p:cNvPicPr/>
          <p:nvPr/>
        </p:nvPicPr>
        <p:blipFill>
          <a:blip r:embed="rId1"/>
          <a:stretch/>
        </p:blipFill>
        <p:spPr>
          <a:xfrm>
            <a:off x="304920" y="247680"/>
            <a:ext cx="830556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476360" y="58770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这就是我的生活，我的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f2b98b1b25e1816c6b75f784bf00d92"/>
          <p:cNvPicPr/>
          <p:nvPr/>
        </p:nvPicPr>
        <p:blipFill>
          <a:blip r:embed="rId1"/>
          <a:stretch/>
        </p:blipFill>
        <p:spPr>
          <a:xfrm>
            <a:off x="179280" y="163440"/>
            <a:ext cx="8839440" cy="57135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486960" y="6021360"/>
            <a:ext cx="2257560" cy="58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出粮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个月的收入还比不上以前的零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252840" y="-385920"/>
            <a:ext cx="729000" cy="74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样的生活，我也得选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图片2"/>
          <p:cNvPicPr/>
          <p:nvPr/>
        </p:nvPicPr>
        <p:blipFill>
          <a:blip r:embed="rId1"/>
          <a:srcRect l="10604" t="2217" r="0" b="0"/>
          <a:stretch/>
        </p:blipFill>
        <p:spPr>
          <a:xfrm>
            <a:off x="927000" y="503280"/>
            <a:ext cx="4162680" cy="59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Img227693969"/>
          <p:cNvPicPr/>
          <p:nvPr/>
        </p:nvPicPr>
        <p:blipFill>
          <a:blip r:embed="rId1"/>
          <a:stretch/>
        </p:blipFill>
        <p:spPr>
          <a:xfrm>
            <a:off x="468360" y="0"/>
            <a:ext cx="7986600" cy="5805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744640" y="58672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后悔啊！只怪当初的选择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wm050221_03_1"/>
          <p:cNvPicPr/>
          <p:nvPr/>
        </p:nvPicPr>
        <p:blipFill>
          <a:blip r:embed="rId1"/>
          <a:stretch/>
        </p:blipFill>
        <p:spPr>
          <a:xfrm>
            <a:off x="0" y="42840"/>
            <a:ext cx="5181480" cy="3890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1a802e581a9ae6bf025769999d283b9b"/>
          <p:cNvPicPr/>
          <p:nvPr/>
        </p:nvPicPr>
        <p:blipFill>
          <a:blip r:embed="rId2"/>
          <a:stretch/>
        </p:blipFill>
        <p:spPr>
          <a:xfrm>
            <a:off x="5327640" y="2819520"/>
            <a:ext cx="378144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2451960" y="4572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寻寻觅觅，只怨当初不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911920" y="1197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资本不足，怎么选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50560" y="981000"/>
            <a:ext cx="752004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别人的选择，你有何感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50920" y="2852640"/>
            <a:ext cx="8497800" cy="11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生，是一场又一场的选择，你准备好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38480" y="6491160"/>
            <a:ext cx="510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549360"/>
            <a:ext cx="77040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生的道路虽然很漫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紧要处常常只有几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特别是当人年轻的时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  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没有一个人的生活道路是笔直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没有岔道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些岔路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如学习上的岔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业上的岔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人生活上的岔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走错一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影响人生的一个时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也可以影响一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我们即将完成初一生活，跨进初二生活，初二年级的特点就是两级分化严重，成绩差距大，名次变化小，我们就将迎来初一最后一次也是最重要的一次考试，本次考试名次还将重新洗牌，变化幅度较大，你，将是上升？还是下降？就取决于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peedoSSi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高考</a:t>
            </a:r>
            <a:r>
              <a:rPr b="1" lang="zh-CN" sz="4800" spc="-1" strike="noStrike">
                <a:solidFill>
                  <a:srgbClr val="ff0000"/>
                </a:solidFill>
                <a:latin typeface="SpeedoSSi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考的是家长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家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"/>
          <p:cNvPicPr/>
          <p:nvPr/>
        </p:nvPicPr>
        <p:blipFill>
          <a:blip r:embed="rId1"/>
          <a:stretch/>
        </p:blipFill>
        <p:spPr>
          <a:xfrm>
            <a:off x="2050920" y="1940040"/>
            <a:ext cx="6769080" cy="45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SpeedoSSi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高考</a:t>
            </a:r>
            <a:r>
              <a:rPr b="1" lang="zh-CN" sz="4800" spc="-1" strike="noStrike">
                <a:solidFill>
                  <a:srgbClr val="ff0000"/>
                </a:solidFill>
                <a:latin typeface="SpeedoSSi"/>
              </a:rPr>
              <a:t>”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考的是家长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家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秦皇岛：学生与家长高考第一天两种心态(组图)"/>
          <p:cNvPicPr/>
          <p:nvPr/>
        </p:nvPicPr>
        <p:blipFill>
          <a:blip r:embed="rId1"/>
          <a:stretch/>
        </p:blipFill>
        <p:spPr>
          <a:xfrm>
            <a:off x="2195640" y="1844640"/>
            <a:ext cx="6408720" cy="48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家长叮咛"/>
          <p:cNvPicPr/>
          <p:nvPr/>
        </p:nvPicPr>
        <p:blipFill>
          <a:blip r:embed="rId1"/>
          <a:stretch/>
        </p:blipFill>
        <p:spPr>
          <a:xfrm>
            <a:off x="0" y="1413000"/>
            <a:ext cx="4456080" cy="540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家长送2"/>
          <p:cNvPicPr/>
          <p:nvPr/>
        </p:nvPicPr>
        <p:blipFill>
          <a:blip r:embed="rId2"/>
          <a:stretch/>
        </p:blipFill>
        <p:spPr>
          <a:xfrm>
            <a:off x="4429080" y="1414440"/>
            <a:ext cx="4680000" cy="540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家长叮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母亲目送孩子进考场"/>
          <p:cNvPicPr/>
          <p:nvPr/>
        </p:nvPicPr>
        <p:blipFill>
          <a:blip r:embed="rId1"/>
          <a:stretch/>
        </p:blipFill>
        <p:spPr>
          <a:xfrm>
            <a:off x="34920" y="1414440"/>
            <a:ext cx="4537080" cy="5443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家长送"/>
          <p:cNvPicPr/>
          <p:nvPr/>
        </p:nvPicPr>
        <p:blipFill>
          <a:blip r:embed="rId2"/>
          <a:stretch/>
        </p:blipFill>
        <p:spPr>
          <a:xfrm>
            <a:off x="4572000" y="1414440"/>
            <a:ext cx="4537080" cy="5445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眼神中是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家长向考场张望"/>
          <p:cNvPicPr/>
          <p:nvPr/>
        </p:nvPicPr>
        <p:blipFill>
          <a:blip r:embed="rId1"/>
          <a:stretch/>
        </p:blipFill>
        <p:spPr>
          <a:xfrm>
            <a:off x="1440" y="1341360"/>
            <a:ext cx="4786560" cy="547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翘首企盼的家长"/>
          <p:cNvPicPr/>
          <p:nvPr/>
        </p:nvPicPr>
        <p:blipFill>
          <a:blip r:embed="rId2"/>
          <a:stretch/>
        </p:blipFill>
        <p:spPr>
          <a:xfrm>
            <a:off x="4789440" y="1341360"/>
            <a:ext cx="4357800" cy="54723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急切的心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等孩子"/>
          <p:cNvPicPr/>
          <p:nvPr/>
        </p:nvPicPr>
        <p:blipFill>
          <a:blip r:embed="rId1"/>
          <a:stretch/>
        </p:blipFill>
        <p:spPr>
          <a:xfrm>
            <a:off x="34920" y="1413000"/>
            <a:ext cx="4460760" cy="540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雨中等"/>
          <p:cNvPicPr/>
          <p:nvPr/>
        </p:nvPicPr>
        <p:blipFill>
          <a:blip r:embed="rId2"/>
          <a:stretch/>
        </p:blipFill>
        <p:spPr>
          <a:xfrm>
            <a:off x="4500720" y="1413000"/>
            <a:ext cx="4608360" cy="5400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over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家长在烈日下等待"/>
          <p:cNvPicPr/>
          <p:nvPr/>
        </p:nvPicPr>
        <p:blipFill>
          <a:blip r:embed="rId1"/>
          <a:stretch/>
        </p:blipFill>
        <p:spPr>
          <a:xfrm>
            <a:off x="36360" y="1413000"/>
            <a:ext cx="4824720" cy="540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焦急等待"/>
          <p:cNvPicPr/>
          <p:nvPr/>
        </p:nvPicPr>
        <p:blipFill>
          <a:blip r:embed="rId2"/>
          <a:stretch/>
        </p:blipFill>
        <p:spPr>
          <a:xfrm>
            <a:off x="4861080" y="1414440"/>
            <a:ext cx="424800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烈日下焦急等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038480" y="6491160"/>
            <a:ext cx="510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父亲送水"/>
          <p:cNvPicPr/>
          <p:nvPr/>
        </p:nvPicPr>
        <p:blipFill>
          <a:blip r:embed="rId1"/>
          <a:stretch/>
        </p:blipFill>
        <p:spPr>
          <a:xfrm>
            <a:off x="34920" y="1341360"/>
            <a:ext cx="4321080" cy="547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家长照顾"/>
          <p:cNvPicPr/>
          <p:nvPr/>
        </p:nvPicPr>
        <p:blipFill>
          <a:blip r:embed="rId2"/>
          <a:stretch/>
        </p:blipFill>
        <p:spPr>
          <a:xfrm>
            <a:off x="4356000" y="1343160"/>
            <a:ext cx="4753080" cy="2446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母亲打伞"/>
          <p:cNvPicPr/>
          <p:nvPr/>
        </p:nvPicPr>
        <p:blipFill>
          <a:blip r:embed="rId3"/>
          <a:stretch/>
        </p:blipFill>
        <p:spPr>
          <a:xfrm>
            <a:off x="4357800" y="3789360"/>
            <a:ext cx="4752720" cy="3025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无微不至的关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几分苦涩几分迷茫"/>
          <p:cNvPicPr/>
          <p:nvPr/>
        </p:nvPicPr>
        <p:blipFill>
          <a:blip r:embed="rId1"/>
          <a:stretch/>
        </p:blipFill>
        <p:spPr>
          <a:xfrm>
            <a:off x="0" y="1414440"/>
            <a:ext cx="9110520" cy="5400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几分苦涩，几分迷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考场内外几家欢笑几家愁，有人一脸严肃有人笑容灿烂"/>
          <p:cNvPicPr/>
          <p:nvPr/>
        </p:nvPicPr>
        <p:blipFill>
          <a:blip r:embed="rId1"/>
          <a:stretch/>
        </p:blipFill>
        <p:spPr>
          <a:xfrm>
            <a:off x="36360" y="1414440"/>
            <a:ext cx="8856720" cy="5400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88508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人一脸严肃，有人笑容灿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5326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新魏"/>
              </a:rPr>
              <a:t>思考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怎么度过这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天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用什么样态度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有什么样的决心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是否付之于行动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1970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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学习是快乐，是有成就感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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积极面对，永不言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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敢于竞争，勇于亮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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细化过程，淡化结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Wingdings"/>
                <a:ea typeface="Wingdings"/>
              </a:rPr>
              <a:t>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要我学”要转变成“我要学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银装素裹2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82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371600" y="5181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如果你不知道你的方向，你就永远不可能到达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忘了我自己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8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835280" y="522936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生命会把我们所要求的给予我们。如果你的要求很模糊，你所得到的也会很模糊。如果你只要求一点点，你就会得到一点点。但不要惊讶你只得到一点点，毕竟，那就是你所要求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未命名4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67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371600" y="5181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只有对自己有信心的人，才能达到成功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红玫瑰2"/>
          <p:cNvPicPr/>
          <p:nvPr/>
        </p:nvPicPr>
        <p:blipFill>
          <a:blip r:embed="rId1"/>
          <a:stretch/>
        </p:blipFill>
        <p:spPr>
          <a:xfrm>
            <a:off x="1459080" y="457200"/>
            <a:ext cx="6237000" cy="46767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1295280" y="518148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每一个考验，每一个问题，每一个错误，有一天都会变成美丽的玫瑰花瓣，就像枝干上都是刺，痛苦会导向光明，使你看见美丽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038480" y="6491160"/>
            <a:ext cx="510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未命名2"/>
          <p:cNvPicPr/>
          <p:nvPr/>
        </p:nvPicPr>
        <p:blipFill>
          <a:blip r:embed="rId1"/>
          <a:stretch/>
        </p:blipFill>
        <p:spPr>
          <a:xfrm>
            <a:off x="1452600" y="457200"/>
            <a:ext cx="6237360" cy="4676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1330200" y="5181480"/>
            <a:ext cx="74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专注是生活中所有成功的关键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群峰云海"/>
          <p:cNvPicPr/>
          <p:nvPr/>
        </p:nvPicPr>
        <p:blipFill>
          <a:blip r:embed="rId1"/>
          <a:stretch/>
        </p:blipFill>
        <p:spPr>
          <a:xfrm>
            <a:off x="1452600" y="457200"/>
            <a:ext cx="6237360" cy="4678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619280" y="52419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永远要记住，在某个高度之上，就没有风雨云层。如果你生命中的云层遮蔽了阳光，那是因为你的心灵飞得还不够高。大多数人所犯的错误是去抗拒问题，他们努力试图消灭云层。正确的做法是发现使你上升到云层之上的途径，那里的天空永远是碧蓝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890720" y="1260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21+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4"/>
          <p:cNvSpPr txBox="1"/>
          <p:nvPr/>
        </p:nvSpPr>
        <p:spPr>
          <a:xfrm>
            <a:off x="1258920" y="692280"/>
            <a:ext cx="67816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宋体"/>
              </a:rPr>
              <a:t>让我们荡起双浆</a:t>
            </a:r>
            <a:endParaRPr b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ff66"/>
              </a:solidFill>
              <a:latin typeface="宋体"/>
              <a:ea typeface="宋体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304920" y="5181480"/>
            <a:ext cx="287964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79280" y="18900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有人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成绩差，我没有谈及大学的资格，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 于是，你颓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你错了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因为你不是没有这样的资格，而是你过早的将这种资格给放弃了。仔细回想，小学你没有优秀过吗？初中时你没有进步过吗？某一科成绩你没有拿过好成绩吗？有的，当然有！想一想，你是哪一天开始学会的偷懒，哪一天学会了说谎，哪一天上课走神，又是哪一天放弃了学业？那么你今天还要继续吗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知道，你已没有退路，只要前进的勇气，就是进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勇气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毅力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成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即便进步不多，那也是成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3124080" y="5638680"/>
            <a:ext cx="288000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79280" y="1159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有人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居于中游，前边的人成绩太好了，我超不过了。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于是，你沮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你错了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因为你没有乐观的面对自己，在你后面有很多人崇拜你，就像你崇拜你前面的人一样。殊不知，他们也梦想能达到你的水平。所以你不要忽略了自己榜样的力量。其次，你前面确实有许多人，你也不晓得，他们中有多少人在担心， 担心像你这样的厚积薄发者会超过他们。在他们的世界里也不尽是骄傲与坦然，也有惊恐与不安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知道，你前有劲敌，后有效仿。你只有坚信自己榜样的力量，又同时怀揣着一个让高手惊恐的决心，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信心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决心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成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即便稍有意外，等待你的也将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成功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让结局不留遗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让过程更加完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天堂和地狱仅一步之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成功和失败只一箭之遥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永不言败、永不放弃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3851280" y="5229360"/>
            <a:ext cx="288144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87280" y="260280"/>
            <a:ext cx="86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有人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成绩现在可以，但是我怕退步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于是，你焦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我说：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你错了！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因为你不知道有多少人羡慕你这种焦虑，因为他们也梦想能站在你这样的高位，哪怕一次也好，至少证明过。如果这次名次下降了，那就大方的表示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暂借给他们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下次再拿回来，因为别人也在进步，只要你问心无愧；如果不想失去，那就凭尽全力，做出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誓死保卫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，而且坚信自己，记住，狭路相逢，勇者胜；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知道，你也没有退路，你前有理想，后有劲敌，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坚持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自信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成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W020040210357697187519"/>
          <p:cNvPicPr/>
          <p:nvPr/>
        </p:nvPicPr>
        <p:blipFill>
          <a:blip r:embed="rId1"/>
          <a:stretch/>
        </p:blipFill>
        <p:spPr>
          <a:xfrm>
            <a:off x="1116000" y="0"/>
            <a:ext cx="6696000" cy="59101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685800" y="59454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最困难之时就是离成功最近之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 rot="2313000">
            <a:off x="5579640" y="404280"/>
            <a:ext cx="1873440" cy="1584360"/>
          </a:xfrm>
          <a:prstGeom prst="wedgeEllipseCallout">
            <a:avLst>
              <a:gd name="adj1" fmla="val -49777"/>
              <a:gd name="adj2" fmla="val 77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796000" y="76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难道，就这样放弃了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1403280" y="260280"/>
            <a:ext cx="2519280" cy="1008000"/>
          </a:xfrm>
          <a:prstGeom prst="cloudCallout">
            <a:avLst>
              <a:gd name="adj1" fmla="val 69787"/>
              <a:gd name="adj2" fmla="val 153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692360" y="333360"/>
            <a:ext cx="2252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Arial"/>
              </a:rPr>
              <a:t>明明探测到这儿有金子啊！怎么老挖不着呢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5435640" y="2492280"/>
            <a:ext cx="1295280" cy="792360"/>
          </a:xfrm>
          <a:prstGeom prst="wedgeRoundRectCallout">
            <a:avLst>
              <a:gd name="adj1" fmla="val -82597"/>
              <a:gd name="adj2" fmla="val 88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435640" y="2565360"/>
            <a:ext cx="11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金子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128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980"/>
                            </p:stCondLst>
                            <p:childTnLst>
                              <p:par>
                                <p:cTn id="131" nodeType="after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498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144" nodeType="afterEffect" fill="hold" presetClass="entr" presetID="14" presetSubtype="10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3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62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282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2440"/>
                            </p:stCondLst>
                            <p:childTnLst>
                              <p:par>
                                <p:cTn id="17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2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4440"/>
                            </p:stCondLst>
                            <p:childTnLst>
                              <p:par>
                                <p:cTn id="17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100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animClr clrSpc="rgb">
                                      <p:cBhvr>
                                        <p:cTn id="176" dur="100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60093"/>
                                      </p:to>
                                    </p:animClr>
                                    <p:set>
                                      <p:cBhvr>
                                        <p:cTn id="177" dur="1000" autoRev="1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81440" y="2492280"/>
            <a:ext cx="9325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琥珀"/>
              </a:rPr>
              <a:t>把握生命里的每一分钟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琥珀"/>
              </a:rPr>
              <a:t>全力以赴我们心中的梦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琥珀"/>
              </a:rPr>
              <a:t>不经历风雨怎么见彩虹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琥珀"/>
              </a:rPr>
              <a:t>没有人能随随遍遍成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495680" y="495288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港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成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429000" y="541008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228240"/>
            <a:ext cx="8370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琥珀"/>
              </a:rPr>
              <a:t>赢在六月</a:t>
            </a:r>
            <a:br>
              <a:rPr sz="6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火热的六月已走进我们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必将点燃青春的激情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去年的小毕考历历在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高考已经落下尾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中考已经结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期末考试就是我们的高考、中考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378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壮志凌云 豪情万丈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心驰神往 斗志昂扬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跃跃欲试 摩拳擦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的人养精蓄锐 积蓄力量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1523520"/>
            <a:ext cx="8291520" cy="448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也许我走得慢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但我决不会停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可能会输给现在的你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但我战胜了昨天的自己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如果挥别昨日是新的开始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那把握今天就将创造新的奇迹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35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我们播种梦想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我们挖掘潜能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我们挥洒汗水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我们追逐成功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这就是勇敢者的游戏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就是奋斗者的步履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也必将是成功者的足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907640" y="2276280"/>
            <a:ext cx="6627960" cy="18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的潜能是无限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有多大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会有多大收获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9600" y="242100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2050920" y="2708280"/>
            <a:ext cx="6408720" cy="24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要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全力以赴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绝不能尽力而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要做行动的巨人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0000"/>
                </a:solidFill>
                <a:latin typeface="Times New Roman"/>
              </a:rPr>
              <a:t>人的潜力是无限的</a:t>
            </a:r>
            <a:r>
              <a:rPr b="1" lang="zh-CN" sz="6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都要记住，最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非常变幻莫测的一段时间，什么事情都有可能发生，初一年级很多人的名次、成绩都是很不稳定的变化的，大家在班级里排名能发生巨大的变化，所以，成绩差一些的同学，只要你在这最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里把握住所有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学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时间和机会，你很有可能上升到前列，而成绩好的同学，如果你掉以轻心，也有落马的可能。所以希望大家能够保持紧张感，时刻要有忧患意识，在这冲刺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里，共同进步，共同超越原来的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981080" y="1523880"/>
            <a:ext cx="554508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决杜绝“三闲” 现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闲聊、 闲玩、闲逛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闲来闲去失前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828800" y="1752480"/>
            <a:ext cx="64087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克服不了的困难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过不去的火焰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荡平不了的荆棘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627840" y="2708280"/>
            <a:ext cx="7898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676520" y="1295280"/>
            <a:ext cx="640872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榜样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容面对挫折和伤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满怀激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定的朝着自己的目标前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http://hiphotos.baidu.com/songsongspace/pic/item/ef2738efe108e9f4cf1b3e4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誓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84360" y="1721880"/>
            <a:ext cx="410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脚踏实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奋力拼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坚守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敢于竞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勇于亮剑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omic Sans MS"/>
              </a:rPr>
              <a:t>我要成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-210960" y="-14400"/>
            <a:ext cx="1033560" cy="68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志者事竟成，卧薪尝胆三千越甲可吞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8321760" y="0"/>
            <a:ext cx="10335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心人天不负，破釜沉舟百二秦关终属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D000"/>
          <p:cNvPicPr/>
          <p:nvPr/>
        </p:nvPicPr>
        <p:blipFill>
          <a:blip r:embed="rId1"/>
          <a:stretch/>
        </p:blipFill>
        <p:spPr>
          <a:xfrm>
            <a:off x="0" y="228600"/>
            <a:ext cx="8964720" cy="64008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447920" y="762120"/>
            <a:ext cx="4924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就是这样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只好那样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是不会同意那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该多好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没办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把我气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1295280" y="1752480"/>
            <a:ext cx="0" cy="26672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diamond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-72000" y="1295280"/>
            <a:ext cx="1399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消极被动的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按钮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715000"/>
            <a:ext cx="388800" cy="38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684360" y="115920"/>
            <a:ext cx="7561080" cy="5329080"/>
            <a:chOff x="684360" y="115920"/>
            <a:chExt cx="7561080" cy="5329080"/>
          </a:xfrm>
        </p:grpSpPr>
        <p:sp>
          <p:nvSpPr>
            <p:cNvPr id="191" name="AutoShape 3"/>
            <p:cNvSpPr/>
            <p:nvPr/>
          </p:nvSpPr>
          <p:spPr>
            <a:xfrm>
              <a:off x="684360" y="115920"/>
              <a:ext cx="7561080" cy="5329080"/>
            </a:xfrm>
            <a:custGeom>
              <a:avLst/>
              <a:gdLst>
                <a:gd name="textAreaLeft" fmla="*/ 0 w 7561080"/>
                <a:gd name="textAreaRight" fmla="*/ 7561440 w 7561080"/>
                <a:gd name="textAreaTop" fmla="*/ 0 h 5329080"/>
                <a:gd name="textAreaBottom" fmla="*/ 5329440 h 532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7374" y="17069"/>
                  </a:moveTo>
                  <a:cubicBezTo>
                    <a:pt x="5081" y="15816"/>
                    <a:pt x="3656" y="13412"/>
                    <a:pt x="3656" y="10800"/>
                  </a:cubicBezTo>
                  <a:cubicBezTo>
                    <a:pt x="3656" y="6854"/>
                    <a:pt x="6854" y="3656"/>
                    <a:pt x="10800" y="3656"/>
                  </a:cubicBezTo>
                  <a:cubicBezTo>
                    <a:pt x="14745" y="3656"/>
                    <a:pt x="17944" y="6854"/>
                    <a:pt x="17944" y="10800"/>
                  </a:cubicBezTo>
                  <a:cubicBezTo>
                    <a:pt x="17944" y="13412"/>
                    <a:pt x="16518" y="15816"/>
                    <a:pt x="14225" y="17069"/>
                  </a:cubicBezTo>
                  <a:lnTo>
                    <a:pt x="15978" y="20277"/>
                  </a:lnTo>
                  <a:cubicBezTo>
                    <a:pt x="19444" y="18383"/>
                    <a:pt x="21600" y="1474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4749"/>
                    <a:pt x="2155" y="18383"/>
                    <a:pt x="5621" y="20277"/>
                  </a:cubicBezTo>
                  <a:lnTo>
                    <a:pt x="7374" y="17069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"/>
            <p:cNvSpPr/>
            <p:nvPr/>
          </p:nvSpPr>
          <p:spPr>
            <a:xfrm>
              <a:off x="1763640" y="3932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"/>
            <p:cNvSpPr/>
            <p:nvPr/>
          </p:nvSpPr>
          <p:spPr>
            <a:xfrm>
              <a:off x="1332000" y="33638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6"/>
            <p:cNvSpPr/>
            <p:nvPr/>
          </p:nvSpPr>
          <p:spPr>
            <a:xfrm>
              <a:off x="900000" y="270828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自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"/>
            <p:cNvSpPr/>
            <p:nvPr/>
          </p:nvSpPr>
          <p:spPr>
            <a:xfrm>
              <a:off x="1042920" y="206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或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1332000" y="14191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484360" y="620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3059280" y="47628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1"/>
            <p:cNvSpPr/>
            <p:nvPr/>
          </p:nvSpPr>
          <p:spPr>
            <a:xfrm>
              <a:off x="3780000" y="40464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2"/>
            <p:cNvSpPr/>
            <p:nvPr/>
          </p:nvSpPr>
          <p:spPr>
            <a:xfrm>
              <a:off x="4572000" y="4111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5364000" y="6271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5940360" y="9079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5"/>
            <p:cNvSpPr/>
            <p:nvPr/>
          </p:nvSpPr>
          <p:spPr>
            <a:xfrm>
              <a:off x="6516720" y="1268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6"/>
            <p:cNvSpPr/>
            <p:nvPr/>
          </p:nvSpPr>
          <p:spPr>
            <a:xfrm>
              <a:off x="6948360" y="1700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7"/>
            <p:cNvSpPr/>
            <p:nvPr/>
          </p:nvSpPr>
          <p:spPr>
            <a:xfrm>
              <a:off x="7308720" y="2276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8"/>
            <p:cNvSpPr/>
            <p:nvPr/>
          </p:nvSpPr>
          <p:spPr>
            <a:xfrm>
              <a:off x="7236000" y="2859120"/>
              <a:ext cx="86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9"/>
            <p:cNvSpPr/>
            <p:nvPr/>
          </p:nvSpPr>
          <p:spPr>
            <a:xfrm>
              <a:off x="7093080" y="35002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0"/>
            <p:cNvSpPr/>
            <p:nvPr/>
          </p:nvSpPr>
          <p:spPr>
            <a:xfrm>
              <a:off x="1835280" y="8431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66"/>
                  </a:solidFill>
                  <a:latin typeface="Times New Roman"/>
                </a:rPr>
                <a:t>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1"/>
            <p:cNvSpPr/>
            <p:nvPr/>
          </p:nvSpPr>
          <p:spPr>
            <a:xfrm>
              <a:off x="6948360" y="3932280"/>
              <a:ext cx="93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66"/>
                  </a:solidFill>
                  <a:latin typeface="Times New Roman"/>
                </a:rPr>
                <a:t>！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WordArt 22"/>
          <p:cNvSpPr txBox="1"/>
          <p:nvPr/>
        </p:nvSpPr>
        <p:spPr>
          <a:xfrm>
            <a:off x="762120" y="3886200"/>
            <a:ext cx="7848360" cy="23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埋怨如毒瘤，制约着我们的发展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11" name="WordArt 23"/>
          <p:cNvSpPr txBox="1"/>
          <p:nvPr/>
        </p:nvSpPr>
        <p:spPr>
          <a:xfrm rot="493800">
            <a:off x="2773080" y="1915920"/>
            <a:ext cx="33112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4368000"/>
                </a:gradFill>
                <a:latin typeface="宋体"/>
              </a:rPr>
              <a:t>埋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4368000"/>
              </a:gra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52280" y="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埋怨自己生不逢时，社会竞争太激烈，心理压力太大，没有宽松的学习环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79280" y="1143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埋怨父母对自己不理解，期望值过高，也不能给自己什么具体的指导和帮助，或者认为父母素质太低，不能以身作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</a:rPr>
              <a:t>埋怨老师对自己太苛求，学习负担过重；埋怨老师教学方法死板，不合自己口味，学习生活枯燥单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066680" y="47242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…… 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5410080"/>
            <a:ext cx="826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些埋怨的共同点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i="1" lang="zh-CN" sz="3600" spc="-1" strike="noStrike">
                <a:solidFill>
                  <a:srgbClr val="ff33cc"/>
                </a:solidFill>
                <a:latin typeface="Times New Roman"/>
              </a:rPr>
              <a:t>将不好的行为归因于外部环境，为自己推卸应负的责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520" y="43434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埋怨是责任感薄弱的表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36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3333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当我们发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3333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不论任何形式的跌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3333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都是由于自己的不小心，而不是去找借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3333ff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华文新魏"/>
                <a:ea typeface="华文新魏"/>
              </a:rPr>
              <a:t>这时我们就长大了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兰花"/>
          <p:cNvPicPr/>
          <p:nvPr/>
        </p:nvPicPr>
        <p:blipFill>
          <a:blip r:embed="rId1"/>
          <a:stretch/>
        </p:blipFill>
        <p:spPr>
          <a:xfrm>
            <a:off x="5580000" y="4006800"/>
            <a:ext cx="3564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0WK23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221" name="WordArt 3"/>
          <p:cNvSpPr txBox="1"/>
          <p:nvPr/>
        </p:nvSpPr>
        <p:spPr>
          <a:xfrm>
            <a:off x="1905120" y="0"/>
            <a:ext cx="4647960" cy="13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cc66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学做一个有责任感的人</a:t>
            </a:r>
            <a:endParaRPr b="1" lang="en-US" sz="1800" spc="1" strike="noStrike">
              <a:ln w="25560">
                <a:solidFill>
                  <a:srgbClr val="00cc66"/>
                </a:solidFill>
                <a:miter/>
              </a:ln>
              <a:solidFill>
                <a:srgbClr val="ff9933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371600" y="190512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改变自己的语言习惯，多说积极主动的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295280" y="32767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改变自己的归因方式，不要抱怨无能为力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feas197"/>
          <p:cNvPicPr/>
          <p:nvPr/>
        </p:nvPicPr>
        <p:blipFill>
          <a:blip r:embed="rId2"/>
          <a:stretch/>
        </p:blipFill>
        <p:spPr>
          <a:xfrm>
            <a:off x="609480" y="17524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feas197"/>
          <p:cNvPicPr/>
          <p:nvPr/>
        </p:nvPicPr>
        <p:blipFill>
          <a:blip r:embed="rId3"/>
          <a:stretch/>
        </p:blipFill>
        <p:spPr>
          <a:xfrm>
            <a:off x="457200" y="403848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440" y="1828440"/>
            <a:ext cx="684036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所以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WordArt 3"/>
          <p:cNvSpPr txBox="1"/>
          <p:nvPr/>
        </p:nvSpPr>
        <p:spPr>
          <a:xfrm>
            <a:off x="-1332000" y="3284640"/>
            <a:ext cx="44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</a:t>
            </a:r>
            <a:r>
              <a:rPr b="0" lang="zh-CN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心态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3419640" y="3284640"/>
            <a:ext cx="2089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决 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5796000" y="321300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成功</a:t>
            </a:r>
            <a:endParaRPr b="0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行百里者半九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8920" y="14126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行百里者半九十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意思是说如果把走一百里路看成一件事的话，前面走过的九十里路仅仅完成了事情的一半。最后虽然仅仅剩十里路，但承担的任务却是整个事情的一半。我非常喜欢这句话，我觉得这句话的含义就是说，当一件事情越来越接近终点的时候往往越关键、越重要、越艰难，谁要是能够在最后这一阶段抓得好、抓得牢，尽管前面有一些遗憾也完全可以笑到最后、笑的最好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3" descr="52534556da70ee13564e00b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108000" y="2925720"/>
            <a:ext cx="909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Calibri"/>
                <a:ea typeface="楷体_GB2312"/>
              </a:rPr>
              <a:t>抓住时间，抓住机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C:\Documents and Settings\LCH\Local Settings\Temporary Internet Files\Content.IE5\AZXIZV3D\MC900433865[1].png"/>
          <p:cNvPicPr/>
          <p:nvPr/>
        </p:nvPicPr>
        <p:blipFill>
          <a:blip r:embed="rId1"/>
          <a:stretch/>
        </p:blipFill>
        <p:spPr>
          <a:xfrm>
            <a:off x="8518680" y="6232680"/>
            <a:ext cx="625320" cy="6253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1547640" y="1676520"/>
            <a:ext cx="612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把握生命里的每一分钟，全力以赴我们心中的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01480" y="1700280"/>
            <a:ext cx="864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隶书"/>
              </a:rPr>
              <a:t>时间都去哪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116000" y="386064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900000" y="3716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拖拉、磨蹭、聊天、发呆、找不到东西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..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79280" y="1557360"/>
            <a:ext cx="8640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我们现在的辛苦比起我们考试失利后的痛苦又算得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我们现在的快乐比起我们考试成功后的快乐又算得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468360" y="836640"/>
            <a:ext cx="815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 Black"/>
                <a:ea typeface="楷体_GB2312"/>
              </a:rPr>
              <a:t>对得起自己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 Black"/>
                <a:ea typeface="楷体_GB2312"/>
              </a:rPr>
              <a:t>对得起父母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 Black"/>
                <a:ea typeface="楷体_GB2312"/>
              </a:rPr>
              <a:t>对得起青春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3"/>
          <p:cNvSpPr txBox="1"/>
          <p:nvPr/>
        </p:nvSpPr>
        <p:spPr>
          <a:xfrm>
            <a:off x="5562720" y="914400"/>
            <a:ext cx="3276360" cy="571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拼</a:t>
            </a:r>
            <a:endParaRPr b="0" lang="en-US" sz="9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396720" y="4941720"/>
            <a:ext cx="682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青春无悔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祝愿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班全体学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全力以赴，埋头苦学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奋力拼搏，再创辉煌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你的成功，是老师、父母、亲人最大的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期待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阳光总在风雨后.mp3" descr=""/>
          <p:cNvPicPr/>
          <p:nvPr/>
        </p:nvPicPr>
        <p:blipFill>
          <a:blip r:embed="rId1"/>
          <a:stretch/>
        </p:blipFill>
        <p:spPr>
          <a:xfrm>
            <a:off x="7812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304640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3924360" y="3860640"/>
            <a:ext cx="4917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80899"/>
          <p:cNvSpPr/>
          <p:nvPr/>
        </p:nvSpPr>
        <p:spPr>
          <a:xfrm>
            <a:off x="900000" y="62064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80902" descr="171"/>
          <p:cNvPicPr/>
          <p:nvPr/>
        </p:nvPicPr>
        <p:blipFill>
          <a:blip r:embed="rId1"/>
          <a:stretch/>
        </p:blipFill>
        <p:spPr>
          <a:xfrm>
            <a:off x="250920" y="260280"/>
            <a:ext cx="5113080" cy="398484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80903"/>
          <p:cNvSpPr/>
          <p:nvPr/>
        </p:nvSpPr>
        <p:spPr>
          <a:xfrm>
            <a:off x="1476360" y="4365720"/>
            <a:ext cx="7365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2020</a:t>
            </a:r>
            <a:br>
              <a:rPr sz="16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830880" y="206064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1"/>
          <p:cNvPicPr/>
          <p:nvPr/>
        </p:nvPicPr>
        <p:blipFill>
          <a:blip r:embed="rId1"/>
          <a:stretch/>
        </p:blipFill>
        <p:spPr>
          <a:xfrm>
            <a:off x="2124000" y="1341360"/>
            <a:ext cx="6120000" cy="51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7600" y="213372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3"/>
          <p:cNvPicPr/>
          <p:nvPr/>
        </p:nvPicPr>
        <p:blipFill>
          <a:blip r:embed="rId1"/>
          <a:srcRect l="0" t="0" r="0" b="3619"/>
          <a:stretch/>
        </p:blipFill>
        <p:spPr>
          <a:xfrm>
            <a:off x="1116000" y="1628640"/>
            <a:ext cx="759636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你的明天？？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43600" y="2637000"/>
            <a:ext cx="789840" cy="29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打工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5"/>
          <p:cNvPicPr/>
          <p:nvPr/>
        </p:nvPicPr>
        <p:blipFill>
          <a:blip r:embed="rId1"/>
          <a:srcRect l="0" t="0" r="0" b="4310"/>
          <a:stretch/>
        </p:blipFill>
        <p:spPr>
          <a:xfrm>
            <a:off x="1763640" y="1628640"/>
            <a:ext cx="7056360" cy="489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5T08:28:12Z</dcterms:created>
  <dc:creator/>
  <dc:description/>
  <dc:language>en-US</dc:language>
  <cp:lastModifiedBy>JonMMx 2000</cp:lastModifiedBy>
  <dcterms:modified xsi:type="dcterms:W3CDTF">2020-05-12T10:20:36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8632</vt:lpwstr>
  </property>
  <property fmtid="{D5CDD505-2E9C-101B-9397-08002B2CF9AE}" pid="3" name="Version">
    <vt:r8>1</vt:r8>
  </property>
</Properties>
</file>