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99812-7BF0-47DE-B468-428A833D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2DE2A-83F7-440C-8572-06C15916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00FAA-C966-414F-AE32-4C248D24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8900F-49C2-491F-9F04-30C01C0C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B5F06-3406-43C4-81F1-123BF0A2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0ADB6-63ED-4E3A-8A6D-9FF91FE9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32712-DB72-49D5-8ADB-9DFAF9E1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93E0D-26AE-467B-88DB-20D85E575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F198F-E40F-4B0B-9D2E-13412C2A1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80604C-020A-4FD6-9664-C8B2313E8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3D07C-B418-434E-8D40-35B635DC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920CA1-AE89-4AEA-B313-9DD66A42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B02FDB-172E-4E71-91D0-EF25C7E4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B3700E-41EB-49B1-AAAC-C98976F5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4E6479-F171-4112-8F20-D08E71C6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C21B5-9968-4117-A502-30B70918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E5234-8531-481B-8C37-4371A5CA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EA9BC0-6D9B-474D-A509-480BE02B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37BA0-BD79-4F4D-9D10-57E45EEC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DEC7C6-FD72-4A5D-933A-83C3A2C80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980E5-356A-4458-8C4C-E81968C6C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9F72B4-455E-4D65-A3E9-05EF524F9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E981F3-30F9-4474-9626-C946D0DD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CA6419-681E-4E9C-973D-69634E03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B82B56-3145-4EA8-8310-47C0343E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A6E6DC-457A-436B-B642-DDD1DAB4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87B431-7FDA-44E9-8434-9AC62058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7E8271-B86F-4A4E-9052-5C414100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5842BB-BE73-4EEF-B457-16D5771E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7CC71D-7442-4975-B3D6-DC707309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6AE8-DFA5-47D5-8997-195F959F9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A633E7-C8FD-407D-8ABE-F4D40140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626BD8-30C7-48BE-B65A-7707528AA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F07B28-5CDA-4C1A-8C6F-6776CB004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436556-4D46-490C-951C-7A2A290DF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EA717-22C7-4A9B-8E64-D63AB72A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620E2-0DD9-499C-9C0F-86EA297A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2014D3-D1B6-4D92-9E53-F2819FB1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D160C-1009-4F29-A1B9-E6723CA1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3C791-6E91-4EB7-A11F-6858EED5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61CC46-B493-4B70-A52B-7CFBDCAD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43AF-3AC8-488F-A41F-1C3F208B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F5A7BD-828A-4D7D-9D06-AD1FFDC6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55C015-69EB-482E-B3E4-C6BB1FA5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AE7B33-66C9-474E-8E53-169AA7AA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0BAC2-2B62-4D89-A853-9C6B54599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C5DFEC-AD2A-4365-AA0A-625FB2644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2739-9122-4DF3-B831-86DE1E87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2F9E-7E8B-449D-93A8-9BD9E41A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B903-8076-4D01-882A-EFEF9A7A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7366-529E-48B2-9330-F5D78C45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B820-F34C-4265-BD48-8E1B7A5B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AAF3-9C1D-447A-B990-D03D0B2B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5CBC-FA74-4026-B259-3C4571F4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CBC7-BBBD-40E8-A2DC-26260607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DAC5-8680-42E8-8BCE-AF89030CC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C519-027A-484F-BA02-E0A55F66B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4557-5235-4A99-97A3-B75C36CDF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A12C-F103-4AF6-A47D-28BBBA8B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6F68-E535-4051-A2F8-2C0BCE8B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5DFF-AEC8-4235-9467-03F6FBF0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0835-5043-40D7-9708-2458B203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5CD9C-6F12-4BFA-815B-19D11BCB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A2DE5-3DAF-4C09-8700-34AE8F3F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9A9F8-AC78-4843-B390-72964472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9C7F-2A4F-41D5-985C-8A308A91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E5B9-C674-4B2A-8775-9188DB61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A6EA-EC9A-4079-ABE0-D7929A117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4435-1CD2-40AC-8DEA-29125C72A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74BDE-E33F-4ECA-9A70-F23A2219B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5A8D2-DD89-4FE3-B12D-72744811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71EC4-93B9-433C-ABA9-A1F711FA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47D48-D954-4EB7-8858-958B11B0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A1C19-8A26-48BC-96DD-787CE445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8A539-1444-47D2-BFEF-E4F86569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DEC97-0F61-47E5-A5D5-30A4E29F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A7946-8312-4B4C-8B1F-B88FA96E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583B4-B969-44C3-97C0-7733A115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6F9FC-BA7B-46F2-A223-4B85EB7F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F8053-BD37-4370-B908-1EDF00B54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B1736-AA6C-4133-A67C-B54B71DD4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B4A3E-8AA2-42B9-9E2A-0D9724216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A8E03-BCA4-4FC5-8B80-31287371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CCEAB-425A-43A4-9DD4-FBE5A9F5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17D4C-7288-4655-9323-FE2A3A57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AF399-271D-4114-B483-FCC81BC5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50547-83C3-4F0C-A09C-CA3E363D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7EF53-417E-43DA-B2A7-270A9EBA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37F40-E226-4074-99E4-3098FCC7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C5012-95D9-4CBB-9AF6-7EBA54CA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39D25-816C-4F40-9DE4-38D2B187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8624E-448E-4D4F-8897-C6A4CA1CA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17868-D5C8-4718-9E05-C3A78F84F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F9E69-2465-4770-8D57-472288493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2E117-1D47-4FA7-990B-71A23346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E2D33-C2BE-474B-AD99-CB310A73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2D5EB-8C92-4ECE-8764-2ECFEDEE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8BA2A-9A0E-4BB3-A016-91F5DB9B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D53F1-0CA5-45EE-9367-B92F0C10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DA111-701E-41FF-AE5A-3AA56ADF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2BE30-9BAC-4B48-B0A3-0EEC40E0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68E4E-0A99-4853-AAEA-B9788619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F7BF1-E119-4E4E-B3C1-3AB5A519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20E16-5FB9-46C2-8CAA-790B48DA8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EFA02-ABE2-4E46-9181-A049F9721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0127D-5750-4C00-AF26-22B126DC9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E5EAB-F5C6-40BE-B005-711C9D0D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518DA-4905-49AD-90B5-DC247AA6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3477E-BC28-4B01-9952-01A0459D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F00CA-757C-4DC9-9EE9-B897DA9B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B06B3-91BD-4A2A-BA13-3AA196F4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BEDE4-4E2E-4970-8D0D-FA2ACCA9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1E258-5F00-4B25-BEFF-FA708393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6B6D8-EC0D-4436-A381-928C0A1E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3C88C-DC76-401A-9ECF-65E0B532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AAE32-D92F-47F6-B460-89290DB3C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B5121-BAA7-4713-84E2-E20E68244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CB037-8E45-4B5A-8105-4A62237B1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50812-B62E-47A3-9929-00354C08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7E96F-BEFD-4279-BAAD-B6049C5D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C4ECF-0500-411A-B302-763320EB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88F10-BBE9-43D5-A2F6-B77B80AA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ACA01-AD04-4CD5-AF3F-F3601A56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84A97-1771-4F84-A269-B2993543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D96CF-B7ED-4328-9B2D-0B1ED458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4A97E-4D21-40D2-AAC0-6A9427DF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34D2B-8D5E-4093-8EB5-776FD9A0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EB082-298E-48B0-864D-B883BDB5C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403B3-9522-4FFE-8F9F-47BD1823B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D305C-DB5F-4A05-899B-8EFA0A757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CF1C3-F5A9-4C56-824F-06DB0A22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5E635-668F-4479-A5EA-DB07345B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圆角矩形 15"/>
          <p:cNvSpPr/>
          <p:nvPr/>
        </p:nvSpPr>
        <p:spPr>
          <a:xfrm>
            <a:off x="71280" y="115920"/>
            <a:ext cx="9001440" cy="6669000"/>
          </a:xfrm>
          <a:prstGeom prst="roundRect">
            <a:avLst>
              <a:gd name="adj" fmla="val 456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直接连接符 8"/>
          <p:cNvSpPr/>
          <p:nvPr/>
        </p:nvSpPr>
        <p:spPr>
          <a:xfrm>
            <a:off x="428760" y="6357960"/>
            <a:ext cx="8286480" cy="144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TextBox 10"/>
          <p:cNvSpPr/>
          <p:nvPr/>
        </p:nvSpPr>
        <p:spPr>
          <a:xfrm>
            <a:off x="6572160" y="641664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静思笃行   持中秉正  　　　　　　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" name="图片 5" descr="江西师大.png"/>
          <p:cNvPicPr/>
          <p:nvPr/>
        </p:nvPicPr>
        <p:blipFill>
          <a:blip r:embed="rId2"/>
          <a:stretch/>
        </p:blipFill>
        <p:spPr>
          <a:xfrm>
            <a:off x="500040" y="6383160"/>
            <a:ext cx="1144440" cy="397080"/>
          </a:xfrm>
          <a:prstGeom prst="rect">
            <a:avLst/>
          </a:prstGeom>
          <a:ln w="0">
            <a:noFill/>
          </a:ln>
        </p:spPr>
      </p:pic>
      <p:sp>
        <p:nvSpPr>
          <p:cNvPr id="4" name="直接连接符 2"/>
          <p:cNvSpPr/>
          <p:nvPr/>
        </p:nvSpPr>
        <p:spPr>
          <a:xfrm>
            <a:off x="1692360" y="6416640"/>
            <a:ext cx="0" cy="3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TextBox 7"/>
          <p:cNvSpPr/>
          <p:nvPr/>
        </p:nvSpPr>
        <p:spPr>
          <a:xfrm>
            <a:off x="1984320" y="6434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微软雅黑"/>
              </a:rPr>
              <a:t>秋记与你分享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圆角矩形 15"/>
          <p:cNvSpPr/>
          <p:nvPr/>
        </p:nvSpPr>
        <p:spPr>
          <a:xfrm>
            <a:off x="71280" y="115920"/>
            <a:ext cx="9001440" cy="6669000"/>
          </a:xfrm>
          <a:prstGeom prst="roundRect">
            <a:avLst>
              <a:gd name="adj" fmla="val 456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直接连接符 8"/>
          <p:cNvSpPr/>
          <p:nvPr/>
        </p:nvSpPr>
        <p:spPr>
          <a:xfrm>
            <a:off x="428760" y="6357960"/>
            <a:ext cx="8286480" cy="144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TextBox 10"/>
          <p:cNvSpPr/>
          <p:nvPr/>
        </p:nvSpPr>
        <p:spPr>
          <a:xfrm>
            <a:off x="6572160" y="641664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静思笃行   持中秉正  　　　　　　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图片 5" descr="江西师大.png"/>
          <p:cNvPicPr/>
          <p:nvPr/>
        </p:nvPicPr>
        <p:blipFill>
          <a:blip r:embed="rId2"/>
          <a:stretch/>
        </p:blipFill>
        <p:spPr>
          <a:xfrm>
            <a:off x="500040" y="6383160"/>
            <a:ext cx="1144440" cy="397080"/>
          </a:xfrm>
          <a:prstGeom prst="rect">
            <a:avLst/>
          </a:prstGeom>
          <a:ln w="0">
            <a:noFill/>
          </a:ln>
        </p:spPr>
      </p:pic>
      <p:sp>
        <p:nvSpPr>
          <p:cNvPr id="407" name="直接连接符 2"/>
          <p:cNvSpPr/>
          <p:nvPr/>
        </p:nvSpPr>
        <p:spPr>
          <a:xfrm>
            <a:off x="1692360" y="6416640"/>
            <a:ext cx="0" cy="3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Box 7"/>
          <p:cNvSpPr/>
          <p:nvPr/>
        </p:nvSpPr>
        <p:spPr>
          <a:xfrm>
            <a:off x="1984320" y="6434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微软雅黑"/>
              </a:rPr>
              <a:t>秋记与你分享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6EA5-A893-49FA-953D-366415A11525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圆角矩形 15"/>
          <p:cNvSpPr/>
          <p:nvPr/>
        </p:nvSpPr>
        <p:spPr>
          <a:xfrm>
            <a:off x="71280" y="115920"/>
            <a:ext cx="9001440" cy="6669000"/>
          </a:xfrm>
          <a:prstGeom prst="roundRect">
            <a:avLst>
              <a:gd name="adj" fmla="val 456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直接连接符 8"/>
          <p:cNvSpPr/>
          <p:nvPr/>
        </p:nvSpPr>
        <p:spPr>
          <a:xfrm>
            <a:off x="428760" y="6357960"/>
            <a:ext cx="8286480" cy="144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TextBox 10"/>
          <p:cNvSpPr/>
          <p:nvPr/>
        </p:nvSpPr>
        <p:spPr>
          <a:xfrm>
            <a:off x="6572160" y="641664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静思笃行   持中秉正  　　　　　　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1" name="图片 5" descr="江西师大.png"/>
          <p:cNvPicPr/>
          <p:nvPr/>
        </p:nvPicPr>
        <p:blipFill>
          <a:blip r:embed="rId2"/>
          <a:stretch/>
        </p:blipFill>
        <p:spPr>
          <a:xfrm>
            <a:off x="500040" y="6383160"/>
            <a:ext cx="1144440" cy="397080"/>
          </a:xfrm>
          <a:prstGeom prst="rect">
            <a:avLst/>
          </a:prstGeom>
          <a:ln w="0">
            <a:noFill/>
          </a:ln>
        </p:spPr>
      </p:pic>
      <p:sp>
        <p:nvSpPr>
          <p:cNvPr id="452" name="直接连接符 2"/>
          <p:cNvSpPr/>
          <p:nvPr/>
        </p:nvSpPr>
        <p:spPr>
          <a:xfrm>
            <a:off x="1692360" y="6416640"/>
            <a:ext cx="0" cy="3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TextBox 7"/>
          <p:cNvSpPr/>
          <p:nvPr/>
        </p:nvSpPr>
        <p:spPr>
          <a:xfrm>
            <a:off x="1984320" y="6434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微软雅黑"/>
              </a:rPr>
              <a:t>秋记与你分享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99C9-205B-4DA6-8937-82019671CC60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圆角矩形 15"/>
          <p:cNvSpPr/>
          <p:nvPr/>
        </p:nvSpPr>
        <p:spPr>
          <a:xfrm>
            <a:off x="71280" y="115920"/>
            <a:ext cx="9001440" cy="6669000"/>
          </a:xfrm>
          <a:prstGeom prst="roundRect">
            <a:avLst>
              <a:gd name="adj" fmla="val 456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直接连接符 8"/>
          <p:cNvSpPr/>
          <p:nvPr/>
        </p:nvSpPr>
        <p:spPr>
          <a:xfrm>
            <a:off x="428760" y="6357960"/>
            <a:ext cx="8286480" cy="144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10"/>
          <p:cNvSpPr/>
          <p:nvPr/>
        </p:nvSpPr>
        <p:spPr>
          <a:xfrm>
            <a:off x="6572160" y="641664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静思笃行   持中秉正  　　　　　　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6" name="图片 5" descr="江西师大.png"/>
          <p:cNvPicPr/>
          <p:nvPr/>
        </p:nvPicPr>
        <p:blipFill>
          <a:blip r:embed="rId2"/>
          <a:stretch/>
        </p:blipFill>
        <p:spPr>
          <a:xfrm>
            <a:off x="500040" y="6383160"/>
            <a:ext cx="1144440" cy="397080"/>
          </a:xfrm>
          <a:prstGeom prst="rect">
            <a:avLst/>
          </a:prstGeom>
          <a:ln w="0">
            <a:noFill/>
          </a:ln>
        </p:spPr>
      </p:pic>
      <p:sp>
        <p:nvSpPr>
          <p:cNvPr id="497" name="直接连接符 2"/>
          <p:cNvSpPr/>
          <p:nvPr/>
        </p:nvSpPr>
        <p:spPr>
          <a:xfrm>
            <a:off x="1692360" y="6416640"/>
            <a:ext cx="0" cy="3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7"/>
          <p:cNvSpPr/>
          <p:nvPr/>
        </p:nvSpPr>
        <p:spPr>
          <a:xfrm>
            <a:off x="1984320" y="6434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微软雅黑"/>
              </a:rPr>
              <a:t>秋记与你分享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D203-7743-4F65-9C1A-9178E6607E47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圆角矩形 15"/>
          <p:cNvSpPr/>
          <p:nvPr/>
        </p:nvSpPr>
        <p:spPr>
          <a:xfrm>
            <a:off x="71280" y="115920"/>
            <a:ext cx="9001440" cy="6669000"/>
          </a:xfrm>
          <a:prstGeom prst="roundRect">
            <a:avLst>
              <a:gd name="adj" fmla="val 456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直接连接符 8"/>
          <p:cNvSpPr/>
          <p:nvPr/>
        </p:nvSpPr>
        <p:spPr>
          <a:xfrm>
            <a:off x="428760" y="6357960"/>
            <a:ext cx="8286480" cy="144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6572160" y="641664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静思笃行   持中秉正  　　　　　　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" name="图片 5" descr="江西师大.png"/>
          <p:cNvPicPr/>
          <p:nvPr/>
        </p:nvPicPr>
        <p:blipFill>
          <a:blip r:embed="rId2"/>
          <a:stretch/>
        </p:blipFill>
        <p:spPr>
          <a:xfrm>
            <a:off x="500040" y="6383160"/>
            <a:ext cx="1144440" cy="397080"/>
          </a:xfrm>
          <a:prstGeom prst="rect">
            <a:avLst/>
          </a:prstGeom>
          <a:ln w="0">
            <a:noFill/>
          </a:ln>
        </p:spPr>
      </p:pic>
      <p:sp>
        <p:nvSpPr>
          <p:cNvPr id="46" name="直接连接符 2"/>
          <p:cNvSpPr/>
          <p:nvPr/>
        </p:nvSpPr>
        <p:spPr>
          <a:xfrm>
            <a:off x="1692360" y="6416640"/>
            <a:ext cx="0" cy="3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1984320" y="6434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微软雅黑"/>
              </a:rPr>
              <a:t>秋记与你分享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3399-5BF9-435F-80C1-2059A62961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圆角矩形 15"/>
          <p:cNvSpPr/>
          <p:nvPr/>
        </p:nvSpPr>
        <p:spPr>
          <a:xfrm>
            <a:off x="71280" y="115920"/>
            <a:ext cx="9001440" cy="6669000"/>
          </a:xfrm>
          <a:prstGeom prst="roundRect">
            <a:avLst>
              <a:gd name="adj" fmla="val 456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直接连接符 8"/>
          <p:cNvSpPr/>
          <p:nvPr/>
        </p:nvSpPr>
        <p:spPr>
          <a:xfrm>
            <a:off x="428760" y="6357960"/>
            <a:ext cx="8286480" cy="144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TextBox 10"/>
          <p:cNvSpPr/>
          <p:nvPr/>
        </p:nvSpPr>
        <p:spPr>
          <a:xfrm>
            <a:off x="6572160" y="641664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静思笃行   持中秉正  　　　　　　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图片 5" descr="江西师大.png"/>
          <p:cNvPicPr/>
          <p:nvPr/>
        </p:nvPicPr>
        <p:blipFill>
          <a:blip r:embed="rId2"/>
          <a:stretch/>
        </p:blipFill>
        <p:spPr>
          <a:xfrm>
            <a:off x="500040" y="6383160"/>
            <a:ext cx="1144440" cy="397080"/>
          </a:xfrm>
          <a:prstGeom prst="rect">
            <a:avLst/>
          </a:prstGeom>
          <a:ln w="0">
            <a:noFill/>
          </a:ln>
        </p:spPr>
      </p:pic>
      <p:sp>
        <p:nvSpPr>
          <p:cNvPr id="92" name="直接连接符 2"/>
          <p:cNvSpPr/>
          <p:nvPr/>
        </p:nvSpPr>
        <p:spPr>
          <a:xfrm>
            <a:off x="1692360" y="6416640"/>
            <a:ext cx="0" cy="3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1984320" y="6434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微软雅黑"/>
              </a:rPr>
              <a:t>秋记与你分享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CA3B-9611-4AAD-8A87-BDA9DD443FE1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圆角矩形 15"/>
          <p:cNvSpPr/>
          <p:nvPr/>
        </p:nvSpPr>
        <p:spPr>
          <a:xfrm>
            <a:off x="71280" y="115920"/>
            <a:ext cx="9001440" cy="6669000"/>
          </a:xfrm>
          <a:prstGeom prst="roundRect">
            <a:avLst>
              <a:gd name="adj" fmla="val 456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直接连接符 8"/>
          <p:cNvSpPr/>
          <p:nvPr/>
        </p:nvSpPr>
        <p:spPr>
          <a:xfrm>
            <a:off x="428760" y="6357960"/>
            <a:ext cx="8286480" cy="144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Box 10"/>
          <p:cNvSpPr/>
          <p:nvPr/>
        </p:nvSpPr>
        <p:spPr>
          <a:xfrm>
            <a:off x="6572160" y="641664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静思笃行   持中秉正  　　　　　　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图片 5" descr="江西师大.png"/>
          <p:cNvPicPr/>
          <p:nvPr/>
        </p:nvPicPr>
        <p:blipFill>
          <a:blip r:embed="rId2"/>
          <a:stretch/>
        </p:blipFill>
        <p:spPr>
          <a:xfrm>
            <a:off x="500040" y="6383160"/>
            <a:ext cx="1144440" cy="397080"/>
          </a:xfrm>
          <a:prstGeom prst="rect">
            <a:avLst/>
          </a:prstGeom>
          <a:ln w="0">
            <a:noFill/>
          </a:ln>
        </p:spPr>
      </p:pic>
      <p:sp>
        <p:nvSpPr>
          <p:cNvPr id="137" name="直接连接符 2"/>
          <p:cNvSpPr/>
          <p:nvPr/>
        </p:nvSpPr>
        <p:spPr>
          <a:xfrm>
            <a:off x="1692360" y="6416640"/>
            <a:ext cx="0" cy="3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1984320" y="6434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微软雅黑"/>
              </a:rPr>
              <a:t>秋记与你分享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AF87-F81B-45B8-94D2-F21A1F1AA02F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圆角矩形 15"/>
          <p:cNvSpPr/>
          <p:nvPr/>
        </p:nvSpPr>
        <p:spPr>
          <a:xfrm>
            <a:off x="71280" y="115920"/>
            <a:ext cx="9001440" cy="6669000"/>
          </a:xfrm>
          <a:prstGeom prst="roundRect">
            <a:avLst>
              <a:gd name="adj" fmla="val 456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直接连接符 8"/>
          <p:cNvSpPr/>
          <p:nvPr/>
        </p:nvSpPr>
        <p:spPr>
          <a:xfrm>
            <a:off x="428760" y="6357960"/>
            <a:ext cx="8286480" cy="144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6572160" y="641664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静思笃行   持中秉正  　　　　　　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图片 5" descr="江西师大.png"/>
          <p:cNvPicPr/>
          <p:nvPr/>
        </p:nvPicPr>
        <p:blipFill>
          <a:blip r:embed="rId2"/>
          <a:stretch/>
        </p:blipFill>
        <p:spPr>
          <a:xfrm>
            <a:off x="500040" y="6383160"/>
            <a:ext cx="1144440" cy="397080"/>
          </a:xfrm>
          <a:prstGeom prst="rect">
            <a:avLst/>
          </a:prstGeom>
          <a:ln w="0">
            <a:noFill/>
          </a:ln>
        </p:spPr>
      </p:pic>
      <p:sp>
        <p:nvSpPr>
          <p:cNvPr id="182" name="直接连接符 2"/>
          <p:cNvSpPr/>
          <p:nvPr/>
        </p:nvSpPr>
        <p:spPr>
          <a:xfrm>
            <a:off x="1692360" y="6416640"/>
            <a:ext cx="0" cy="3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Box 7"/>
          <p:cNvSpPr/>
          <p:nvPr/>
        </p:nvSpPr>
        <p:spPr>
          <a:xfrm>
            <a:off x="1984320" y="6434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微软雅黑"/>
              </a:rPr>
              <a:t>秋记与你分享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8914-66C5-48BC-AE9C-BE51F4E29A22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圆角矩形 15"/>
          <p:cNvSpPr/>
          <p:nvPr/>
        </p:nvSpPr>
        <p:spPr>
          <a:xfrm>
            <a:off x="71280" y="115920"/>
            <a:ext cx="9001440" cy="6669000"/>
          </a:xfrm>
          <a:prstGeom prst="roundRect">
            <a:avLst>
              <a:gd name="adj" fmla="val 456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直接连接符 8"/>
          <p:cNvSpPr/>
          <p:nvPr/>
        </p:nvSpPr>
        <p:spPr>
          <a:xfrm>
            <a:off x="428760" y="6357960"/>
            <a:ext cx="8286480" cy="144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Box 10"/>
          <p:cNvSpPr/>
          <p:nvPr/>
        </p:nvSpPr>
        <p:spPr>
          <a:xfrm>
            <a:off x="6572160" y="641664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静思笃行   持中秉正  　　　　　　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图片 5" descr="江西师大.png"/>
          <p:cNvPicPr/>
          <p:nvPr/>
        </p:nvPicPr>
        <p:blipFill>
          <a:blip r:embed="rId2"/>
          <a:stretch/>
        </p:blipFill>
        <p:spPr>
          <a:xfrm>
            <a:off x="500040" y="6383160"/>
            <a:ext cx="1144440" cy="397080"/>
          </a:xfrm>
          <a:prstGeom prst="rect">
            <a:avLst/>
          </a:prstGeom>
          <a:ln w="0">
            <a:noFill/>
          </a:ln>
        </p:spPr>
      </p:pic>
      <p:sp>
        <p:nvSpPr>
          <p:cNvPr id="227" name="直接连接符 2"/>
          <p:cNvSpPr/>
          <p:nvPr/>
        </p:nvSpPr>
        <p:spPr>
          <a:xfrm>
            <a:off x="1692360" y="6416640"/>
            <a:ext cx="0" cy="3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Box 7"/>
          <p:cNvSpPr/>
          <p:nvPr/>
        </p:nvSpPr>
        <p:spPr>
          <a:xfrm>
            <a:off x="1984320" y="6434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微软雅黑"/>
              </a:rPr>
              <a:t>秋记与你分享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8338-4354-4354-A270-C0F66052F434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圆角矩形 15"/>
          <p:cNvSpPr/>
          <p:nvPr/>
        </p:nvSpPr>
        <p:spPr>
          <a:xfrm>
            <a:off x="71280" y="115920"/>
            <a:ext cx="9001440" cy="6669000"/>
          </a:xfrm>
          <a:prstGeom prst="roundRect">
            <a:avLst>
              <a:gd name="adj" fmla="val 456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直接连接符 8"/>
          <p:cNvSpPr/>
          <p:nvPr/>
        </p:nvSpPr>
        <p:spPr>
          <a:xfrm>
            <a:off x="428760" y="6357960"/>
            <a:ext cx="8286480" cy="144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Box 10"/>
          <p:cNvSpPr/>
          <p:nvPr/>
        </p:nvSpPr>
        <p:spPr>
          <a:xfrm>
            <a:off x="6572160" y="641664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静思笃行   持中秉正  　　　　　　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图片 5" descr="江西师大.png"/>
          <p:cNvPicPr/>
          <p:nvPr/>
        </p:nvPicPr>
        <p:blipFill>
          <a:blip r:embed="rId2"/>
          <a:stretch/>
        </p:blipFill>
        <p:spPr>
          <a:xfrm>
            <a:off x="500040" y="6383160"/>
            <a:ext cx="1144440" cy="397080"/>
          </a:xfrm>
          <a:prstGeom prst="rect">
            <a:avLst/>
          </a:prstGeom>
          <a:ln w="0">
            <a:noFill/>
          </a:ln>
        </p:spPr>
      </p:pic>
      <p:sp>
        <p:nvSpPr>
          <p:cNvPr id="272" name="直接连接符 2"/>
          <p:cNvSpPr/>
          <p:nvPr/>
        </p:nvSpPr>
        <p:spPr>
          <a:xfrm>
            <a:off x="1692360" y="6416640"/>
            <a:ext cx="0" cy="3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TextBox 7"/>
          <p:cNvSpPr/>
          <p:nvPr/>
        </p:nvSpPr>
        <p:spPr>
          <a:xfrm>
            <a:off x="1984320" y="6434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微软雅黑"/>
              </a:rPr>
              <a:t>秋记与你分享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F63F-0EC1-416B-897D-E425017B2261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圆角矩形 15"/>
          <p:cNvSpPr/>
          <p:nvPr/>
        </p:nvSpPr>
        <p:spPr>
          <a:xfrm>
            <a:off x="71280" y="115920"/>
            <a:ext cx="9001440" cy="6669000"/>
          </a:xfrm>
          <a:prstGeom prst="roundRect">
            <a:avLst>
              <a:gd name="adj" fmla="val 456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直接连接符 8"/>
          <p:cNvSpPr/>
          <p:nvPr/>
        </p:nvSpPr>
        <p:spPr>
          <a:xfrm>
            <a:off x="428760" y="6357960"/>
            <a:ext cx="8286480" cy="144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TextBox 10"/>
          <p:cNvSpPr/>
          <p:nvPr/>
        </p:nvSpPr>
        <p:spPr>
          <a:xfrm>
            <a:off x="6572160" y="641664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静思笃行   持中秉正  　　　　　　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6" name="图片 5" descr="江西师大.png"/>
          <p:cNvPicPr/>
          <p:nvPr/>
        </p:nvPicPr>
        <p:blipFill>
          <a:blip r:embed="rId2"/>
          <a:stretch/>
        </p:blipFill>
        <p:spPr>
          <a:xfrm>
            <a:off x="500040" y="6383160"/>
            <a:ext cx="1144440" cy="397080"/>
          </a:xfrm>
          <a:prstGeom prst="rect">
            <a:avLst/>
          </a:prstGeom>
          <a:ln w="0">
            <a:noFill/>
          </a:ln>
        </p:spPr>
      </p:pic>
      <p:sp>
        <p:nvSpPr>
          <p:cNvPr id="317" name="直接连接符 2"/>
          <p:cNvSpPr/>
          <p:nvPr/>
        </p:nvSpPr>
        <p:spPr>
          <a:xfrm>
            <a:off x="1692360" y="6416640"/>
            <a:ext cx="0" cy="3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TextBox 7"/>
          <p:cNvSpPr/>
          <p:nvPr/>
        </p:nvSpPr>
        <p:spPr>
          <a:xfrm>
            <a:off x="1984320" y="6434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微软雅黑"/>
              </a:rPr>
              <a:t>秋记与你分享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405C-7FBE-4280-B943-EBB1F49243D6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圆角矩形 15"/>
          <p:cNvSpPr/>
          <p:nvPr/>
        </p:nvSpPr>
        <p:spPr>
          <a:xfrm>
            <a:off x="71280" y="115920"/>
            <a:ext cx="9001440" cy="6669000"/>
          </a:xfrm>
          <a:prstGeom prst="roundRect">
            <a:avLst>
              <a:gd name="adj" fmla="val 456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直接连接符 8"/>
          <p:cNvSpPr/>
          <p:nvPr/>
        </p:nvSpPr>
        <p:spPr>
          <a:xfrm>
            <a:off x="428760" y="6357960"/>
            <a:ext cx="8286480" cy="144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TextBox 10"/>
          <p:cNvSpPr/>
          <p:nvPr/>
        </p:nvSpPr>
        <p:spPr>
          <a:xfrm>
            <a:off x="6572160" y="641664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静思笃行   持中秉正  　　　　　　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1" name="图片 5" descr="江西师大.png"/>
          <p:cNvPicPr/>
          <p:nvPr/>
        </p:nvPicPr>
        <p:blipFill>
          <a:blip r:embed="rId2"/>
          <a:stretch/>
        </p:blipFill>
        <p:spPr>
          <a:xfrm>
            <a:off x="500040" y="6383160"/>
            <a:ext cx="1144440" cy="397080"/>
          </a:xfrm>
          <a:prstGeom prst="rect">
            <a:avLst/>
          </a:prstGeom>
          <a:ln w="0">
            <a:noFill/>
          </a:ln>
        </p:spPr>
      </p:pic>
      <p:sp>
        <p:nvSpPr>
          <p:cNvPr id="362" name="直接连接符 2"/>
          <p:cNvSpPr/>
          <p:nvPr/>
        </p:nvSpPr>
        <p:spPr>
          <a:xfrm>
            <a:off x="1692360" y="6416640"/>
            <a:ext cx="0" cy="3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TextBox 7"/>
          <p:cNvSpPr/>
          <p:nvPr/>
        </p:nvSpPr>
        <p:spPr>
          <a:xfrm>
            <a:off x="1984320" y="6434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微软雅黑"/>
              </a:rPr>
              <a:t>秋记与你分享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3D24-E62E-4E78-A2C3-77047BD9A403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image" Target="../media/image15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20.png"/><Relationship Id="rId4" Type="http://schemas.openxmlformats.org/officeDocument/2006/relationships/image" Target="../media/image1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25.png"/><Relationship Id="rId4" Type="http://schemas.openxmlformats.org/officeDocument/2006/relationships/image" Target="../media/image11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23.png"/><Relationship Id="rId4" Type="http://schemas.openxmlformats.org/officeDocument/2006/relationships/image" Target="../media/image11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image" Target="../media/image29.png"/><Relationship Id="rId12" Type="http://schemas.openxmlformats.org/officeDocument/2006/relationships/image" Target="../media/image31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7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矩形 5" descr=""/>
          <p:cNvPicPr/>
          <p:nvPr/>
        </p:nvPicPr>
        <p:blipFill>
          <a:blip r:embed="rId1"/>
          <a:stretch/>
        </p:blipFill>
        <p:spPr>
          <a:xfrm>
            <a:off x="0" y="4071960"/>
            <a:ext cx="9144000" cy="73080"/>
          </a:xfrm>
          <a:prstGeom prst="rect">
            <a:avLst/>
          </a:prstGeom>
          <a:ln w="0">
            <a:noFill/>
          </a:ln>
        </p:spPr>
      </p:pic>
      <p:pic>
        <p:nvPicPr>
          <p:cNvPr id="539" name="矩形 3" descr=""/>
          <p:cNvPicPr/>
          <p:nvPr/>
        </p:nvPicPr>
        <p:blipFill>
          <a:blip r:embed="rId2"/>
          <a:stretch/>
        </p:blipFill>
        <p:spPr>
          <a:xfrm>
            <a:off x="0" y="1646280"/>
            <a:ext cx="9144000" cy="2286000"/>
          </a:xfrm>
          <a:prstGeom prst="rect">
            <a:avLst/>
          </a:prstGeom>
          <a:ln w="0">
            <a:noFill/>
          </a:ln>
        </p:spPr>
      </p:pic>
      <p:pic>
        <p:nvPicPr>
          <p:cNvPr id="540" name="TextBox 8" descr=""/>
          <p:cNvPicPr/>
          <p:nvPr/>
        </p:nvPicPr>
        <p:blipFill>
          <a:blip r:embed="rId3"/>
          <a:stretch/>
        </p:blipFill>
        <p:spPr>
          <a:xfrm>
            <a:off x="444600" y="2408400"/>
            <a:ext cx="8424720" cy="134604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3600360" y="4857480"/>
            <a:ext cx="640080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答辩人：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导   师：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2" name="图片 6" descr="江西师大.png"/>
          <p:cNvPicPr/>
          <p:nvPr/>
        </p:nvPicPr>
        <p:blipFill>
          <a:blip r:embed="rId4"/>
          <a:stretch/>
        </p:blipFill>
        <p:spPr>
          <a:xfrm>
            <a:off x="142920" y="142920"/>
            <a:ext cx="2879640" cy="1000080"/>
          </a:xfrm>
          <a:prstGeom prst="rect">
            <a:avLst/>
          </a:prstGeom>
          <a:ln w="0">
            <a:noFill/>
          </a:ln>
        </p:spPr>
      </p:pic>
      <p:grpSp>
        <p:nvGrpSpPr>
          <p:cNvPr id="543" name="Group 2805"/>
          <p:cNvGrpSpPr/>
          <p:nvPr/>
        </p:nvGrpSpPr>
        <p:grpSpPr>
          <a:xfrm>
            <a:off x="571680" y="4143240"/>
            <a:ext cx="3642840" cy="500040"/>
            <a:chOff x="571680" y="4143240"/>
            <a:chExt cx="3642840" cy="500040"/>
          </a:xfrm>
        </p:grpSpPr>
        <p:sp>
          <p:nvSpPr>
            <p:cNvPr id="544" name="AutoShape 2788"/>
            <p:cNvSpPr/>
            <p:nvPr/>
          </p:nvSpPr>
          <p:spPr>
            <a:xfrm>
              <a:off x="571680" y="4143240"/>
              <a:ext cx="950400" cy="500040"/>
            </a:xfrm>
            <a:custGeom>
              <a:avLst/>
              <a:gdLst>
                <a:gd name="textAreaLeft" fmla="*/ 0 w 950400"/>
                <a:gd name="textAreaRight" fmla="*/ 950760 w 95040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7f7f7f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5" name="AutoShape 2792"/>
            <p:cNvSpPr/>
            <p:nvPr/>
          </p:nvSpPr>
          <p:spPr>
            <a:xfrm>
              <a:off x="1473120" y="4143240"/>
              <a:ext cx="946800" cy="500040"/>
            </a:xfrm>
            <a:custGeom>
              <a:avLst/>
              <a:gdLst>
                <a:gd name="textAreaLeft" fmla="*/ 0 w 946800"/>
                <a:gd name="textAreaRight" fmla="*/ 947160 w 94680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182" y="0"/>
                  </a:lnTo>
                  <a:lnTo>
                    <a:pt x="21600" y="10800"/>
                  </a:lnTo>
                  <a:lnTo>
                    <a:pt x="16182" y="21600"/>
                  </a:lnTo>
                  <a:lnTo>
                    <a:pt x="0" y="21600"/>
                  </a:lnTo>
                  <a:lnTo>
                    <a:pt x="5418" y="10800"/>
                  </a:lnTo>
                  <a:close/>
                </a:path>
              </a:pathLst>
            </a:custGeom>
            <a:solidFill>
              <a:srgbClr val="7f7f7f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6" name="AutoShape 2793"/>
            <p:cNvSpPr/>
            <p:nvPr/>
          </p:nvSpPr>
          <p:spPr>
            <a:xfrm>
              <a:off x="2353680" y="4143240"/>
              <a:ext cx="947160" cy="500040"/>
            </a:xfrm>
            <a:custGeom>
              <a:avLst/>
              <a:gdLst>
                <a:gd name="textAreaLeft" fmla="*/ 0 w 947160"/>
                <a:gd name="textAreaRight" fmla="*/ 947520 w 94716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182" y="0"/>
                  </a:lnTo>
                  <a:lnTo>
                    <a:pt x="21600" y="10800"/>
                  </a:lnTo>
                  <a:lnTo>
                    <a:pt x="16182" y="21600"/>
                  </a:lnTo>
                  <a:lnTo>
                    <a:pt x="0" y="21600"/>
                  </a:lnTo>
                  <a:lnTo>
                    <a:pt x="5418" y="10800"/>
                  </a:lnTo>
                  <a:close/>
                </a:path>
              </a:pathLst>
            </a:custGeom>
            <a:solidFill>
              <a:srgbClr val="7f7f7f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7" name="AutoShape 2794"/>
            <p:cNvSpPr/>
            <p:nvPr/>
          </p:nvSpPr>
          <p:spPr>
            <a:xfrm>
              <a:off x="3264480" y="4143240"/>
              <a:ext cx="950040" cy="500040"/>
            </a:xfrm>
            <a:custGeom>
              <a:avLst/>
              <a:gdLst>
                <a:gd name="textAreaLeft" fmla="*/ 0 w 950040"/>
                <a:gd name="textAreaRight" fmla="*/ 950400 w 95004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7f7f7f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721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2" name="圆角矩形 14" descr=""/>
          <p:cNvPicPr/>
          <p:nvPr/>
        </p:nvPicPr>
        <p:blipFill>
          <a:blip r:embed="rId2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723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724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25" name="同侧圆角矩形 19"/>
            <p:cNvGrpSpPr/>
            <p:nvPr/>
          </p:nvGrpSpPr>
          <p:grpSpPr>
            <a:xfrm>
              <a:off x="785880" y="1000440"/>
              <a:ext cx="1143360" cy="499320"/>
              <a:chOff x="785880" y="1000440"/>
              <a:chExt cx="1143360" cy="499320"/>
            </a:xfrm>
          </p:grpSpPr>
          <p:pic>
            <p:nvPicPr>
              <p:cNvPr id="726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046520"/>
                <a:ext cx="1072800" cy="453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7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88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28" name="TextBox 20"/>
            <p:cNvSpPr/>
            <p:nvPr/>
          </p:nvSpPr>
          <p:spPr>
            <a:xfrm>
              <a:off x="428760" y="171468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29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30" name="组合 20"/>
          <p:cNvGrpSpPr/>
          <p:nvPr/>
        </p:nvGrpSpPr>
        <p:grpSpPr>
          <a:xfrm>
            <a:off x="971640" y="3357720"/>
            <a:ext cx="1758960" cy="2057400"/>
            <a:chOff x="971640" y="3357720"/>
            <a:chExt cx="1758960" cy="2057400"/>
          </a:xfrm>
        </p:grpSpPr>
        <p:sp>
          <p:nvSpPr>
            <p:cNvPr id="731" name="矩形标注 21"/>
            <p:cNvSpPr/>
            <p:nvPr/>
          </p:nvSpPr>
          <p:spPr>
            <a:xfrm>
              <a:off x="971640" y="3357720"/>
              <a:ext cx="1758960" cy="2057400"/>
            </a:xfrm>
            <a:prstGeom prst="wedgeRectCallout">
              <a:avLst>
                <a:gd name="adj1" fmla="val 8143"/>
                <a:gd name="adj2" fmla="val 60379"/>
              </a:avLst>
            </a:prstGeom>
            <a:solidFill>
              <a:srgbClr val="ffffff"/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2" name="矩形 23"/>
            <p:cNvSpPr/>
            <p:nvPr/>
          </p:nvSpPr>
          <p:spPr>
            <a:xfrm>
              <a:off x="1096920" y="4008600"/>
              <a:ext cx="1513080" cy="1287360"/>
            </a:xfrm>
            <a:prstGeom prst="rect">
              <a:avLst/>
            </a:prstGeom>
            <a:solidFill>
              <a:srgbClr val="c5f3ff"/>
            </a:solidFill>
            <a:ln w="25560">
              <a:solidFill>
                <a:srgbClr val="bfbfb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XXXXX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3" name="矩形 9"/>
            <p:cNvSpPr/>
            <p:nvPr/>
          </p:nvSpPr>
          <p:spPr>
            <a:xfrm>
              <a:off x="1073880" y="352044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d13b"/>
                  </a:solidFill>
                  <a:latin typeface="Constantia"/>
                  <a:ea typeface="微软雅黑"/>
                </a:rPr>
                <a:t>X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34" name="组合 21"/>
          <p:cNvGrpSpPr/>
          <p:nvPr/>
        </p:nvGrpSpPr>
        <p:grpSpPr>
          <a:xfrm>
            <a:off x="3738600" y="3357720"/>
            <a:ext cx="1760400" cy="2057400"/>
            <a:chOff x="3738600" y="3357720"/>
            <a:chExt cx="1760400" cy="2057400"/>
          </a:xfrm>
        </p:grpSpPr>
        <p:sp>
          <p:nvSpPr>
            <p:cNvPr id="735" name="矩形标注 29"/>
            <p:cNvSpPr/>
            <p:nvPr/>
          </p:nvSpPr>
          <p:spPr>
            <a:xfrm>
              <a:off x="3738600" y="3357720"/>
              <a:ext cx="1760400" cy="2057400"/>
            </a:xfrm>
            <a:prstGeom prst="wedgeRectCallout">
              <a:avLst>
                <a:gd name="adj1" fmla="val 8143"/>
                <a:gd name="adj2" fmla="val 60379"/>
              </a:avLst>
            </a:prstGeom>
            <a:solidFill>
              <a:srgbClr val="ffffff"/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6" name="矩形 30"/>
            <p:cNvSpPr/>
            <p:nvPr/>
          </p:nvSpPr>
          <p:spPr>
            <a:xfrm>
              <a:off x="3863880" y="4008600"/>
              <a:ext cx="1514520" cy="1287360"/>
            </a:xfrm>
            <a:prstGeom prst="rect">
              <a:avLst/>
            </a:prstGeom>
            <a:solidFill>
              <a:srgbClr val="c5f3ff"/>
            </a:solidFill>
            <a:ln w="25560">
              <a:solidFill>
                <a:srgbClr val="bfbfb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XXXX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7" name="矩形 14"/>
            <p:cNvSpPr/>
            <p:nvPr/>
          </p:nvSpPr>
          <p:spPr>
            <a:xfrm>
              <a:off x="4139280" y="352044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d13b"/>
                  </a:solidFill>
                  <a:latin typeface="Constantia"/>
                  <a:ea typeface="微软雅黑"/>
                </a:rPr>
                <a:t>X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38" name="TextBox 33"/>
          <p:cNvSpPr/>
          <p:nvPr/>
        </p:nvSpPr>
        <p:spPr>
          <a:xfrm>
            <a:off x="2874960" y="397512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38ac8"/>
                </a:solidFill>
                <a:latin typeface="Verdana"/>
                <a:ea typeface="微软雅黑"/>
              </a:rPr>
              <a:t>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TextBox 34"/>
          <p:cNvSpPr/>
          <p:nvPr/>
        </p:nvSpPr>
        <p:spPr>
          <a:xfrm>
            <a:off x="5611680" y="398772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38ac8"/>
                </a:solidFill>
                <a:latin typeface="Verdana"/>
                <a:ea typeface="微软雅黑"/>
              </a:rPr>
              <a:t>＝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40" name="组合 22"/>
          <p:cNvGrpSpPr/>
          <p:nvPr/>
        </p:nvGrpSpPr>
        <p:grpSpPr>
          <a:xfrm>
            <a:off x="6475320" y="3357720"/>
            <a:ext cx="1758960" cy="2057400"/>
            <a:chOff x="6475320" y="3357720"/>
            <a:chExt cx="1758960" cy="2057400"/>
          </a:xfrm>
        </p:grpSpPr>
        <p:sp>
          <p:nvSpPr>
            <p:cNvPr id="741" name="矩形标注 37"/>
            <p:cNvSpPr/>
            <p:nvPr/>
          </p:nvSpPr>
          <p:spPr>
            <a:xfrm>
              <a:off x="6475320" y="3357720"/>
              <a:ext cx="1758960" cy="2057400"/>
            </a:xfrm>
            <a:prstGeom prst="wedgeRectCallout">
              <a:avLst>
                <a:gd name="adj1" fmla="val 8143"/>
                <a:gd name="adj2" fmla="val 60379"/>
              </a:avLst>
            </a:prstGeom>
            <a:solidFill>
              <a:srgbClr val="007eea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42" name="矩形 18"/>
            <p:cNvGrpSpPr/>
            <p:nvPr/>
          </p:nvGrpSpPr>
          <p:grpSpPr>
            <a:xfrm>
              <a:off x="6594840" y="4002120"/>
              <a:ext cx="1521720" cy="1297080"/>
              <a:chOff x="6594840" y="4002120"/>
              <a:chExt cx="1521720" cy="1297080"/>
            </a:xfrm>
          </p:grpSpPr>
          <p:pic>
            <p:nvPicPr>
              <p:cNvPr id="743" name="矩形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6594840" y="4002120"/>
                <a:ext cx="1521720" cy="12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4" name="Text Box 11"/>
              <p:cNvSpPr/>
              <p:nvPr/>
            </p:nvSpPr>
            <p:spPr>
              <a:xfrm>
                <a:off x="6601320" y="4007520"/>
                <a:ext cx="1512000" cy="128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nstantia"/>
                    <a:ea typeface="微软雅黑"/>
                  </a:rPr>
                  <a:t>XXXX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45" name="矩形 19"/>
            <p:cNvSpPr/>
            <p:nvPr/>
          </p:nvSpPr>
          <p:spPr>
            <a:xfrm>
              <a:off x="6571440" y="352044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X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747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8" name="圆角矩形 14" descr=""/>
          <p:cNvPicPr/>
          <p:nvPr/>
        </p:nvPicPr>
        <p:blipFill>
          <a:blip r:embed="rId2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749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750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51" name="同侧圆角矩形 19"/>
            <p:cNvGrpSpPr/>
            <p:nvPr/>
          </p:nvGrpSpPr>
          <p:grpSpPr>
            <a:xfrm>
              <a:off x="785880" y="1000440"/>
              <a:ext cx="1143360" cy="499320"/>
              <a:chOff x="785880" y="1000440"/>
              <a:chExt cx="1143360" cy="499320"/>
            </a:xfrm>
          </p:grpSpPr>
          <p:pic>
            <p:nvPicPr>
              <p:cNvPr id="752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046520"/>
                <a:ext cx="1072800" cy="453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3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88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54" name="TextBox 20"/>
            <p:cNvSpPr/>
            <p:nvPr/>
          </p:nvSpPr>
          <p:spPr>
            <a:xfrm>
              <a:off x="428760" y="171468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55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6" name="图示 13" descr=""/>
          <p:cNvPicPr/>
          <p:nvPr/>
        </p:nvPicPr>
        <p:blipFill>
          <a:blip r:embed="rId5"/>
          <a:stretch/>
        </p:blipFill>
        <p:spPr>
          <a:xfrm>
            <a:off x="1932120" y="2786040"/>
            <a:ext cx="516384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8" name="圆角矩形 14" descr=""/>
          <p:cNvPicPr/>
          <p:nvPr/>
        </p:nvPicPr>
        <p:blipFill>
          <a:blip r:embed="rId1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759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760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61" name="同侧圆角矩形 19"/>
            <p:cNvGrpSpPr/>
            <p:nvPr/>
          </p:nvGrpSpPr>
          <p:grpSpPr>
            <a:xfrm>
              <a:off x="785880" y="1000440"/>
              <a:ext cx="1143360" cy="499320"/>
              <a:chOff x="785880" y="1000440"/>
              <a:chExt cx="1143360" cy="499320"/>
            </a:xfrm>
          </p:grpSpPr>
          <p:pic>
            <p:nvPicPr>
              <p:cNvPr id="762" name="同侧圆角矩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56440" y="1046520"/>
                <a:ext cx="1072800" cy="453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3" name="Text Box 5" descr=""/>
              <p:cNvPicPr/>
              <p:nvPr/>
            </p:nvPicPr>
            <p:blipFill>
              <a:blip r:embed="rId3"/>
              <a:stretch/>
            </p:blipFill>
            <p:spPr>
              <a:xfrm>
                <a:off x="785880" y="1000440"/>
                <a:ext cx="107388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64" name="TextBox 20"/>
            <p:cNvSpPr/>
            <p:nvPr/>
          </p:nvSpPr>
          <p:spPr>
            <a:xfrm>
              <a:off x="428760" y="171468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65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6" name="Picture 12" descr="图片1"/>
          <p:cNvPicPr/>
          <p:nvPr/>
        </p:nvPicPr>
        <p:blipFill>
          <a:blip r:embed="rId4"/>
          <a:stretch/>
        </p:blipFill>
        <p:spPr>
          <a:xfrm>
            <a:off x="428760" y="2357280"/>
            <a:ext cx="8485200" cy="3515040"/>
          </a:xfrm>
          <a:prstGeom prst="rect">
            <a:avLst/>
          </a:prstGeom>
          <a:ln w="0">
            <a:noFill/>
          </a:ln>
        </p:spPr>
      </p:pic>
      <p:pic>
        <p:nvPicPr>
          <p:cNvPr id="767" name="TextBox 21" descr=""/>
          <p:cNvPicPr/>
          <p:nvPr/>
        </p:nvPicPr>
        <p:blipFill>
          <a:blip r:embed="rId5"/>
          <a:stretch/>
        </p:blipFill>
        <p:spPr>
          <a:xfrm>
            <a:off x="566640" y="4316400"/>
            <a:ext cx="2505240" cy="712800"/>
          </a:xfrm>
          <a:prstGeom prst="rect">
            <a:avLst/>
          </a:prstGeom>
          <a:ln w="0">
            <a:noFill/>
          </a:ln>
        </p:spPr>
      </p:pic>
      <p:grpSp>
        <p:nvGrpSpPr>
          <p:cNvPr id="768" name="组合 36"/>
          <p:cNvGrpSpPr/>
          <p:nvPr/>
        </p:nvGrpSpPr>
        <p:grpSpPr>
          <a:xfrm>
            <a:off x="1000080" y="3929040"/>
            <a:ext cx="2086200" cy="1589040"/>
            <a:chOff x="1000080" y="3929040"/>
            <a:chExt cx="2086200" cy="1589040"/>
          </a:xfrm>
        </p:grpSpPr>
        <p:grpSp>
          <p:nvGrpSpPr>
            <p:cNvPr id="769" name="组合 11"/>
            <p:cNvGrpSpPr/>
            <p:nvPr/>
          </p:nvGrpSpPr>
          <p:grpSpPr>
            <a:xfrm>
              <a:off x="1000080" y="3929040"/>
              <a:ext cx="2086200" cy="1589040"/>
              <a:chOff x="1000080" y="3929040"/>
              <a:chExt cx="2086200" cy="1589040"/>
            </a:xfrm>
          </p:grpSpPr>
          <p:sp>
            <p:nvSpPr>
              <p:cNvPr id="770" name="椭圆形标注 64"/>
              <p:cNvSpPr/>
              <p:nvPr/>
            </p:nvSpPr>
            <p:spPr>
              <a:xfrm>
                <a:off x="1000080" y="3929040"/>
                <a:ext cx="2086200" cy="158904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1" name="椭圆形标注 65"/>
              <p:cNvSpPr/>
              <p:nvPr/>
            </p:nvSpPr>
            <p:spPr>
              <a:xfrm>
                <a:off x="1064880" y="3981240"/>
                <a:ext cx="1930680" cy="147168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72" name="TextBox 63"/>
            <p:cNvSpPr/>
            <p:nvPr/>
          </p:nvSpPr>
          <p:spPr>
            <a:xfrm>
              <a:off x="1444680" y="4368600"/>
              <a:ext cx="155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Verdana"/>
                  <a:ea typeface="微软雅黑"/>
                </a:rPr>
                <a:t>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73" name="TextBox 66"/>
          <p:cNvSpPr/>
          <p:nvPr/>
        </p:nvSpPr>
        <p:spPr>
          <a:xfrm>
            <a:off x="-500040" y="2708280"/>
            <a:ext cx="692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XXXXXXXXXXXXXXXXXXXXXXXXXXX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74" name="组合 36"/>
          <p:cNvGrpSpPr/>
          <p:nvPr/>
        </p:nvGrpSpPr>
        <p:grpSpPr>
          <a:xfrm>
            <a:off x="3643200" y="3929040"/>
            <a:ext cx="2086200" cy="1589040"/>
            <a:chOff x="3643200" y="3929040"/>
            <a:chExt cx="2086200" cy="1589040"/>
          </a:xfrm>
        </p:grpSpPr>
        <p:grpSp>
          <p:nvGrpSpPr>
            <p:cNvPr id="775" name="组合 11"/>
            <p:cNvGrpSpPr/>
            <p:nvPr/>
          </p:nvGrpSpPr>
          <p:grpSpPr>
            <a:xfrm>
              <a:off x="3643200" y="3929040"/>
              <a:ext cx="2086200" cy="1589040"/>
              <a:chOff x="3643200" y="3929040"/>
              <a:chExt cx="2086200" cy="1589040"/>
            </a:xfrm>
          </p:grpSpPr>
          <p:sp>
            <p:nvSpPr>
              <p:cNvPr id="776" name="椭圆形标注 21"/>
              <p:cNvSpPr/>
              <p:nvPr/>
            </p:nvSpPr>
            <p:spPr>
              <a:xfrm>
                <a:off x="3643200" y="3929040"/>
                <a:ext cx="2086200" cy="158904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7" name="椭圆形标注 23"/>
              <p:cNvSpPr/>
              <p:nvPr/>
            </p:nvSpPr>
            <p:spPr>
              <a:xfrm>
                <a:off x="3708000" y="3981240"/>
                <a:ext cx="1930680" cy="147168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78" name="TextBox 20"/>
            <p:cNvSpPr/>
            <p:nvPr/>
          </p:nvSpPr>
          <p:spPr>
            <a:xfrm>
              <a:off x="3857400" y="4435200"/>
              <a:ext cx="171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Verdana"/>
                  <a:ea typeface="微软雅黑"/>
                </a:rPr>
                <a:t>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79" name="组合 36"/>
          <p:cNvGrpSpPr/>
          <p:nvPr/>
        </p:nvGrpSpPr>
        <p:grpSpPr>
          <a:xfrm>
            <a:off x="6072120" y="4000680"/>
            <a:ext cx="2143080" cy="1589040"/>
            <a:chOff x="6072120" y="4000680"/>
            <a:chExt cx="2143080" cy="1589040"/>
          </a:xfrm>
        </p:grpSpPr>
        <p:grpSp>
          <p:nvGrpSpPr>
            <p:cNvPr id="780" name="组合 11"/>
            <p:cNvGrpSpPr/>
            <p:nvPr/>
          </p:nvGrpSpPr>
          <p:grpSpPr>
            <a:xfrm>
              <a:off x="6129000" y="4000680"/>
              <a:ext cx="2086200" cy="1589040"/>
              <a:chOff x="6129000" y="4000680"/>
              <a:chExt cx="2086200" cy="1589040"/>
            </a:xfrm>
          </p:grpSpPr>
          <p:sp>
            <p:nvSpPr>
              <p:cNvPr id="781" name="椭圆形标注 30"/>
              <p:cNvSpPr/>
              <p:nvPr/>
            </p:nvSpPr>
            <p:spPr>
              <a:xfrm>
                <a:off x="6129000" y="4000680"/>
                <a:ext cx="2086200" cy="158904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2" name="椭圆形标注 31"/>
              <p:cNvSpPr/>
              <p:nvPr/>
            </p:nvSpPr>
            <p:spPr>
              <a:xfrm>
                <a:off x="6193800" y="4052880"/>
                <a:ext cx="1930680" cy="147168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83" name="TextBox 29"/>
            <p:cNvSpPr/>
            <p:nvPr/>
          </p:nvSpPr>
          <p:spPr>
            <a:xfrm>
              <a:off x="6072120" y="4506840"/>
              <a:ext cx="214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Verdana"/>
                  <a:ea typeface="微软雅黑"/>
                </a:rPr>
                <a:t>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785" name="TextBox 3"/>
          <p:cNvSpPr/>
          <p:nvPr/>
        </p:nvSpPr>
        <p:spPr>
          <a:xfrm>
            <a:off x="3094200" y="1333440"/>
            <a:ext cx="6192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7" name="圆角矩形 14" descr=""/>
          <p:cNvPicPr/>
          <p:nvPr/>
        </p:nvPicPr>
        <p:blipFill>
          <a:blip r:embed="rId2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788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789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90" name="同侧圆角矩形 19"/>
            <p:cNvGrpSpPr/>
            <p:nvPr/>
          </p:nvGrpSpPr>
          <p:grpSpPr>
            <a:xfrm>
              <a:off x="785880" y="1000440"/>
              <a:ext cx="1143360" cy="499320"/>
              <a:chOff x="785880" y="1000440"/>
              <a:chExt cx="1143360" cy="499320"/>
            </a:xfrm>
          </p:grpSpPr>
          <p:pic>
            <p:nvPicPr>
              <p:cNvPr id="791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046520"/>
                <a:ext cx="1072800" cy="453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2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88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93" name="TextBox 20"/>
            <p:cNvSpPr/>
            <p:nvPr/>
          </p:nvSpPr>
          <p:spPr>
            <a:xfrm>
              <a:off x="428760" y="157176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94" name="组合 25"/>
          <p:cNvGrpSpPr/>
          <p:nvPr/>
        </p:nvGrpSpPr>
        <p:grpSpPr>
          <a:xfrm>
            <a:off x="826920" y="2840040"/>
            <a:ext cx="3311640" cy="2664000"/>
            <a:chOff x="826920" y="2840040"/>
            <a:chExt cx="3311640" cy="2664000"/>
          </a:xfrm>
        </p:grpSpPr>
        <p:sp>
          <p:nvSpPr>
            <p:cNvPr id="795" name="圆角矩形 28"/>
            <p:cNvSpPr/>
            <p:nvPr/>
          </p:nvSpPr>
          <p:spPr>
            <a:xfrm>
              <a:off x="826920" y="2840040"/>
              <a:ext cx="3311640" cy="2664000"/>
            </a:xfrm>
            <a:prstGeom prst="roundRect">
              <a:avLst>
                <a:gd name="adj" fmla="val 7093"/>
              </a:avLst>
            </a:prstGeom>
            <a:solidFill>
              <a:srgbClr val="ffff99">
                <a:alpha val="83000"/>
              </a:srgbClr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44000" rIns="90000" tIns="2520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96" name="对角圆角矩形 29"/>
            <p:cNvGrpSpPr/>
            <p:nvPr/>
          </p:nvGrpSpPr>
          <p:grpSpPr>
            <a:xfrm>
              <a:off x="3334680" y="4297680"/>
              <a:ext cx="761760" cy="1182600"/>
              <a:chOff x="3334680" y="4297680"/>
              <a:chExt cx="761760" cy="1182600"/>
            </a:xfrm>
          </p:grpSpPr>
          <p:pic>
            <p:nvPicPr>
              <p:cNvPr id="797" name="对角圆角矩形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3334680" y="4297680"/>
                <a:ext cx="761760" cy="118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>
                <a:off x="3371040" y="4333320"/>
                <a:ext cx="687240" cy="11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2520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799" name="组合 6"/>
          <p:cNvGrpSpPr/>
          <p:nvPr/>
        </p:nvGrpSpPr>
        <p:grpSpPr>
          <a:xfrm>
            <a:off x="5173560" y="2840040"/>
            <a:ext cx="3311640" cy="2664000"/>
            <a:chOff x="5173560" y="2840040"/>
            <a:chExt cx="3311640" cy="2664000"/>
          </a:xfrm>
        </p:grpSpPr>
        <p:sp>
          <p:nvSpPr>
            <p:cNvPr id="800" name="圆角矩形 31"/>
            <p:cNvSpPr/>
            <p:nvPr/>
          </p:nvSpPr>
          <p:spPr>
            <a:xfrm>
              <a:off x="5173560" y="2840040"/>
              <a:ext cx="3311640" cy="2664000"/>
            </a:xfrm>
            <a:prstGeom prst="roundRect">
              <a:avLst>
                <a:gd name="adj" fmla="val 7093"/>
              </a:avLst>
            </a:prstGeom>
            <a:solidFill>
              <a:srgbClr val="ffff99">
                <a:alpha val="83000"/>
              </a:srgbClr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44000" rIns="90000" tIns="2520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01" name="对角圆角矩形 32"/>
            <p:cNvGrpSpPr/>
            <p:nvPr/>
          </p:nvGrpSpPr>
          <p:grpSpPr>
            <a:xfrm>
              <a:off x="7693200" y="4297680"/>
              <a:ext cx="761760" cy="1182600"/>
              <a:chOff x="7693200" y="4297680"/>
              <a:chExt cx="761760" cy="1182600"/>
            </a:xfrm>
          </p:grpSpPr>
          <p:pic>
            <p:nvPicPr>
              <p:cNvPr id="802" name="对角圆角矩形 32" descr=""/>
              <p:cNvPicPr/>
              <p:nvPr/>
            </p:nvPicPr>
            <p:blipFill>
              <a:blip r:embed="rId6"/>
              <a:stretch/>
            </p:blipFill>
            <p:spPr>
              <a:xfrm>
                <a:off x="7693200" y="4297680"/>
                <a:ext cx="761760" cy="118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3" name=""/>
              <p:cNvSpPr/>
              <p:nvPr/>
            </p:nvSpPr>
            <p:spPr>
              <a:xfrm>
                <a:off x="7731720" y="4333320"/>
                <a:ext cx="687240" cy="11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2520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804" name="矩形 33"/>
          <p:cNvSpPr/>
          <p:nvPr/>
        </p:nvSpPr>
        <p:spPr>
          <a:xfrm rot="19674000">
            <a:off x="6430680" y="4900320"/>
            <a:ext cx="2500200" cy="571320"/>
          </a:xfrm>
          <a:prstGeom prst="rect">
            <a:avLst/>
          </a:prstGeom>
          <a:solidFill>
            <a:srgbClr val="ffc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stral"/>
                <a:ea typeface="微软雅黑"/>
              </a:rPr>
              <a:t>XXXXXXXXXXXXX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5" name="矩形 34"/>
          <p:cNvSpPr/>
          <p:nvPr/>
        </p:nvSpPr>
        <p:spPr>
          <a:xfrm rot="19674000">
            <a:off x="2300040" y="4887720"/>
            <a:ext cx="2500200" cy="571320"/>
          </a:xfrm>
          <a:prstGeom prst="rect">
            <a:avLst/>
          </a:prstGeom>
          <a:solidFill>
            <a:srgbClr val="ffc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stral"/>
                <a:ea typeface="微软雅黑"/>
              </a:rPr>
              <a:t>XXXXXXXXXXX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7" name="圆角矩形 14" descr=""/>
          <p:cNvPicPr/>
          <p:nvPr/>
        </p:nvPicPr>
        <p:blipFill>
          <a:blip r:embed="rId1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808" name="组合 27"/>
          <p:cNvGrpSpPr/>
          <p:nvPr/>
        </p:nvGrpSpPr>
        <p:grpSpPr>
          <a:xfrm>
            <a:off x="554040" y="928800"/>
            <a:ext cx="1916280" cy="1349280"/>
            <a:chOff x="554040" y="928800"/>
            <a:chExt cx="1916280" cy="1349280"/>
          </a:xfrm>
        </p:grpSpPr>
        <p:sp>
          <p:nvSpPr>
            <p:cNvPr id="809" name="圆角矩形标注 22"/>
            <p:cNvSpPr/>
            <p:nvPr/>
          </p:nvSpPr>
          <p:spPr>
            <a:xfrm>
              <a:off x="554040" y="928800"/>
              <a:ext cx="159876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10" name="同侧圆角矩形 19"/>
            <p:cNvGrpSpPr/>
            <p:nvPr/>
          </p:nvGrpSpPr>
          <p:grpSpPr>
            <a:xfrm>
              <a:off x="785520" y="1000440"/>
              <a:ext cx="1142640" cy="499320"/>
              <a:chOff x="785520" y="1000440"/>
              <a:chExt cx="1142640" cy="499320"/>
            </a:xfrm>
          </p:grpSpPr>
          <p:pic>
            <p:nvPicPr>
              <p:cNvPr id="811" name="同侧圆角矩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55720" y="1046520"/>
                <a:ext cx="1072440" cy="453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2" name="Text Box 5" descr=""/>
              <p:cNvPicPr/>
              <p:nvPr/>
            </p:nvPicPr>
            <p:blipFill>
              <a:blip r:embed="rId3"/>
              <a:stretch/>
            </p:blipFill>
            <p:spPr>
              <a:xfrm>
                <a:off x="785520" y="1000440"/>
                <a:ext cx="107424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13" name="TextBox 20"/>
            <p:cNvSpPr/>
            <p:nvPr/>
          </p:nvSpPr>
          <p:spPr>
            <a:xfrm>
              <a:off x="755640" y="1732680"/>
              <a:ext cx="171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14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5" name="Picture 12" descr="图片1"/>
          <p:cNvPicPr/>
          <p:nvPr/>
        </p:nvPicPr>
        <p:blipFill>
          <a:blip r:embed="rId4"/>
          <a:stretch/>
        </p:blipFill>
        <p:spPr>
          <a:xfrm>
            <a:off x="428760" y="2357280"/>
            <a:ext cx="8485200" cy="3515040"/>
          </a:xfrm>
          <a:prstGeom prst="rect">
            <a:avLst/>
          </a:prstGeom>
          <a:ln w="0">
            <a:noFill/>
          </a:ln>
        </p:spPr>
      </p:pic>
      <p:pic>
        <p:nvPicPr>
          <p:cNvPr id="816" name="TextBox 21" descr=""/>
          <p:cNvPicPr/>
          <p:nvPr/>
        </p:nvPicPr>
        <p:blipFill>
          <a:blip r:embed="rId5"/>
          <a:stretch/>
        </p:blipFill>
        <p:spPr>
          <a:xfrm>
            <a:off x="566640" y="4743360"/>
            <a:ext cx="2505240" cy="712800"/>
          </a:xfrm>
          <a:prstGeom prst="rect">
            <a:avLst/>
          </a:prstGeom>
          <a:ln w="0">
            <a:noFill/>
          </a:ln>
        </p:spPr>
      </p:pic>
      <p:grpSp>
        <p:nvGrpSpPr>
          <p:cNvPr id="817" name="组合 26"/>
          <p:cNvGrpSpPr/>
          <p:nvPr/>
        </p:nvGrpSpPr>
        <p:grpSpPr>
          <a:xfrm>
            <a:off x="108000" y="2924280"/>
            <a:ext cx="9144000" cy="1439640"/>
            <a:chOff x="108000" y="2924280"/>
            <a:chExt cx="9144000" cy="1439640"/>
          </a:xfrm>
        </p:grpSpPr>
        <p:sp>
          <p:nvSpPr>
            <p:cNvPr id="818" name="椭圆 16"/>
            <p:cNvSpPr/>
            <p:nvPr/>
          </p:nvSpPr>
          <p:spPr>
            <a:xfrm>
              <a:off x="108000" y="4076640"/>
              <a:ext cx="9144000" cy="2872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77254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19" name="组合 7"/>
            <p:cNvGrpSpPr/>
            <p:nvPr/>
          </p:nvGrpSpPr>
          <p:grpSpPr>
            <a:xfrm>
              <a:off x="647280" y="2924280"/>
              <a:ext cx="8065080" cy="1224360"/>
              <a:chOff x="647280" y="2924280"/>
              <a:chExt cx="8065080" cy="1224360"/>
            </a:xfrm>
          </p:grpSpPr>
          <p:grpSp>
            <p:nvGrpSpPr>
              <p:cNvPr id="820" name="组合 8"/>
              <p:cNvGrpSpPr/>
              <p:nvPr/>
            </p:nvGrpSpPr>
            <p:grpSpPr>
              <a:xfrm>
                <a:off x="647280" y="2924280"/>
                <a:ext cx="8065080" cy="1224360"/>
                <a:chOff x="647280" y="2924280"/>
                <a:chExt cx="8065080" cy="1224360"/>
              </a:xfrm>
            </p:grpSpPr>
            <p:sp>
              <p:nvSpPr>
                <p:cNvPr id="821" name="圆角矩形 21"/>
                <p:cNvSpPr/>
                <p:nvPr/>
              </p:nvSpPr>
              <p:spPr>
                <a:xfrm>
                  <a:off x="647280" y="2924280"/>
                  <a:ext cx="8065080" cy="1224360"/>
                </a:xfrm>
                <a:prstGeom prst="roundRect">
                  <a:avLst>
                    <a:gd name="adj" fmla="val 7319"/>
                  </a:avLst>
                </a:prstGeom>
                <a:solidFill>
                  <a:srgbClr val="ffffff"/>
                </a:solidFill>
                <a:ln w="324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822" name="对角圆角矩形 23"/>
                <p:cNvGrpSpPr/>
                <p:nvPr/>
              </p:nvGrpSpPr>
              <p:grpSpPr>
                <a:xfrm>
                  <a:off x="7937280" y="3456720"/>
                  <a:ext cx="761760" cy="676800"/>
                  <a:chOff x="7937280" y="3456720"/>
                  <a:chExt cx="761760" cy="676800"/>
                </a:xfrm>
              </p:grpSpPr>
              <p:pic>
                <p:nvPicPr>
                  <p:cNvPr id="823" name="对角圆角矩形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937280" y="3456720"/>
                    <a:ext cx="761760" cy="6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4" name=""/>
                  <p:cNvSpPr/>
                  <p:nvPr/>
                </p:nvSpPr>
                <p:spPr>
                  <a:xfrm>
                    <a:off x="7957440" y="3478680"/>
                    <a:ext cx="721080" cy="630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825" name="TextBox 19"/>
              <p:cNvSpPr/>
              <p:nvPr/>
            </p:nvSpPr>
            <p:spPr>
              <a:xfrm>
                <a:off x="791640" y="2924280"/>
                <a:ext cx="2664000" cy="73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XXXX</a:t>
                </a:r>
                <a:r>
                  <a:rPr b="0" lang="zh-CN" sz="24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：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26" name="矩形 20"/>
              <p:cNvSpPr/>
              <p:nvPr/>
            </p:nvSpPr>
            <p:spPr>
              <a:xfrm>
                <a:off x="3213000" y="3011400"/>
                <a:ext cx="54723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XXXXXXXXXXXXXXXXXXXXXXXXX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XXXXXXXXXXXXXXXXXXXXXXXXX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827" name="组合 25"/>
          <p:cNvGrpSpPr/>
          <p:nvPr/>
        </p:nvGrpSpPr>
        <p:grpSpPr>
          <a:xfrm>
            <a:off x="108000" y="4292640"/>
            <a:ext cx="9144000" cy="1440000"/>
            <a:chOff x="108000" y="4292640"/>
            <a:chExt cx="9144000" cy="1440000"/>
          </a:xfrm>
        </p:grpSpPr>
        <p:sp>
          <p:nvSpPr>
            <p:cNvPr id="828" name="椭圆 28"/>
            <p:cNvSpPr/>
            <p:nvPr/>
          </p:nvSpPr>
          <p:spPr>
            <a:xfrm>
              <a:off x="108000" y="5445360"/>
              <a:ext cx="9144000" cy="2872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77254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29" name="组合 19"/>
            <p:cNvGrpSpPr/>
            <p:nvPr/>
          </p:nvGrpSpPr>
          <p:grpSpPr>
            <a:xfrm>
              <a:off x="647280" y="4292640"/>
              <a:ext cx="8065080" cy="1224360"/>
              <a:chOff x="647280" y="4292640"/>
              <a:chExt cx="8065080" cy="1224360"/>
            </a:xfrm>
          </p:grpSpPr>
          <p:grpSp>
            <p:nvGrpSpPr>
              <p:cNvPr id="830" name="组合 20"/>
              <p:cNvGrpSpPr/>
              <p:nvPr/>
            </p:nvGrpSpPr>
            <p:grpSpPr>
              <a:xfrm>
                <a:off x="647280" y="4292640"/>
                <a:ext cx="8065080" cy="1224360"/>
                <a:chOff x="647280" y="4292640"/>
                <a:chExt cx="8065080" cy="1224360"/>
              </a:xfrm>
            </p:grpSpPr>
            <p:sp>
              <p:nvSpPr>
                <p:cNvPr id="831" name="圆角矩形 33"/>
                <p:cNvSpPr/>
                <p:nvPr/>
              </p:nvSpPr>
              <p:spPr>
                <a:xfrm>
                  <a:off x="647280" y="4292640"/>
                  <a:ext cx="8065080" cy="1224360"/>
                </a:xfrm>
                <a:prstGeom prst="roundRect">
                  <a:avLst>
                    <a:gd name="adj" fmla="val 7319"/>
                  </a:avLst>
                </a:prstGeom>
                <a:solidFill>
                  <a:srgbClr val="ffffff"/>
                </a:solidFill>
                <a:ln w="324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832" name="对角圆角矩形 34"/>
                <p:cNvGrpSpPr/>
                <p:nvPr/>
              </p:nvGrpSpPr>
              <p:grpSpPr>
                <a:xfrm>
                  <a:off x="7937280" y="4828320"/>
                  <a:ext cx="761760" cy="670680"/>
                  <a:chOff x="7937280" y="4828320"/>
                  <a:chExt cx="761760" cy="670680"/>
                </a:xfrm>
              </p:grpSpPr>
              <p:pic>
                <p:nvPicPr>
                  <p:cNvPr id="833" name="对角圆角矩形 3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937280" y="4828320"/>
                    <a:ext cx="761760" cy="6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34" name=""/>
                  <p:cNvSpPr/>
                  <p:nvPr/>
                </p:nvSpPr>
                <p:spPr>
                  <a:xfrm>
                    <a:off x="7957440" y="4847040"/>
                    <a:ext cx="721080" cy="630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835" name="TextBox 31"/>
              <p:cNvSpPr/>
              <p:nvPr/>
            </p:nvSpPr>
            <p:spPr>
              <a:xfrm>
                <a:off x="791640" y="4292640"/>
                <a:ext cx="2664000" cy="73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XXXX</a:t>
                </a:r>
                <a:r>
                  <a:rPr b="0" lang="zh-CN" sz="2400" spc="-1" strike="noStrike">
                    <a:solidFill>
                      <a:srgbClr val="262626"/>
                    </a:solidFill>
                    <a:latin typeface="Mistral"/>
                    <a:ea typeface="微软雅黑"/>
                  </a:rPr>
                  <a:t>：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36" name="矩形 32"/>
              <p:cNvSpPr/>
              <p:nvPr/>
            </p:nvSpPr>
            <p:spPr>
              <a:xfrm>
                <a:off x="3213000" y="4379760"/>
                <a:ext cx="54723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XXXXXXXXXXXXXXXXXXXXXXXXX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XXXXXXXXXXXXXXXXXXXXXXXXX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8" name="圆角矩形 14" descr=""/>
          <p:cNvPicPr/>
          <p:nvPr/>
        </p:nvPicPr>
        <p:blipFill>
          <a:blip r:embed="rId1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839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840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41" name="同侧圆角矩形 19"/>
            <p:cNvGrpSpPr/>
            <p:nvPr/>
          </p:nvGrpSpPr>
          <p:grpSpPr>
            <a:xfrm>
              <a:off x="785880" y="1000440"/>
              <a:ext cx="1143360" cy="499320"/>
              <a:chOff x="785880" y="1000440"/>
              <a:chExt cx="1143360" cy="499320"/>
            </a:xfrm>
          </p:grpSpPr>
          <p:pic>
            <p:nvPicPr>
              <p:cNvPr id="842" name="同侧圆角矩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56440" y="1046520"/>
                <a:ext cx="1072800" cy="453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3" name="Text Box 5" descr=""/>
              <p:cNvPicPr/>
              <p:nvPr/>
            </p:nvPicPr>
            <p:blipFill>
              <a:blip r:embed="rId3"/>
              <a:stretch/>
            </p:blipFill>
            <p:spPr>
              <a:xfrm>
                <a:off x="785880" y="1000440"/>
                <a:ext cx="107388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44" name="TextBox 20"/>
            <p:cNvSpPr/>
            <p:nvPr/>
          </p:nvSpPr>
          <p:spPr>
            <a:xfrm>
              <a:off x="428760" y="171468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45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6" name="Picture 12" descr="图片1"/>
          <p:cNvPicPr/>
          <p:nvPr/>
        </p:nvPicPr>
        <p:blipFill>
          <a:blip r:embed="rId4"/>
          <a:stretch/>
        </p:blipFill>
        <p:spPr>
          <a:xfrm>
            <a:off x="428760" y="2357280"/>
            <a:ext cx="8485200" cy="3515040"/>
          </a:xfrm>
          <a:prstGeom prst="rect">
            <a:avLst/>
          </a:prstGeom>
          <a:ln w="0">
            <a:noFill/>
          </a:ln>
        </p:spPr>
      </p:pic>
      <p:grpSp>
        <p:nvGrpSpPr>
          <p:cNvPr id="847" name="组合 13"/>
          <p:cNvGrpSpPr/>
          <p:nvPr/>
        </p:nvGrpSpPr>
        <p:grpSpPr>
          <a:xfrm>
            <a:off x="636480" y="2714760"/>
            <a:ext cx="8007120" cy="438840"/>
            <a:chOff x="636480" y="2714760"/>
            <a:chExt cx="8007120" cy="438840"/>
          </a:xfrm>
        </p:grpSpPr>
        <p:grpSp>
          <p:nvGrpSpPr>
            <p:cNvPr id="848" name="组合 64"/>
            <p:cNvGrpSpPr/>
            <p:nvPr/>
          </p:nvGrpSpPr>
          <p:grpSpPr>
            <a:xfrm>
              <a:off x="636480" y="2714760"/>
              <a:ext cx="2519640" cy="421920"/>
              <a:chOff x="636480" y="2714760"/>
              <a:chExt cx="2519640" cy="421920"/>
            </a:xfrm>
          </p:grpSpPr>
          <p:sp>
            <p:nvSpPr>
              <p:cNvPr id="849" name="同侧圆角矩形 23"/>
              <p:cNvSpPr/>
              <p:nvPr/>
            </p:nvSpPr>
            <p:spPr>
              <a:xfrm rot="16200000">
                <a:off x="1500480" y="1850760"/>
                <a:ext cx="421920" cy="2149920"/>
              </a:xfrm>
              <a:custGeom>
                <a:avLst/>
                <a:gdLst/>
                <a:ahLst/>
                <a:rect l="l" t="t" r="r" b="b"/>
                <a:pathLst>
                  <a:path w="793417" h="2149855">
                    <a:moveTo>
                      <a:pt x="132239" y="0"/>
                    </a:moveTo>
                    <a:lnTo>
                      <a:pt x="661178" y="0"/>
                    </a:lnTo>
                    <a:cubicBezTo>
                      <a:pt x="734212" y="0"/>
                      <a:pt x="793417" y="59205"/>
                      <a:pt x="793417" y="132239"/>
                    </a:cubicBezTo>
                    <a:lnTo>
                      <a:pt x="793417" y="2149855"/>
                    </a:lnTo>
                    <a:lnTo>
                      <a:pt x="793417" y="2149855"/>
                    </a:lnTo>
                    <a:lnTo>
                      <a:pt x="0" y="2149855"/>
                    </a:lnTo>
                    <a:lnTo>
                      <a:pt x="0" y="2149855"/>
                    </a:lnTo>
                    <a:lnTo>
                      <a:pt x="0" y="132239"/>
                    </a:lnTo>
                    <a:cubicBezTo>
                      <a:pt x="0" y="59205"/>
                      <a:pt x="59205" y="0"/>
                      <a:pt x="132239" y="0"/>
                    </a:cubicBezTo>
                    <a:close/>
                  </a:path>
                </a:pathLst>
              </a:cu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50" name="TextBox 11"/>
              <p:cNvSpPr/>
              <p:nvPr/>
            </p:nvSpPr>
            <p:spPr>
              <a:xfrm>
                <a:off x="852120" y="2736720"/>
                <a:ext cx="230400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851" name="组合 69"/>
            <p:cNvGrpSpPr/>
            <p:nvPr/>
          </p:nvGrpSpPr>
          <p:grpSpPr>
            <a:xfrm>
              <a:off x="2714400" y="2718360"/>
              <a:ext cx="5929200" cy="435240"/>
              <a:chOff x="2714400" y="2718360"/>
              <a:chExt cx="5929200" cy="435240"/>
            </a:xfrm>
          </p:grpSpPr>
          <p:sp>
            <p:nvSpPr>
              <p:cNvPr id="852" name="同侧圆角矩形 17"/>
              <p:cNvSpPr/>
              <p:nvPr/>
            </p:nvSpPr>
            <p:spPr>
              <a:xfrm flipV="1" rot="16200000">
                <a:off x="5503680" y="0"/>
                <a:ext cx="421560" cy="5858280"/>
              </a:xfrm>
              <a:custGeom>
                <a:avLst/>
                <a:gdLst/>
                <a:ahLst/>
                <a:rect l="l" t="t" r="r" b="b"/>
                <a:pathLst>
                  <a:path w="790659" h="5858029">
                    <a:moveTo>
                      <a:pt x="131779" y="0"/>
                    </a:moveTo>
                    <a:lnTo>
                      <a:pt x="658880" y="0"/>
                    </a:lnTo>
                    <a:cubicBezTo>
                      <a:pt x="731660" y="0"/>
                      <a:pt x="790659" y="58999"/>
                      <a:pt x="790659" y="131779"/>
                    </a:cubicBezTo>
                    <a:lnTo>
                      <a:pt x="790659" y="5858029"/>
                    </a:lnTo>
                    <a:lnTo>
                      <a:pt x="790659" y="5858029"/>
                    </a:lnTo>
                    <a:lnTo>
                      <a:pt x="0" y="5858029"/>
                    </a:lnTo>
                    <a:lnTo>
                      <a:pt x="0" y="5858029"/>
                    </a:lnTo>
                    <a:lnTo>
                      <a:pt x="0" y="131779"/>
                    </a:lnTo>
                    <a:cubicBezTo>
                      <a:pt x="0" y="58999"/>
                      <a:pt x="58999" y="0"/>
                      <a:pt x="13177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fbfbf"/>
                  </a:gs>
                  <a:gs pos="100000">
                    <a:srgbClr val="f2f2f2"/>
                  </a:gs>
                </a:gsLst>
                <a:lin ang="189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53" name="对角圆角矩形 18"/>
              <p:cNvGrpSpPr/>
              <p:nvPr/>
            </p:nvGrpSpPr>
            <p:grpSpPr>
              <a:xfrm>
                <a:off x="7925040" y="2876760"/>
                <a:ext cx="670320" cy="268920"/>
                <a:chOff x="7925040" y="2876760"/>
                <a:chExt cx="670320" cy="268920"/>
              </a:xfrm>
            </p:grpSpPr>
            <p:pic>
              <p:nvPicPr>
                <p:cNvPr id="854" name="对角圆角矩形 18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925040" y="2876760"/>
                  <a:ext cx="670320" cy="26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5" name=""/>
                <p:cNvSpPr/>
                <p:nvPr/>
              </p:nvSpPr>
              <p:spPr>
                <a:xfrm>
                  <a:off x="7941600" y="2895840"/>
                  <a:ext cx="63756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56" name="TextBox 12"/>
              <p:cNvSpPr/>
              <p:nvPr/>
            </p:nvSpPr>
            <p:spPr>
              <a:xfrm>
                <a:off x="2714400" y="2785320"/>
                <a:ext cx="426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X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857" name="组合 28"/>
          <p:cNvGrpSpPr/>
          <p:nvPr/>
        </p:nvGrpSpPr>
        <p:grpSpPr>
          <a:xfrm>
            <a:off x="636480" y="3071880"/>
            <a:ext cx="8007480" cy="642960"/>
            <a:chOff x="636480" y="3071880"/>
            <a:chExt cx="8007480" cy="642960"/>
          </a:xfrm>
        </p:grpSpPr>
        <p:grpSp>
          <p:nvGrpSpPr>
            <p:cNvPr id="858" name="组合 64"/>
            <p:cNvGrpSpPr/>
            <p:nvPr/>
          </p:nvGrpSpPr>
          <p:grpSpPr>
            <a:xfrm>
              <a:off x="636480" y="3071880"/>
              <a:ext cx="2519640" cy="642960"/>
              <a:chOff x="636480" y="3071880"/>
              <a:chExt cx="2519640" cy="642960"/>
            </a:xfrm>
          </p:grpSpPr>
          <p:sp>
            <p:nvSpPr>
              <p:cNvPr id="859" name="同侧圆角矩形 34"/>
              <p:cNvSpPr/>
              <p:nvPr/>
            </p:nvSpPr>
            <p:spPr>
              <a:xfrm rot="16200000">
                <a:off x="1389960" y="2318400"/>
                <a:ext cx="642960" cy="2149920"/>
              </a:xfrm>
              <a:custGeom>
                <a:avLst/>
                <a:gdLst/>
                <a:ahLst/>
                <a:rect l="l" t="t" r="r" b="b"/>
                <a:pathLst>
                  <a:path w="1209545" h="2149855">
                    <a:moveTo>
                      <a:pt x="201595" y="0"/>
                    </a:moveTo>
                    <a:lnTo>
                      <a:pt x="1007950" y="0"/>
                    </a:lnTo>
                    <a:cubicBezTo>
                      <a:pt x="1119288" y="0"/>
                      <a:pt x="1209545" y="90257"/>
                      <a:pt x="1209545" y="201595"/>
                    </a:cubicBezTo>
                    <a:lnTo>
                      <a:pt x="1209545" y="2149855"/>
                    </a:lnTo>
                    <a:lnTo>
                      <a:pt x="1209545" y="2149855"/>
                    </a:lnTo>
                    <a:lnTo>
                      <a:pt x="0" y="2149855"/>
                    </a:lnTo>
                    <a:lnTo>
                      <a:pt x="0" y="2149855"/>
                    </a:lnTo>
                    <a:lnTo>
                      <a:pt x="0" y="201595"/>
                    </a:lnTo>
                    <a:cubicBezTo>
                      <a:pt x="0" y="90257"/>
                      <a:pt x="90257" y="0"/>
                      <a:pt x="201595" y="0"/>
                    </a:cubicBezTo>
                    <a:close/>
                  </a:path>
                </a:pathLst>
              </a:cu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0" name="TextBox 11"/>
              <p:cNvSpPr/>
              <p:nvPr/>
            </p:nvSpPr>
            <p:spPr>
              <a:xfrm>
                <a:off x="852120" y="3181320"/>
                <a:ext cx="230400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861" name="组合 69"/>
            <p:cNvGrpSpPr/>
            <p:nvPr/>
          </p:nvGrpSpPr>
          <p:grpSpPr>
            <a:xfrm>
              <a:off x="2786040" y="3162960"/>
              <a:ext cx="5857920" cy="429120"/>
              <a:chOff x="2786040" y="3162960"/>
              <a:chExt cx="5857920" cy="429120"/>
            </a:xfrm>
          </p:grpSpPr>
          <p:sp>
            <p:nvSpPr>
              <p:cNvPr id="862" name="同侧圆角矩形 31"/>
              <p:cNvSpPr/>
              <p:nvPr/>
            </p:nvSpPr>
            <p:spPr>
              <a:xfrm flipV="1" rot="16200000">
                <a:off x="5503320" y="444960"/>
                <a:ext cx="423000" cy="5857920"/>
              </a:xfrm>
              <a:custGeom>
                <a:avLst/>
                <a:gdLst/>
                <a:ahLst/>
                <a:rect l="l" t="t" r="r" b="b"/>
                <a:pathLst>
                  <a:path w="791660" h="5858030">
                    <a:moveTo>
                      <a:pt x="131946" y="0"/>
                    </a:moveTo>
                    <a:lnTo>
                      <a:pt x="659714" y="0"/>
                    </a:lnTo>
                    <a:cubicBezTo>
                      <a:pt x="732586" y="0"/>
                      <a:pt x="791660" y="59074"/>
                      <a:pt x="791660" y="131946"/>
                    </a:cubicBezTo>
                    <a:lnTo>
                      <a:pt x="791660" y="5858030"/>
                    </a:lnTo>
                    <a:lnTo>
                      <a:pt x="791660" y="5858030"/>
                    </a:lnTo>
                    <a:lnTo>
                      <a:pt x="0" y="5858030"/>
                    </a:lnTo>
                    <a:lnTo>
                      <a:pt x="0" y="5858030"/>
                    </a:lnTo>
                    <a:lnTo>
                      <a:pt x="0" y="131946"/>
                    </a:lnTo>
                    <a:cubicBezTo>
                      <a:pt x="0" y="59074"/>
                      <a:pt x="59074" y="0"/>
                      <a:pt x="131946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fbfbf"/>
                  </a:gs>
                  <a:gs pos="100000">
                    <a:srgbClr val="f2f2f2"/>
                  </a:gs>
                </a:gsLst>
                <a:lin ang="189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63" name="对角圆角矩形 32"/>
              <p:cNvGrpSpPr/>
              <p:nvPr/>
            </p:nvGrpSpPr>
            <p:grpSpPr>
              <a:xfrm>
                <a:off x="7925040" y="3322440"/>
                <a:ext cx="670320" cy="269640"/>
                <a:chOff x="7925040" y="3322440"/>
                <a:chExt cx="670320" cy="269640"/>
              </a:xfrm>
            </p:grpSpPr>
            <p:pic>
              <p:nvPicPr>
                <p:cNvPr id="864" name="对角圆角矩形 3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925040" y="3322440"/>
                  <a:ext cx="670320" cy="269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5" name=""/>
                <p:cNvSpPr/>
                <p:nvPr/>
              </p:nvSpPr>
              <p:spPr>
                <a:xfrm>
                  <a:off x="7941600" y="3341160"/>
                  <a:ext cx="637560" cy="23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66" name="TextBox 12"/>
              <p:cNvSpPr/>
              <p:nvPr/>
            </p:nvSpPr>
            <p:spPr>
              <a:xfrm>
                <a:off x="3357360" y="3214080"/>
                <a:ext cx="426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Verdana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867" name="组合 36"/>
          <p:cNvGrpSpPr/>
          <p:nvPr/>
        </p:nvGrpSpPr>
        <p:grpSpPr>
          <a:xfrm>
            <a:off x="636480" y="3571920"/>
            <a:ext cx="8007480" cy="433440"/>
            <a:chOff x="636480" y="3571920"/>
            <a:chExt cx="8007480" cy="433440"/>
          </a:xfrm>
        </p:grpSpPr>
        <p:grpSp>
          <p:nvGrpSpPr>
            <p:cNvPr id="868" name="组合 64"/>
            <p:cNvGrpSpPr/>
            <p:nvPr/>
          </p:nvGrpSpPr>
          <p:grpSpPr>
            <a:xfrm>
              <a:off x="636480" y="3571920"/>
              <a:ext cx="2519640" cy="421920"/>
              <a:chOff x="636480" y="3571920"/>
              <a:chExt cx="2519640" cy="421920"/>
            </a:xfrm>
          </p:grpSpPr>
          <p:sp>
            <p:nvSpPr>
              <p:cNvPr id="869" name="同侧圆角矩形 43"/>
              <p:cNvSpPr/>
              <p:nvPr/>
            </p:nvSpPr>
            <p:spPr>
              <a:xfrm rot="16200000">
                <a:off x="1500480" y="2707920"/>
                <a:ext cx="421920" cy="2149920"/>
              </a:xfrm>
              <a:custGeom>
                <a:avLst/>
                <a:gdLst/>
                <a:ahLst/>
                <a:rect l="l" t="t" r="r" b="b"/>
                <a:pathLst>
                  <a:path w="793325" h="2149855">
                    <a:moveTo>
                      <a:pt x="132223" y="0"/>
                    </a:moveTo>
                    <a:lnTo>
                      <a:pt x="661102" y="0"/>
                    </a:lnTo>
                    <a:cubicBezTo>
                      <a:pt x="734127" y="0"/>
                      <a:pt x="793325" y="59198"/>
                      <a:pt x="793325" y="132223"/>
                    </a:cubicBezTo>
                    <a:lnTo>
                      <a:pt x="793325" y="2149855"/>
                    </a:lnTo>
                    <a:lnTo>
                      <a:pt x="793325" y="2149855"/>
                    </a:lnTo>
                    <a:lnTo>
                      <a:pt x="0" y="2149855"/>
                    </a:lnTo>
                    <a:lnTo>
                      <a:pt x="0" y="2149855"/>
                    </a:lnTo>
                    <a:lnTo>
                      <a:pt x="0" y="132223"/>
                    </a:lnTo>
                    <a:cubicBezTo>
                      <a:pt x="0" y="59198"/>
                      <a:pt x="59198" y="0"/>
                      <a:pt x="132223" y="0"/>
                    </a:cubicBezTo>
                    <a:close/>
                  </a:path>
                </a:pathLst>
              </a:cu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0" name="TextBox 11"/>
              <p:cNvSpPr/>
              <p:nvPr/>
            </p:nvSpPr>
            <p:spPr>
              <a:xfrm>
                <a:off x="852120" y="3593880"/>
                <a:ext cx="230400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871" name="组合 69"/>
            <p:cNvGrpSpPr/>
            <p:nvPr/>
          </p:nvGrpSpPr>
          <p:grpSpPr>
            <a:xfrm>
              <a:off x="2786040" y="3575880"/>
              <a:ext cx="5857920" cy="429480"/>
              <a:chOff x="2786040" y="3575880"/>
              <a:chExt cx="5857920" cy="429480"/>
            </a:xfrm>
          </p:grpSpPr>
          <p:sp>
            <p:nvSpPr>
              <p:cNvPr id="872" name="同侧圆角矩形 40"/>
              <p:cNvSpPr/>
              <p:nvPr/>
            </p:nvSpPr>
            <p:spPr>
              <a:xfrm flipV="1" rot="16200000">
                <a:off x="5504040" y="857880"/>
                <a:ext cx="421920" cy="5857920"/>
              </a:xfrm>
              <a:custGeom>
                <a:avLst/>
                <a:gdLst/>
                <a:ahLst/>
                <a:rect l="l" t="t" r="r" b="b"/>
                <a:pathLst>
                  <a:path w="790569" h="5858029">
                    <a:moveTo>
                      <a:pt x="131764" y="0"/>
                    </a:moveTo>
                    <a:lnTo>
                      <a:pt x="658805" y="0"/>
                    </a:lnTo>
                    <a:cubicBezTo>
                      <a:pt x="731576" y="0"/>
                      <a:pt x="790569" y="58993"/>
                      <a:pt x="790569" y="131764"/>
                    </a:cubicBezTo>
                    <a:lnTo>
                      <a:pt x="790569" y="5858029"/>
                    </a:lnTo>
                    <a:lnTo>
                      <a:pt x="790569" y="5858029"/>
                    </a:lnTo>
                    <a:lnTo>
                      <a:pt x="0" y="5858029"/>
                    </a:lnTo>
                    <a:lnTo>
                      <a:pt x="0" y="5858029"/>
                    </a:lnTo>
                    <a:lnTo>
                      <a:pt x="0" y="131764"/>
                    </a:lnTo>
                    <a:cubicBezTo>
                      <a:pt x="0" y="58993"/>
                      <a:pt x="58993" y="0"/>
                      <a:pt x="13176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fbfbf"/>
                  </a:gs>
                  <a:gs pos="100000">
                    <a:srgbClr val="f2f2f2"/>
                  </a:gs>
                </a:gsLst>
                <a:lin ang="189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73" name="对角圆角矩形 41"/>
              <p:cNvGrpSpPr/>
              <p:nvPr/>
            </p:nvGrpSpPr>
            <p:grpSpPr>
              <a:xfrm>
                <a:off x="7925040" y="3736440"/>
                <a:ext cx="670320" cy="268920"/>
                <a:chOff x="7925040" y="3736440"/>
                <a:chExt cx="670320" cy="268920"/>
              </a:xfrm>
            </p:grpSpPr>
            <p:pic>
              <p:nvPicPr>
                <p:cNvPr id="874" name="对角圆角矩形 4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925040" y="3736440"/>
                  <a:ext cx="670320" cy="26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>
                  <a:off x="7941600" y="3753360"/>
                  <a:ext cx="63756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76" name="TextBox 12"/>
              <p:cNvSpPr/>
              <p:nvPr/>
            </p:nvSpPr>
            <p:spPr>
              <a:xfrm>
                <a:off x="3428640" y="3630960"/>
                <a:ext cx="519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X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877" name="TextBox 21" descr=""/>
          <p:cNvPicPr/>
          <p:nvPr/>
        </p:nvPicPr>
        <p:blipFill>
          <a:blip r:embed="rId8"/>
          <a:stretch/>
        </p:blipFill>
        <p:spPr>
          <a:xfrm>
            <a:off x="841320" y="2981160"/>
            <a:ext cx="1871640" cy="1030320"/>
          </a:xfrm>
          <a:prstGeom prst="rect">
            <a:avLst/>
          </a:prstGeom>
          <a:ln w="0">
            <a:noFill/>
          </a:ln>
        </p:spPr>
      </p:pic>
      <p:grpSp>
        <p:nvGrpSpPr>
          <p:cNvPr id="878" name="组合 69"/>
          <p:cNvGrpSpPr/>
          <p:nvPr/>
        </p:nvGrpSpPr>
        <p:grpSpPr>
          <a:xfrm>
            <a:off x="642960" y="4352760"/>
            <a:ext cx="8143920" cy="438840"/>
            <a:chOff x="642960" y="4352760"/>
            <a:chExt cx="8143920" cy="438840"/>
          </a:xfrm>
        </p:grpSpPr>
        <p:grpSp>
          <p:nvGrpSpPr>
            <p:cNvPr id="879" name="组合 64"/>
            <p:cNvGrpSpPr/>
            <p:nvPr/>
          </p:nvGrpSpPr>
          <p:grpSpPr>
            <a:xfrm>
              <a:off x="642960" y="4352760"/>
              <a:ext cx="2519640" cy="421920"/>
              <a:chOff x="642960" y="4352760"/>
              <a:chExt cx="2519640" cy="421920"/>
            </a:xfrm>
          </p:grpSpPr>
          <p:sp>
            <p:nvSpPr>
              <p:cNvPr id="880" name="同侧圆角矩形 75"/>
              <p:cNvSpPr/>
              <p:nvPr/>
            </p:nvSpPr>
            <p:spPr>
              <a:xfrm rot="16200000">
                <a:off x="1506960" y="3488760"/>
                <a:ext cx="421920" cy="2149920"/>
              </a:xfrm>
              <a:custGeom>
                <a:avLst/>
                <a:gdLst/>
                <a:ahLst/>
                <a:rect l="l" t="t" r="r" b="b"/>
                <a:pathLst>
                  <a:path w="793417" h="2149872">
                    <a:moveTo>
                      <a:pt x="132239" y="0"/>
                    </a:moveTo>
                    <a:lnTo>
                      <a:pt x="661178" y="0"/>
                    </a:lnTo>
                    <a:cubicBezTo>
                      <a:pt x="734212" y="0"/>
                      <a:pt x="793417" y="59205"/>
                      <a:pt x="793417" y="132239"/>
                    </a:cubicBezTo>
                    <a:lnTo>
                      <a:pt x="793417" y="2149872"/>
                    </a:lnTo>
                    <a:lnTo>
                      <a:pt x="793417" y="2149872"/>
                    </a:lnTo>
                    <a:lnTo>
                      <a:pt x="0" y="2149872"/>
                    </a:lnTo>
                    <a:lnTo>
                      <a:pt x="0" y="2149872"/>
                    </a:lnTo>
                    <a:lnTo>
                      <a:pt x="0" y="132239"/>
                    </a:lnTo>
                    <a:cubicBezTo>
                      <a:pt x="0" y="59205"/>
                      <a:pt x="59205" y="0"/>
                      <a:pt x="132239" y="0"/>
                    </a:cubicBezTo>
                    <a:close/>
                  </a:path>
                </a:pathLst>
              </a:cu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1" name="TextBox 11"/>
              <p:cNvSpPr/>
              <p:nvPr/>
            </p:nvSpPr>
            <p:spPr>
              <a:xfrm>
                <a:off x="858600" y="4374720"/>
                <a:ext cx="230400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882" name="组合 69"/>
            <p:cNvGrpSpPr/>
            <p:nvPr/>
          </p:nvGrpSpPr>
          <p:grpSpPr>
            <a:xfrm>
              <a:off x="2649600" y="4356360"/>
              <a:ext cx="6137280" cy="435240"/>
              <a:chOff x="2649600" y="4356360"/>
              <a:chExt cx="6137280" cy="435240"/>
            </a:xfrm>
          </p:grpSpPr>
          <p:sp>
            <p:nvSpPr>
              <p:cNvPr id="883" name="同侧圆角矩形 72"/>
              <p:cNvSpPr/>
              <p:nvPr/>
            </p:nvSpPr>
            <p:spPr>
              <a:xfrm flipV="1" rot="16200000">
                <a:off x="5510160" y="1637640"/>
                <a:ext cx="421560" cy="5857920"/>
              </a:xfrm>
              <a:custGeom>
                <a:avLst/>
                <a:gdLst/>
                <a:ahLst/>
                <a:rect l="l" t="t" r="r" b="b"/>
                <a:pathLst>
                  <a:path w="790657" h="5858073">
                    <a:moveTo>
                      <a:pt x="131779" y="0"/>
                    </a:moveTo>
                    <a:lnTo>
                      <a:pt x="658878" y="0"/>
                    </a:lnTo>
                    <a:cubicBezTo>
                      <a:pt x="731658" y="0"/>
                      <a:pt x="790657" y="58999"/>
                      <a:pt x="790657" y="131779"/>
                    </a:cubicBezTo>
                    <a:lnTo>
                      <a:pt x="790657" y="5858073"/>
                    </a:lnTo>
                    <a:lnTo>
                      <a:pt x="790657" y="5858073"/>
                    </a:lnTo>
                    <a:lnTo>
                      <a:pt x="0" y="5858073"/>
                    </a:lnTo>
                    <a:lnTo>
                      <a:pt x="0" y="5858073"/>
                    </a:lnTo>
                    <a:lnTo>
                      <a:pt x="0" y="131779"/>
                    </a:lnTo>
                    <a:cubicBezTo>
                      <a:pt x="0" y="58999"/>
                      <a:pt x="58999" y="0"/>
                      <a:pt x="13177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fbfbf"/>
                  </a:gs>
                  <a:gs pos="100000">
                    <a:srgbClr val="f2f2f2"/>
                  </a:gs>
                </a:gsLst>
                <a:lin ang="189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84" name="对角圆角矩形 73"/>
              <p:cNvGrpSpPr/>
              <p:nvPr/>
            </p:nvGrpSpPr>
            <p:grpSpPr>
              <a:xfrm>
                <a:off x="7931160" y="4516560"/>
                <a:ext cx="670320" cy="268920"/>
                <a:chOff x="7931160" y="4516560"/>
                <a:chExt cx="670320" cy="268920"/>
              </a:xfrm>
            </p:grpSpPr>
            <p:pic>
              <p:nvPicPr>
                <p:cNvPr id="885" name="对角圆角矩形 7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931160" y="4516560"/>
                  <a:ext cx="670320" cy="26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6" name=""/>
                <p:cNvSpPr/>
                <p:nvPr/>
              </p:nvSpPr>
              <p:spPr>
                <a:xfrm>
                  <a:off x="7947720" y="4534200"/>
                  <a:ext cx="63756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87" name="TextBox 12"/>
              <p:cNvSpPr/>
              <p:nvPr/>
            </p:nvSpPr>
            <p:spPr>
              <a:xfrm>
                <a:off x="2649600" y="4423320"/>
                <a:ext cx="613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X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888" name="组合 77"/>
          <p:cNvGrpSpPr/>
          <p:nvPr/>
        </p:nvGrpSpPr>
        <p:grpSpPr>
          <a:xfrm>
            <a:off x="642960" y="4710240"/>
            <a:ext cx="8143920" cy="642960"/>
            <a:chOff x="642960" y="4710240"/>
            <a:chExt cx="8143920" cy="642960"/>
          </a:xfrm>
        </p:grpSpPr>
        <p:grpSp>
          <p:nvGrpSpPr>
            <p:cNvPr id="889" name="组合 64"/>
            <p:cNvGrpSpPr/>
            <p:nvPr/>
          </p:nvGrpSpPr>
          <p:grpSpPr>
            <a:xfrm>
              <a:off x="642960" y="4710240"/>
              <a:ext cx="2519640" cy="642960"/>
              <a:chOff x="642960" y="4710240"/>
              <a:chExt cx="2519640" cy="642960"/>
            </a:xfrm>
          </p:grpSpPr>
          <p:sp>
            <p:nvSpPr>
              <p:cNvPr id="890" name="同侧圆角矩形 83"/>
              <p:cNvSpPr/>
              <p:nvPr/>
            </p:nvSpPr>
            <p:spPr>
              <a:xfrm rot="16200000">
                <a:off x="1396440" y="3956760"/>
                <a:ext cx="642960" cy="2149920"/>
              </a:xfrm>
              <a:custGeom>
                <a:avLst/>
                <a:gdLst/>
                <a:ahLst/>
                <a:rect l="l" t="t" r="r" b="b"/>
                <a:pathLst>
                  <a:path w="1209545" h="2149872">
                    <a:moveTo>
                      <a:pt x="201595" y="0"/>
                    </a:moveTo>
                    <a:lnTo>
                      <a:pt x="1007950" y="0"/>
                    </a:lnTo>
                    <a:cubicBezTo>
                      <a:pt x="1119288" y="0"/>
                      <a:pt x="1209545" y="90257"/>
                      <a:pt x="1209545" y="201595"/>
                    </a:cubicBezTo>
                    <a:lnTo>
                      <a:pt x="1209545" y="2149872"/>
                    </a:lnTo>
                    <a:lnTo>
                      <a:pt x="1209545" y="2149872"/>
                    </a:lnTo>
                    <a:lnTo>
                      <a:pt x="0" y="2149872"/>
                    </a:lnTo>
                    <a:lnTo>
                      <a:pt x="0" y="2149872"/>
                    </a:lnTo>
                    <a:lnTo>
                      <a:pt x="0" y="201595"/>
                    </a:lnTo>
                    <a:cubicBezTo>
                      <a:pt x="0" y="90257"/>
                      <a:pt x="90257" y="0"/>
                      <a:pt x="201595" y="0"/>
                    </a:cubicBezTo>
                    <a:close/>
                  </a:path>
                </a:pathLst>
              </a:cu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1" name="TextBox 11"/>
              <p:cNvSpPr/>
              <p:nvPr/>
            </p:nvSpPr>
            <p:spPr>
              <a:xfrm>
                <a:off x="858600" y="4819680"/>
                <a:ext cx="230400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892" name="组合 69"/>
            <p:cNvGrpSpPr/>
            <p:nvPr/>
          </p:nvGrpSpPr>
          <p:grpSpPr>
            <a:xfrm>
              <a:off x="2714400" y="4801320"/>
              <a:ext cx="6072480" cy="429120"/>
              <a:chOff x="2714400" y="4801320"/>
              <a:chExt cx="6072480" cy="429120"/>
            </a:xfrm>
          </p:grpSpPr>
          <p:sp>
            <p:nvSpPr>
              <p:cNvPr id="893" name="同侧圆角矩形 80"/>
              <p:cNvSpPr/>
              <p:nvPr/>
            </p:nvSpPr>
            <p:spPr>
              <a:xfrm flipV="1" rot="16200000">
                <a:off x="5510160" y="2082600"/>
                <a:ext cx="421560" cy="5858280"/>
              </a:xfrm>
              <a:custGeom>
                <a:avLst/>
                <a:gdLst/>
                <a:ahLst/>
                <a:rect l="l" t="t" r="r" b="b"/>
                <a:pathLst>
                  <a:path w="791660" h="5858072">
                    <a:moveTo>
                      <a:pt x="131946" y="0"/>
                    </a:moveTo>
                    <a:lnTo>
                      <a:pt x="659714" y="0"/>
                    </a:lnTo>
                    <a:cubicBezTo>
                      <a:pt x="732586" y="0"/>
                      <a:pt x="791660" y="59074"/>
                      <a:pt x="791660" y="131946"/>
                    </a:cubicBezTo>
                    <a:lnTo>
                      <a:pt x="791660" y="5858072"/>
                    </a:lnTo>
                    <a:lnTo>
                      <a:pt x="791660" y="5858072"/>
                    </a:lnTo>
                    <a:lnTo>
                      <a:pt x="0" y="5858072"/>
                    </a:lnTo>
                    <a:lnTo>
                      <a:pt x="0" y="5858072"/>
                    </a:lnTo>
                    <a:lnTo>
                      <a:pt x="0" y="131946"/>
                    </a:lnTo>
                    <a:cubicBezTo>
                      <a:pt x="0" y="59074"/>
                      <a:pt x="59074" y="0"/>
                      <a:pt x="131946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fbfbf"/>
                  </a:gs>
                  <a:gs pos="100000">
                    <a:srgbClr val="f2f2f2"/>
                  </a:gs>
                </a:gsLst>
                <a:lin ang="189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94" name="对角圆角矩形 81"/>
              <p:cNvGrpSpPr/>
              <p:nvPr/>
            </p:nvGrpSpPr>
            <p:grpSpPr>
              <a:xfrm>
                <a:off x="7931160" y="4961880"/>
                <a:ext cx="670320" cy="268560"/>
                <a:chOff x="7931160" y="4961880"/>
                <a:chExt cx="670320" cy="268560"/>
              </a:xfrm>
            </p:grpSpPr>
            <p:pic>
              <p:nvPicPr>
                <p:cNvPr id="895" name="对角圆角矩形 81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931160" y="4961880"/>
                  <a:ext cx="670320" cy="26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>
                  <a:off x="7947720" y="4978800"/>
                  <a:ext cx="637560" cy="23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97" name="TextBox 12"/>
              <p:cNvSpPr/>
              <p:nvPr/>
            </p:nvSpPr>
            <p:spPr>
              <a:xfrm>
                <a:off x="2714400" y="4852440"/>
                <a:ext cx="6072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Verdana"/>
                  </a:rPr>
                  <a:t>  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X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898" name="组合 85"/>
          <p:cNvGrpSpPr/>
          <p:nvPr/>
        </p:nvGrpSpPr>
        <p:grpSpPr>
          <a:xfrm>
            <a:off x="642960" y="5210280"/>
            <a:ext cx="8137440" cy="433440"/>
            <a:chOff x="642960" y="5210280"/>
            <a:chExt cx="8137440" cy="433440"/>
          </a:xfrm>
        </p:grpSpPr>
        <p:grpSp>
          <p:nvGrpSpPr>
            <p:cNvPr id="899" name="组合 64"/>
            <p:cNvGrpSpPr/>
            <p:nvPr/>
          </p:nvGrpSpPr>
          <p:grpSpPr>
            <a:xfrm>
              <a:off x="642960" y="5210280"/>
              <a:ext cx="2519640" cy="421920"/>
              <a:chOff x="642960" y="5210280"/>
              <a:chExt cx="2519640" cy="421920"/>
            </a:xfrm>
          </p:grpSpPr>
          <p:sp>
            <p:nvSpPr>
              <p:cNvPr id="900" name="同侧圆角矩形 91"/>
              <p:cNvSpPr/>
              <p:nvPr/>
            </p:nvSpPr>
            <p:spPr>
              <a:xfrm rot="16200000">
                <a:off x="1506960" y="4346280"/>
                <a:ext cx="421920" cy="2149920"/>
              </a:xfrm>
              <a:custGeom>
                <a:avLst/>
                <a:gdLst/>
                <a:ahLst/>
                <a:rect l="l" t="t" r="r" b="b"/>
                <a:pathLst>
                  <a:path w="793325" h="2149886">
                    <a:moveTo>
                      <a:pt x="132223" y="0"/>
                    </a:moveTo>
                    <a:lnTo>
                      <a:pt x="661102" y="0"/>
                    </a:lnTo>
                    <a:cubicBezTo>
                      <a:pt x="734127" y="0"/>
                      <a:pt x="793325" y="59198"/>
                      <a:pt x="793325" y="132223"/>
                    </a:cubicBezTo>
                    <a:lnTo>
                      <a:pt x="793325" y="2149886"/>
                    </a:lnTo>
                    <a:lnTo>
                      <a:pt x="793325" y="2149886"/>
                    </a:lnTo>
                    <a:lnTo>
                      <a:pt x="0" y="2149886"/>
                    </a:lnTo>
                    <a:lnTo>
                      <a:pt x="0" y="2149886"/>
                    </a:lnTo>
                    <a:lnTo>
                      <a:pt x="0" y="132223"/>
                    </a:lnTo>
                    <a:cubicBezTo>
                      <a:pt x="0" y="59198"/>
                      <a:pt x="59198" y="0"/>
                      <a:pt x="132223" y="0"/>
                    </a:cubicBezTo>
                    <a:close/>
                  </a:path>
                </a:pathLst>
              </a:cu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1" name="TextBox 11"/>
              <p:cNvSpPr/>
              <p:nvPr/>
            </p:nvSpPr>
            <p:spPr>
              <a:xfrm>
                <a:off x="858600" y="5232240"/>
                <a:ext cx="230400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02" name="组合 69"/>
            <p:cNvGrpSpPr/>
            <p:nvPr/>
          </p:nvGrpSpPr>
          <p:grpSpPr>
            <a:xfrm>
              <a:off x="2786040" y="5214240"/>
              <a:ext cx="5994360" cy="429480"/>
              <a:chOff x="2786040" y="5214240"/>
              <a:chExt cx="5994360" cy="429480"/>
            </a:xfrm>
          </p:grpSpPr>
          <p:sp>
            <p:nvSpPr>
              <p:cNvPr id="903" name="同侧圆角矩形 88"/>
              <p:cNvSpPr/>
              <p:nvPr/>
            </p:nvSpPr>
            <p:spPr>
              <a:xfrm flipV="1" rot="16200000">
                <a:off x="5510880" y="2495520"/>
                <a:ext cx="420480" cy="5857920"/>
              </a:xfrm>
              <a:custGeom>
                <a:avLst/>
                <a:gdLst/>
                <a:ahLst/>
                <a:rect l="l" t="t" r="r" b="b"/>
                <a:pathLst>
                  <a:path w="790569" h="5858114">
                    <a:moveTo>
                      <a:pt x="131764" y="0"/>
                    </a:moveTo>
                    <a:lnTo>
                      <a:pt x="658805" y="0"/>
                    </a:lnTo>
                    <a:cubicBezTo>
                      <a:pt x="731576" y="0"/>
                      <a:pt x="790569" y="58993"/>
                      <a:pt x="790569" y="131764"/>
                    </a:cubicBezTo>
                    <a:lnTo>
                      <a:pt x="790569" y="5858114"/>
                    </a:lnTo>
                    <a:lnTo>
                      <a:pt x="790569" y="5858114"/>
                    </a:lnTo>
                    <a:lnTo>
                      <a:pt x="0" y="5858114"/>
                    </a:lnTo>
                    <a:lnTo>
                      <a:pt x="0" y="5858114"/>
                    </a:lnTo>
                    <a:lnTo>
                      <a:pt x="0" y="131764"/>
                    </a:lnTo>
                    <a:cubicBezTo>
                      <a:pt x="0" y="58993"/>
                      <a:pt x="58993" y="0"/>
                      <a:pt x="13176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fbfbf"/>
                  </a:gs>
                  <a:gs pos="100000">
                    <a:srgbClr val="f2f2f2"/>
                  </a:gs>
                </a:gsLst>
                <a:lin ang="189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04" name="对角圆角矩形 89"/>
              <p:cNvGrpSpPr/>
              <p:nvPr/>
            </p:nvGrpSpPr>
            <p:grpSpPr>
              <a:xfrm>
                <a:off x="7930800" y="5375880"/>
                <a:ext cx="670320" cy="267840"/>
                <a:chOff x="7930800" y="5375880"/>
                <a:chExt cx="670320" cy="267840"/>
              </a:xfrm>
            </p:grpSpPr>
            <p:pic>
              <p:nvPicPr>
                <p:cNvPr id="905" name="对角圆角矩形 89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7930800" y="5375880"/>
                  <a:ext cx="670320" cy="267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7947360" y="5391360"/>
                  <a:ext cx="637560" cy="23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07" name="TextBox 12"/>
              <p:cNvSpPr/>
              <p:nvPr/>
            </p:nvSpPr>
            <p:spPr>
              <a:xfrm>
                <a:off x="2786040" y="5268960"/>
                <a:ext cx="5994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X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908" name="TextBox 21" descr=""/>
          <p:cNvPicPr/>
          <p:nvPr/>
        </p:nvPicPr>
        <p:blipFill>
          <a:blip r:embed="rId12"/>
          <a:stretch/>
        </p:blipFill>
        <p:spPr>
          <a:xfrm>
            <a:off x="646200" y="4705200"/>
            <a:ext cx="242568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9" name="图片 2" descr="方形立体小人锐普PPT论坛-098.JPG"/>
          <p:cNvPicPr/>
          <p:nvPr/>
        </p:nvPicPr>
        <p:blipFill>
          <a:blip r:embed="rId1"/>
          <a:srcRect l="31305" t="31522" r="32176" b="21725"/>
          <a:stretch/>
        </p:blipFill>
        <p:spPr>
          <a:xfrm rot="2522400">
            <a:off x="5581440" y="3257640"/>
            <a:ext cx="3097080" cy="2286000"/>
          </a:xfrm>
          <a:prstGeom prst="rect">
            <a:avLst/>
          </a:prstGeom>
          <a:ln w="0">
            <a:noFill/>
          </a:ln>
        </p:spPr>
      </p:pic>
      <p:grpSp>
        <p:nvGrpSpPr>
          <p:cNvPr id="910" name="组合 19"/>
          <p:cNvGrpSpPr/>
          <p:nvPr/>
        </p:nvGrpSpPr>
        <p:grpSpPr>
          <a:xfrm>
            <a:off x="500040" y="1943280"/>
            <a:ext cx="5926320" cy="1008000"/>
            <a:chOff x="500040" y="1943280"/>
            <a:chExt cx="5926320" cy="1008000"/>
          </a:xfrm>
        </p:grpSpPr>
        <p:sp>
          <p:nvSpPr>
            <p:cNvPr id="911" name="矩形标注 4"/>
            <p:cNvSpPr/>
            <p:nvPr/>
          </p:nvSpPr>
          <p:spPr>
            <a:xfrm>
              <a:off x="500040" y="1943280"/>
              <a:ext cx="5926320" cy="1008000"/>
            </a:xfrm>
            <a:prstGeom prst="wedgeRectCallout">
              <a:avLst>
                <a:gd name="adj1" fmla="val 34037"/>
                <a:gd name="adj2" fmla="val 82365"/>
              </a:avLst>
            </a:prstGeom>
            <a:solidFill>
              <a:srgbClr val="ff3c37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12" name="矩形 24"/>
            <p:cNvGrpSpPr/>
            <p:nvPr/>
          </p:nvGrpSpPr>
          <p:grpSpPr>
            <a:xfrm>
              <a:off x="657360" y="2054520"/>
              <a:ext cx="5632920" cy="798480"/>
              <a:chOff x="657360" y="2054520"/>
              <a:chExt cx="5632920" cy="798480"/>
            </a:xfrm>
          </p:grpSpPr>
          <p:pic>
            <p:nvPicPr>
              <p:cNvPr id="913" name="矩形 24" descr=""/>
              <p:cNvPicPr/>
              <p:nvPr/>
            </p:nvPicPr>
            <p:blipFill>
              <a:blip r:embed="rId2"/>
              <a:stretch/>
            </p:blipFill>
            <p:spPr>
              <a:xfrm>
                <a:off x="657360" y="2054520"/>
                <a:ext cx="5632920" cy="79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4" name="Text Box 14"/>
              <p:cNvSpPr/>
              <p:nvPr/>
            </p:nvSpPr>
            <p:spPr>
              <a:xfrm>
                <a:off x="665280" y="2057400"/>
                <a:ext cx="561708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敬请各位专家领导批评指正！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矩形 52" descr=""/>
          <p:cNvPicPr/>
          <p:nvPr/>
        </p:nvPicPr>
        <p:blipFill>
          <a:blip r:embed="rId1"/>
          <a:stretch/>
        </p:blipFill>
        <p:spPr>
          <a:xfrm>
            <a:off x="1835280" y="768240"/>
            <a:ext cx="4505040" cy="1005120"/>
          </a:xfrm>
          <a:prstGeom prst="rect">
            <a:avLst/>
          </a:prstGeom>
          <a:ln w="0">
            <a:noFill/>
          </a:ln>
        </p:spPr>
      </p:pic>
      <p:sp>
        <p:nvSpPr>
          <p:cNvPr id="549" name="TextBox 53"/>
          <p:cNvSpPr/>
          <p:nvPr/>
        </p:nvSpPr>
        <p:spPr>
          <a:xfrm>
            <a:off x="3259440" y="949320"/>
            <a:ext cx="17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小贴士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1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50" name="组合 27"/>
          <p:cNvGrpSpPr/>
          <p:nvPr/>
        </p:nvGrpSpPr>
        <p:grpSpPr>
          <a:xfrm>
            <a:off x="770040" y="2181240"/>
            <a:ext cx="1724040" cy="1349280"/>
            <a:chOff x="770040" y="2181240"/>
            <a:chExt cx="1724040" cy="1349280"/>
          </a:xfrm>
        </p:grpSpPr>
        <p:sp>
          <p:nvSpPr>
            <p:cNvPr id="551" name="圆角矩形标注 40"/>
            <p:cNvSpPr/>
            <p:nvPr/>
          </p:nvSpPr>
          <p:spPr>
            <a:xfrm>
              <a:off x="895320" y="2181240"/>
              <a:ext cx="159876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52" name="同侧圆角矩形 19"/>
            <p:cNvGrpSpPr/>
            <p:nvPr/>
          </p:nvGrpSpPr>
          <p:grpSpPr>
            <a:xfrm>
              <a:off x="1126800" y="2252880"/>
              <a:ext cx="1141920" cy="499680"/>
              <a:chOff x="1126800" y="2252880"/>
              <a:chExt cx="1141920" cy="499680"/>
            </a:xfrm>
          </p:grpSpPr>
          <p:pic>
            <p:nvPicPr>
              <p:cNvPr id="553" name="同侧圆角矩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1197000" y="2296080"/>
                <a:ext cx="1071720" cy="45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4" name="Text Box 5" descr=""/>
              <p:cNvPicPr/>
              <p:nvPr/>
            </p:nvPicPr>
            <p:blipFill>
              <a:blip r:embed="rId3"/>
              <a:stretch/>
            </p:blipFill>
            <p:spPr>
              <a:xfrm>
                <a:off x="1126800" y="2252880"/>
                <a:ext cx="1073520" cy="49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55" name="TextBox 20"/>
            <p:cNvSpPr/>
            <p:nvPr/>
          </p:nvSpPr>
          <p:spPr>
            <a:xfrm>
              <a:off x="770040" y="2824200"/>
              <a:ext cx="171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56" name="组合 54"/>
          <p:cNvGrpSpPr/>
          <p:nvPr/>
        </p:nvGrpSpPr>
        <p:grpSpPr>
          <a:xfrm>
            <a:off x="954000" y="4076640"/>
            <a:ext cx="1560600" cy="1096920"/>
            <a:chOff x="954000" y="4076640"/>
            <a:chExt cx="1560600" cy="1096920"/>
          </a:xfrm>
        </p:grpSpPr>
        <p:sp>
          <p:nvSpPr>
            <p:cNvPr id="557" name="圆角矩形标注 57"/>
            <p:cNvSpPr/>
            <p:nvPr/>
          </p:nvSpPr>
          <p:spPr>
            <a:xfrm>
              <a:off x="954000" y="4076640"/>
              <a:ext cx="1560600" cy="95724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ffc0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558" name="Text Box 32" descr=""/>
            <p:cNvPicPr/>
            <p:nvPr/>
          </p:nvPicPr>
          <p:blipFill>
            <a:blip r:embed="rId4"/>
            <a:stretch/>
          </p:blipFill>
          <p:spPr>
            <a:xfrm>
              <a:off x="1096920" y="4386240"/>
              <a:ext cx="1140120" cy="78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9" name="圆角矩形标注 59"/>
          <p:cNvSpPr/>
          <p:nvPr/>
        </p:nvSpPr>
        <p:spPr>
          <a:xfrm>
            <a:off x="3276720" y="2824200"/>
            <a:ext cx="5182920" cy="16128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ff"/>
          </a:solidFill>
          <a:ln w="3240">
            <a:solidFill>
              <a:srgbClr val="d9d9d9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TextBox 1"/>
          <p:cNvSpPr/>
          <p:nvPr/>
        </p:nvSpPr>
        <p:spPr>
          <a:xfrm>
            <a:off x="3276720" y="3133800"/>
            <a:ext cx="5398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根据内容层级数选择左边的标题形式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层级较多的选择上边的，层级较少选择下边的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请自行替换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矩形 52" descr=""/>
          <p:cNvPicPr/>
          <p:nvPr/>
        </p:nvPicPr>
        <p:blipFill>
          <a:blip r:embed="rId1"/>
          <a:stretch/>
        </p:blipFill>
        <p:spPr>
          <a:xfrm>
            <a:off x="1835280" y="768240"/>
            <a:ext cx="4505040" cy="1005120"/>
          </a:xfrm>
          <a:prstGeom prst="rect">
            <a:avLst/>
          </a:prstGeom>
          <a:ln w="0">
            <a:noFill/>
          </a:ln>
        </p:spPr>
      </p:pic>
      <p:sp>
        <p:nvSpPr>
          <p:cNvPr id="562" name="TextBox 53"/>
          <p:cNvSpPr/>
          <p:nvPr/>
        </p:nvSpPr>
        <p:spPr>
          <a:xfrm>
            <a:off x="3259440" y="949320"/>
            <a:ext cx="17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小贴士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圆角矩形标注 59"/>
          <p:cNvSpPr/>
          <p:nvPr/>
        </p:nvSpPr>
        <p:spPr>
          <a:xfrm>
            <a:off x="1258920" y="2997360"/>
            <a:ext cx="6697800" cy="15318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ff"/>
          </a:solidFill>
          <a:ln w="3240">
            <a:solidFill>
              <a:srgbClr val="d9d9d9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TextBox 1"/>
          <p:cNvSpPr/>
          <p:nvPr/>
        </p:nvSpPr>
        <p:spPr>
          <a:xfrm>
            <a:off x="1352520" y="3300480"/>
            <a:ext cx="638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母版里请自行更换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LOGO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、校训等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矩形 52" descr=""/>
          <p:cNvPicPr/>
          <p:nvPr/>
        </p:nvPicPr>
        <p:blipFill>
          <a:blip r:embed="rId1"/>
          <a:stretch/>
        </p:blipFill>
        <p:spPr>
          <a:xfrm>
            <a:off x="1835280" y="768240"/>
            <a:ext cx="4505040" cy="1005120"/>
          </a:xfrm>
          <a:prstGeom prst="rect">
            <a:avLst/>
          </a:prstGeom>
          <a:ln w="0">
            <a:noFill/>
          </a:ln>
        </p:spPr>
      </p:pic>
      <p:sp>
        <p:nvSpPr>
          <p:cNvPr id="566" name="TextBox 53"/>
          <p:cNvSpPr/>
          <p:nvPr/>
        </p:nvSpPr>
        <p:spPr>
          <a:xfrm>
            <a:off x="3259440" y="949320"/>
            <a:ext cx="17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小贴士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3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圆角矩形标注 59"/>
          <p:cNvSpPr/>
          <p:nvPr/>
        </p:nvSpPr>
        <p:spPr>
          <a:xfrm>
            <a:off x="826920" y="2997360"/>
            <a:ext cx="7561440" cy="15318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ff"/>
          </a:solidFill>
          <a:ln w="3240">
            <a:solidFill>
              <a:srgbClr val="d9d9d9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TextBox 1"/>
          <p:cNvSpPr/>
          <p:nvPr/>
        </p:nvSpPr>
        <p:spPr>
          <a:xfrm>
            <a:off x="900000" y="3141720"/>
            <a:ext cx="7488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请根据自己的需求对内容进行增删与修改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   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秋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矩形 52" descr=""/>
          <p:cNvPicPr/>
          <p:nvPr/>
        </p:nvPicPr>
        <p:blipFill>
          <a:blip r:embed="rId1"/>
          <a:stretch/>
        </p:blipFill>
        <p:spPr>
          <a:xfrm>
            <a:off x="-85680" y="500040"/>
            <a:ext cx="9388440" cy="1000080"/>
          </a:xfrm>
          <a:prstGeom prst="rect">
            <a:avLst/>
          </a:prstGeom>
          <a:ln w="0">
            <a:noFill/>
          </a:ln>
        </p:spPr>
      </p:pic>
      <p:sp>
        <p:nvSpPr>
          <p:cNvPr id="570" name="TextBox 53"/>
          <p:cNvSpPr/>
          <p:nvPr/>
        </p:nvSpPr>
        <p:spPr>
          <a:xfrm>
            <a:off x="215640" y="773280"/>
            <a:ext cx="240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微软雅黑"/>
              </a:rPr>
              <a:t>☞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主要内容 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1" name="组合 43"/>
          <p:cNvGrpSpPr/>
          <p:nvPr/>
        </p:nvGrpSpPr>
        <p:grpSpPr>
          <a:xfrm>
            <a:off x="357120" y="3071880"/>
            <a:ext cx="2214720" cy="1361880"/>
            <a:chOff x="357120" y="3071880"/>
            <a:chExt cx="2214720" cy="1361880"/>
          </a:xfrm>
        </p:grpSpPr>
        <p:sp>
          <p:nvSpPr>
            <p:cNvPr id="572" name="椭圆 44"/>
            <p:cNvSpPr/>
            <p:nvPr/>
          </p:nvSpPr>
          <p:spPr>
            <a:xfrm>
              <a:off x="357120" y="3071880"/>
              <a:ext cx="585720" cy="571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73" name="组合 7"/>
            <p:cNvGrpSpPr/>
            <p:nvPr/>
          </p:nvGrpSpPr>
          <p:grpSpPr>
            <a:xfrm>
              <a:off x="614160" y="3116520"/>
              <a:ext cx="1957680" cy="1317240"/>
              <a:chOff x="614160" y="3116520"/>
              <a:chExt cx="1957680" cy="1317240"/>
            </a:xfrm>
          </p:grpSpPr>
          <p:sp>
            <p:nvSpPr>
              <p:cNvPr id="574" name="圆角矩形 48"/>
              <p:cNvSpPr/>
              <p:nvPr/>
            </p:nvSpPr>
            <p:spPr>
              <a:xfrm>
                <a:off x="614160" y="3116520"/>
                <a:ext cx="1957680" cy="1312560"/>
              </a:xfrm>
              <a:prstGeom prst="roundRect">
                <a:avLst>
                  <a:gd name="adj" fmla="val 7319"/>
                </a:avLst>
              </a:prstGeom>
              <a:solidFill>
                <a:srgbClr val="ffffff"/>
              </a:solidFill>
              <a:ln w="324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XXXX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75" name="对角圆角矩形 53"/>
              <p:cNvGrpSpPr/>
              <p:nvPr/>
            </p:nvGrpSpPr>
            <p:grpSpPr>
              <a:xfrm>
                <a:off x="2214720" y="3486960"/>
                <a:ext cx="357120" cy="946800"/>
                <a:chOff x="2214720" y="3486960"/>
                <a:chExt cx="357120" cy="946800"/>
              </a:xfrm>
            </p:grpSpPr>
            <p:pic>
              <p:nvPicPr>
                <p:cNvPr id="576" name="对角圆角矩形 5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214720" y="3714480"/>
                  <a:ext cx="357120" cy="71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7" name="Text Box 16"/>
                <p:cNvSpPr/>
                <p:nvPr/>
              </p:nvSpPr>
              <p:spPr>
                <a:xfrm>
                  <a:off x="2230560" y="3486960"/>
                  <a:ext cx="341280" cy="94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578" name="椭圆 46"/>
            <p:cNvSpPr/>
            <p:nvPr/>
          </p:nvSpPr>
          <p:spPr>
            <a:xfrm>
              <a:off x="428400" y="3071880"/>
              <a:ext cx="5000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9" name="椭圆 47"/>
            <p:cNvSpPr/>
            <p:nvPr/>
          </p:nvSpPr>
          <p:spPr>
            <a:xfrm>
              <a:off x="428400" y="3143160"/>
              <a:ext cx="500040" cy="500040"/>
            </a:xfrm>
            <a:prstGeom prst="ellipse">
              <a:avLst/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80" name="组合 15"/>
          <p:cNvGrpSpPr/>
          <p:nvPr/>
        </p:nvGrpSpPr>
        <p:grpSpPr>
          <a:xfrm>
            <a:off x="2428920" y="3071880"/>
            <a:ext cx="2214360" cy="1361880"/>
            <a:chOff x="2428920" y="3071880"/>
            <a:chExt cx="2214360" cy="1361880"/>
          </a:xfrm>
        </p:grpSpPr>
        <p:sp>
          <p:nvSpPr>
            <p:cNvPr id="581" name="椭圆 4"/>
            <p:cNvSpPr/>
            <p:nvPr/>
          </p:nvSpPr>
          <p:spPr>
            <a:xfrm>
              <a:off x="2428920" y="3071880"/>
              <a:ext cx="585720" cy="571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82" name="组合 7"/>
            <p:cNvGrpSpPr/>
            <p:nvPr/>
          </p:nvGrpSpPr>
          <p:grpSpPr>
            <a:xfrm>
              <a:off x="2685960" y="3116520"/>
              <a:ext cx="1957320" cy="1317240"/>
              <a:chOff x="2685960" y="3116520"/>
              <a:chExt cx="1957320" cy="1317240"/>
            </a:xfrm>
          </p:grpSpPr>
          <p:sp>
            <p:nvSpPr>
              <p:cNvPr id="583" name="圆角矩形 9"/>
              <p:cNvSpPr/>
              <p:nvPr/>
            </p:nvSpPr>
            <p:spPr>
              <a:xfrm>
                <a:off x="2685960" y="3116520"/>
                <a:ext cx="1957320" cy="1312560"/>
              </a:xfrm>
              <a:prstGeom prst="roundRect">
                <a:avLst>
                  <a:gd name="adj" fmla="val 7319"/>
                </a:avLst>
              </a:prstGeom>
              <a:solidFill>
                <a:srgbClr val="ffffff"/>
              </a:solidFill>
              <a:ln w="3240">
                <a:solidFill>
                  <a:srgbClr val="d9d9d9"/>
                </a:solidFill>
                <a:miter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84" name="对角圆角矩形 53"/>
              <p:cNvGrpSpPr/>
              <p:nvPr/>
            </p:nvGrpSpPr>
            <p:grpSpPr>
              <a:xfrm>
                <a:off x="4286160" y="3486960"/>
                <a:ext cx="357120" cy="946800"/>
                <a:chOff x="4286160" y="3486960"/>
                <a:chExt cx="357120" cy="946800"/>
              </a:xfrm>
            </p:grpSpPr>
            <p:pic>
              <p:nvPicPr>
                <p:cNvPr id="585" name="对角圆角矩形 5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286160" y="3714480"/>
                  <a:ext cx="357120" cy="71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6" name="Text Box 16"/>
                <p:cNvSpPr/>
                <p:nvPr/>
              </p:nvSpPr>
              <p:spPr>
                <a:xfrm>
                  <a:off x="4302000" y="3486960"/>
                  <a:ext cx="341280" cy="94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587" name="椭圆 6"/>
            <p:cNvSpPr/>
            <p:nvPr/>
          </p:nvSpPr>
          <p:spPr>
            <a:xfrm>
              <a:off x="2500200" y="3071880"/>
              <a:ext cx="5000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8" name="椭圆 7"/>
            <p:cNvSpPr/>
            <p:nvPr/>
          </p:nvSpPr>
          <p:spPr>
            <a:xfrm>
              <a:off x="2500200" y="3143160"/>
              <a:ext cx="500040" cy="500040"/>
            </a:xfrm>
            <a:prstGeom prst="ellipse">
              <a:avLst/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89" name="组合 16"/>
          <p:cNvGrpSpPr/>
          <p:nvPr/>
        </p:nvGrpSpPr>
        <p:grpSpPr>
          <a:xfrm>
            <a:off x="4500720" y="3071880"/>
            <a:ext cx="2214360" cy="1361880"/>
            <a:chOff x="4500720" y="3071880"/>
            <a:chExt cx="2214360" cy="1361880"/>
          </a:xfrm>
        </p:grpSpPr>
        <p:sp>
          <p:nvSpPr>
            <p:cNvPr id="590" name="椭圆 17"/>
            <p:cNvSpPr/>
            <p:nvPr/>
          </p:nvSpPr>
          <p:spPr>
            <a:xfrm>
              <a:off x="4500720" y="3071880"/>
              <a:ext cx="585720" cy="571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91" name="组合 7"/>
            <p:cNvGrpSpPr/>
            <p:nvPr/>
          </p:nvGrpSpPr>
          <p:grpSpPr>
            <a:xfrm>
              <a:off x="4757760" y="3116520"/>
              <a:ext cx="1957320" cy="1317240"/>
              <a:chOff x="4757760" y="3116520"/>
              <a:chExt cx="1957320" cy="1317240"/>
            </a:xfrm>
          </p:grpSpPr>
          <p:sp>
            <p:nvSpPr>
              <p:cNvPr id="592" name="圆角矩形 21"/>
              <p:cNvSpPr/>
              <p:nvPr/>
            </p:nvSpPr>
            <p:spPr>
              <a:xfrm>
                <a:off x="4757760" y="3116520"/>
                <a:ext cx="1957320" cy="1312560"/>
              </a:xfrm>
              <a:prstGeom prst="roundRect">
                <a:avLst>
                  <a:gd name="adj" fmla="val 7319"/>
                </a:avLst>
              </a:prstGeom>
              <a:solidFill>
                <a:srgbClr val="ffffff"/>
              </a:solidFill>
              <a:ln w="3240">
                <a:solidFill>
                  <a:srgbClr val="d9d9d9"/>
                </a:solidFill>
                <a:miter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93" name="对角圆角矩形 53"/>
              <p:cNvGrpSpPr/>
              <p:nvPr/>
            </p:nvGrpSpPr>
            <p:grpSpPr>
              <a:xfrm>
                <a:off x="6357960" y="3486960"/>
                <a:ext cx="357120" cy="946800"/>
                <a:chOff x="6357960" y="3486960"/>
                <a:chExt cx="357120" cy="946800"/>
              </a:xfrm>
            </p:grpSpPr>
            <p:pic>
              <p:nvPicPr>
                <p:cNvPr id="594" name="对角圆角矩形 5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57960" y="3714480"/>
                  <a:ext cx="357120" cy="71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5" name="Text Box 16"/>
                <p:cNvSpPr/>
                <p:nvPr/>
              </p:nvSpPr>
              <p:spPr>
                <a:xfrm>
                  <a:off x="6373800" y="3486960"/>
                  <a:ext cx="341280" cy="94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596" name="椭圆 19"/>
            <p:cNvSpPr/>
            <p:nvPr/>
          </p:nvSpPr>
          <p:spPr>
            <a:xfrm>
              <a:off x="4572000" y="3071880"/>
              <a:ext cx="5000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7" name="椭圆 20"/>
            <p:cNvSpPr/>
            <p:nvPr/>
          </p:nvSpPr>
          <p:spPr>
            <a:xfrm>
              <a:off x="4572000" y="3143160"/>
              <a:ext cx="500040" cy="500040"/>
            </a:xfrm>
            <a:prstGeom prst="ellipse">
              <a:avLst/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98" name="组合 25"/>
          <p:cNvGrpSpPr/>
          <p:nvPr/>
        </p:nvGrpSpPr>
        <p:grpSpPr>
          <a:xfrm>
            <a:off x="6572160" y="3071880"/>
            <a:ext cx="2214720" cy="1361880"/>
            <a:chOff x="6572160" y="3071880"/>
            <a:chExt cx="2214720" cy="1361880"/>
          </a:xfrm>
        </p:grpSpPr>
        <p:sp>
          <p:nvSpPr>
            <p:cNvPr id="599" name="椭圆 26"/>
            <p:cNvSpPr/>
            <p:nvPr/>
          </p:nvSpPr>
          <p:spPr>
            <a:xfrm>
              <a:off x="6572160" y="3071880"/>
              <a:ext cx="585720" cy="571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00" name="组合 7"/>
            <p:cNvGrpSpPr/>
            <p:nvPr/>
          </p:nvGrpSpPr>
          <p:grpSpPr>
            <a:xfrm>
              <a:off x="6829200" y="3116520"/>
              <a:ext cx="1957680" cy="1317240"/>
              <a:chOff x="6829200" y="3116520"/>
              <a:chExt cx="1957680" cy="1317240"/>
            </a:xfrm>
          </p:grpSpPr>
          <p:sp>
            <p:nvSpPr>
              <p:cNvPr id="601" name="圆角矩形 30"/>
              <p:cNvSpPr/>
              <p:nvPr/>
            </p:nvSpPr>
            <p:spPr>
              <a:xfrm>
                <a:off x="6829200" y="3116520"/>
                <a:ext cx="1957680" cy="1312560"/>
              </a:xfrm>
              <a:prstGeom prst="roundRect">
                <a:avLst>
                  <a:gd name="adj" fmla="val 7319"/>
                </a:avLst>
              </a:prstGeom>
              <a:solidFill>
                <a:srgbClr val="ffffff"/>
              </a:solidFill>
              <a:ln w="3240">
                <a:solidFill>
                  <a:srgbClr val="d9d9d9"/>
                </a:solidFill>
                <a:miter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XXXX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02" name="对角圆角矩形 53"/>
              <p:cNvGrpSpPr/>
              <p:nvPr/>
            </p:nvGrpSpPr>
            <p:grpSpPr>
              <a:xfrm>
                <a:off x="8429760" y="3486960"/>
                <a:ext cx="357120" cy="946800"/>
                <a:chOff x="8429760" y="3486960"/>
                <a:chExt cx="357120" cy="946800"/>
              </a:xfrm>
            </p:grpSpPr>
            <p:pic>
              <p:nvPicPr>
                <p:cNvPr id="603" name="对角圆角矩形 5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429760" y="3714480"/>
                  <a:ext cx="357120" cy="71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04" name="Text Box 16"/>
                <p:cNvSpPr/>
                <p:nvPr/>
              </p:nvSpPr>
              <p:spPr>
                <a:xfrm>
                  <a:off x="8445600" y="3486960"/>
                  <a:ext cx="341280" cy="94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605" name="椭圆 28"/>
            <p:cNvSpPr/>
            <p:nvPr/>
          </p:nvSpPr>
          <p:spPr>
            <a:xfrm>
              <a:off x="6643440" y="3071880"/>
              <a:ext cx="5000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6" name="椭圆 29"/>
            <p:cNvSpPr/>
            <p:nvPr/>
          </p:nvSpPr>
          <p:spPr>
            <a:xfrm>
              <a:off x="6643440" y="3143160"/>
              <a:ext cx="500040" cy="500040"/>
            </a:xfrm>
            <a:prstGeom prst="ellipse">
              <a:avLst/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608" name="TextBox 3"/>
          <p:cNvSpPr/>
          <p:nvPr/>
        </p:nvSpPr>
        <p:spPr>
          <a:xfrm>
            <a:off x="3094200" y="1333440"/>
            <a:ext cx="6192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0" name="圆角矩形 14" descr=""/>
          <p:cNvPicPr/>
          <p:nvPr/>
        </p:nvPicPr>
        <p:blipFill>
          <a:blip r:embed="rId2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611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612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13" name="同侧圆角矩形 19"/>
            <p:cNvGrpSpPr/>
            <p:nvPr/>
          </p:nvGrpSpPr>
          <p:grpSpPr>
            <a:xfrm>
              <a:off x="785880" y="1000440"/>
              <a:ext cx="1143360" cy="499320"/>
              <a:chOff x="785880" y="1000440"/>
              <a:chExt cx="1143360" cy="499320"/>
            </a:xfrm>
          </p:grpSpPr>
          <p:pic>
            <p:nvPicPr>
              <p:cNvPr id="614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046520"/>
                <a:ext cx="1072800" cy="453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5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88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16" name="TextBox 20"/>
            <p:cNvSpPr/>
            <p:nvPr/>
          </p:nvSpPr>
          <p:spPr>
            <a:xfrm>
              <a:off x="428760" y="157176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17" name="组合 4"/>
          <p:cNvGrpSpPr/>
          <p:nvPr/>
        </p:nvGrpSpPr>
        <p:grpSpPr>
          <a:xfrm>
            <a:off x="2340000" y="3286080"/>
            <a:ext cx="1919160" cy="1346400"/>
            <a:chOff x="2340000" y="3286080"/>
            <a:chExt cx="1919160" cy="1346400"/>
          </a:xfrm>
        </p:grpSpPr>
        <p:sp>
          <p:nvSpPr>
            <p:cNvPr id="618" name="椭圆 34"/>
            <p:cNvSpPr/>
            <p:nvPr/>
          </p:nvSpPr>
          <p:spPr>
            <a:xfrm>
              <a:off x="2340000" y="4137120"/>
              <a:ext cx="1919160" cy="495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9" name="椭圆形标注 35"/>
            <p:cNvSpPr/>
            <p:nvPr/>
          </p:nvSpPr>
          <p:spPr>
            <a:xfrm>
              <a:off x="2624040" y="3286080"/>
              <a:ext cx="1238400" cy="98928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0" name="椭圆 36"/>
            <p:cNvSpPr/>
            <p:nvPr/>
          </p:nvSpPr>
          <p:spPr>
            <a:xfrm>
              <a:off x="2714400" y="3325680"/>
              <a:ext cx="1052640" cy="8049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6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1" name="TextBox 8"/>
            <p:cNvSpPr/>
            <p:nvPr/>
          </p:nvSpPr>
          <p:spPr>
            <a:xfrm>
              <a:off x="2727720" y="3503520"/>
              <a:ext cx="105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22" name="组合 10"/>
          <p:cNvGrpSpPr/>
          <p:nvPr/>
        </p:nvGrpSpPr>
        <p:grpSpPr>
          <a:xfrm>
            <a:off x="3635280" y="2709720"/>
            <a:ext cx="2257560" cy="1584360"/>
            <a:chOff x="3635280" y="2709720"/>
            <a:chExt cx="2257560" cy="1584360"/>
          </a:xfrm>
        </p:grpSpPr>
        <p:sp>
          <p:nvSpPr>
            <p:cNvPr id="623" name="椭圆 39"/>
            <p:cNvSpPr/>
            <p:nvPr/>
          </p:nvSpPr>
          <p:spPr>
            <a:xfrm>
              <a:off x="3635280" y="3711600"/>
              <a:ext cx="2257560" cy="5824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4" name="椭圆形标注 40"/>
            <p:cNvSpPr/>
            <p:nvPr/>
          </p:nvSpPr>
          <p:spPr>
            <a:xfrm>
              <a:off x="3968640" y="2709720"/>
              <a:ext cx="1457640" cy="116532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5" name="椭圆 41"/>
            <p:cNvSpPr/>
            <p:nvPr/>
          </p:nvSpPr>
          <p:spPr>
            <a:xfrm>
              <a:off x="4076640" y="2757240"/>
              <a:ext cx="1238400" cy="946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6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6" name="TextBox 14"/>
            <p:cNvSpPr/>
            <p:nvPr/>
          </p:nvSpPr>
          <p:spPr>
            <a:xfrm>
              <a:off x="4070880" y="2977200"/>
              <a:ext cx="123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27" name="组合 15"/>
          <p:cNvGrpSpPr/>
          <p:nvPr/>
        </p:nvGrpSpPr>
        <p:grpSpPr>
          <a:xfrm>
            <a:off x="1908000" y="4365720"/>
            <a:ext cx="2087640" cy="1492200"/>
            <a:chOff x="1908000" y="4365720"/>
            <a:chExt cx="2087640" cy="1492200"/>
          </a:xfrm>
        </p:grpSpPr>
        <p:sp>
          <p:nvSpPr>
            <p:cNvPr id="628" name="椭圆 44"/>
            <p:cNvSpPr/>
            <p:nvPr/>
          </p:nvSpPr>
          <p:spPr>
            <a:xfrm>
              <a:off x="1908000" y="5308560"/>
              <a:ext cx="2087640" cy="549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9" name="椭圆形标注 45"/>
            <p:cNvSpPr/>
            <p:nvPr/>
          </p:nvSpPr>
          <p:spPr>
            <a:xfrm>
              <a:off x="2217600" y="4365720"/>
              <a:ext cx="1346400" cy="109692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0" name="椭圆 46"/>
            <p:cNvSpPr/>
            <p:nvPr/>
          </p:nvSpPr>
          <p:spPr>
            <a:xfrm>
              <a:off x="2315880" y="4410000"/>
              <a:ext cx="1144800" cy="8906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6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1" name="TextBox 19"/>
            <p:cNvSpPr/>
            <p:nvPr/>
          </p:nvSpPr>
          <p:spPr>
            <a:xfrm>
              <a:off x="2299680" y="4606920"/>
              <a:ext cx="11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32" name="组合 35"/>
          <p:cNvGrpSpPr/>
          <p:nvPr/>
        </p:nvGrpSpPr>
        <p:grpSpPr>
          <a:xfrm>
            <a:off x="5219640" y="3429000"/>
            <a:ext cx="1919520" cy="1347840"/>
            <a:chOff x="5219640" y="3429000"/>
            <a:chExt cx="1919520" cy="1347840"/>
          </a:xfrm>
        </p:grpSpPr>
        <p:sp>
          <p:nvSpPr>
            <p:cNvPr id="633" name="椭圆 49"/>
            <p:cNvSpPr/>
            <p:nvPr/>
          </p:nvSpPr>
          <p:spPr>
            <a:xfrm>
              <a:off x="5219640" y="4281480"/>
              <a:ext cx="1919520" cy="495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4" name="椭圆形标注 50"/>
            <p:cNvSpPr/>
            <p:nvPr/>
          </p:nvSpPr>
          <p:spPr>
            <a:xfrm>
              <a:off x="5503680" y="3429000"/>
              <a:ext cx="1238400" cy="99072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5" name="椭圆 51"/>
            <p:cNvSpPr/>
            <p:nvPr/>
          </p:nvSpPr>
          <p:spPr>
            <a:xfrm>
              <a:off x="5594400" y="3468600"/>
              <a:ext cx="1052640" cy="8049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6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6" name="TextBox 39"/>
            <p:cNvSpPr/>
            <p:nvPr/>
          </p:nvSpPr>
          <p:spPr>
            <a:xfrm>
              <a:off x="5607720" y="3645000"/>
              <a:ext cx="105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37" name="组合 30"/>
          <p:cNvGrpSpPr/>
          <p:nvPr/>
        </p:nvGrpSpPr>
        <p:grpSpPr>
          <a:xfrm>
            <a:off x="3276720" y="4294080"/>
            <a:ext cx="2460600" cy="1727280"/>
            <a:chOff x="3276720" y="4294080"/>
            <a:chExt cx="2460600" cy="1727280"/>
          </a:xfrm>
        </p:grpSpPr>
        <p:sp>
          <p:nvSpPr>
            <p:cNvPr id="638" name="椭圆 54"/>
            <p:cNvSpPr/>
            <p:nvPr/>
          </p:nvSpPr>
          <p:spPr>
            <a:xfrm>
              <a:off x="3276720" y="5386320"/>
              <a:ext cx="2460600" cy="6350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椭圆形标注 55"/>
            <p:cNvSpPr/>
            <p:nvPr/>
          </p:nvSpPr>
          <p:spPr>
            <a:xfrm>
              <a:off x="3639960" y="4294080"/>
              <a:ext cx="1587600" cy="127008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椭圆 56"/>
            <p:cNvSpPr/>
            <p:nvPr/>
          </p:nvSpPr>
          <p:spPr>
            <a:xfrm>
              <a:off x="3757680" y="4344840"/>
              <a:ext cx="1349280" cy="10321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6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TextBox 57"/>
            <p:cNvSpPr/>
            <p:nvPr/>
          </p:nvSpPr>
          <p:spPr>
            <a:xfrm>
              <a:off x="3719520" y="4770360"/>
              <a:ext cx="134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XX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42" name="组合 20"/>
          <p:cNvGrpSpPr/>
          <p:nvPr/>
        </p:nvGrpSpPr>
        <p:grpSpPr>
          <a:xfrm>
            <a:off x="4964040" y="4470480"/>
            <a:ext cx="2428920" cy="1704960"/>
            <a:chOff x="4964040" y="4470480"/>
            <a:chExt cx="2428920" cy="1704960"/>
          </a:xfrm>
        </p:grpSpPr>
        <p:sp>
          <p:nvSpPr>
            <p:cNvPr id="643" name="椭圆 59"/>
            <p:cNvSpPr/>
            <p:nvPr/>
          </p:nvSpPr>
          <p:spPr>
            <a:xfrm>
              <a:off x="4964040" y="5548320"/>
              <a:ext cx="2428920" cy="627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椭圆形标注 60"/>
            <p:cNvSpPr/>
            <p:nvPr/>
          </p:nvSpPr>
          <p:spPr>
            <a:xfrm>
              <a:off x="5322600" y="4470480"/>
              <a:ext cx="1568520" cy="125424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1ab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椭圆 61"/>
            <p:cNvSpPr/>
            <p:nvPr/>
          </p:nvSpPr>
          <p:spPr>
            <a:xfrm>
              <a:off x="5438520" y="4521240"/>
              <a:ext cx="1332000" cy="1017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6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TextBox 24"/>
            <p:cNvSpPr/>
            <p:nvPr/>
          </p:nvSpPr>
          <p:spPr>
            <a:xfrm>
              <a:off x="5471280" y="4932000"/>
              <a:ext cx="13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648" name="TextBox 3"/>
          <p:cNvSpPr/>
          <p:nvPr/>
        </p:nvSpPr>
        <p:spPr>
          <a:xfrm>
            <a:off x="3094200" y="1333440"/>
            <a:ext cx="6192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0" name="圆角矩形 14" descr=""/>
          <p:cNvPicPr/>
          <p:nvPr/>
        </p:nvPicPr>
        <p:blipFill>
          <a:blip r:embed="rId2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651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652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3" name="同侧圆角矩形 19"/>
            <p:cNvGrpSpPr/>
            <p:nvPr/>
          </p:nvGrpSpPr>
          <p:grpSpPr>
            <a:xfrm>
              <a:off x="785880" y="1000440"/>
              <a:ext cx="1143360" cy="499320"/>
              <a:chOff x="785880" y="1000440"/>
              <a:chExt cx="1143360" cy="499320"/>
            </a:xfrm>
          </p:grpSpPr>
          <p:pic>
            <p:nvPicPr>
              <p:cNvPr id="654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046520"/>
                <a:ext cx="1072800" cy="453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5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88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6" name="TextBox 20"/>
            <p:cNvSpPr/>
            <p:nvPr/>
          </p:nvSpPr>
          <p:spPr>
            <a:xfrm>
              <a:off x="428760" y="157176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57" name="组合 71"/>
          <p:cNvGrpSpPr/>
          <p:nvPr/>
        </p:nvGrpSpPr>
        <p:grpSpPr>
          <a:xfrm>
            <a:off x="1042920" y="2944800"/>
            <a:ext cx="3060720" cy="2787840"/>
            <a:chOff x="1042920" y="2944800"/>
            <a:chExt cx="3060720" cy="2787840"/>
          </a:xfrm>
        </p:grpSpPr>
        <p:pic>
          <p:nvPicPr>
            <p:cNvPr id="658" name="Picture 9" descr=""/>
            <p:cNvPicPr/>
            <p:nvPr/>
          </p:nvPicPr>
          <p:blipFill>
            <a:blip r:embed="rId5"/>
            <a:stretch/>
          </p:blipFill>
          <p:spPr>
            <a:xfrm>
              <a:off x="1042920" y="4570560"/>
              <a:ext cx="1000080" cy="1162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9" name="组合 26"/>
            <p:cNvGrpSpPr/>
            <p:nvPr/>
          </p:nvGrpSpPr>
          <p:grpSpPr>
            <a:xfrm>
              <a:off x="1731960" y="3022560"/>
              <a:ext cx="2371680" cy="1625760"/>
              <a:chOff x="1731960" y="3022560"/>
              <a:chExt cx="2371680" cy="1625760"/>
            </a:xfrm>
          </p:grpSpPr>
          <p:sp>
            <p:nvSpPr>
              <p:cNvPr id="660" name="圆角矩形标注 75"/>
              <p:cNvSpPr/>
              <p:nvPr/>
            </p:nvSpPr>
            <p:spPr>
              <a:xfrm>
                <a:off x="1731960" y="3022560"/>
                <a:ext cx="2371680" cy="1625760"/>
              </a:xfrm>
              <a:prstGeom prst="wedgeRoundRectCallout">
                <a:avLst>
                  <a:gd name="adj1" fmla="val -20833"/>
                  <a:gd name="adj2" fmla="val 62500"/>
                  <a:gd name="adj3" fmla="val 16667"/>
                </a:avLst>
              </a:prstGeom>
              <a:noFill/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矩形 76"/>
              <p:cNvSpPr/>
              <p:nvPr/>
            </p:nvSpPr>
            <p:spPr>
              <a:xfrm>
                <a:off x="1957320" y="3514680"/>
                <a:ext cx="201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XXXXXXXXX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2" name="椭圆 74"/>
            <p:cNvSpPr/>
            <p:nvPr/>
          </p:nvSpPr>
          <p:spPr>
            <a:xfrm>
              <a:off x="1674720" y="2944800"/>
              <a:ext cx="287280" cy="287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63" name="组合 77"/>
          <p:cNvGrpSpPr/>
          <p:nvPr/>
        </p:nvGrpSpPr>
        <p:grpSpPr>
          <a:xfrm>
            <a:off x="4960800" y="2874960"/>
            <a:ext cx="3214800" cy="2857680"/>
            <a:chOff x="4960800" y="2874960"/>
            <a:chExt cx="3214800" cy="2857680"/>
          </a:xfrm>
        </p:grpSpPr>
        <p:pic>
          <p:nvPicPr>
            <p:cNvPr id="664" name="Picture 9" descr=""/>
            <p:cNvPicPr/>
            <p:nvPr/>
          </p:nvPicPr>
          <p:blipFill>
            <a:blip r:embed="rId6"/>
            <a:stretch/>
          </p:blipFill>
          <p:spPr>
            <a:xfrm>
              <a:off x="4960800" y="4570560"/>
              <a:ext cx="1000080" cy="1162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5" name="组合 27"/>
            <p:cNvGrpSpPr/>
            <p:nvPr/>
          </p:nvGrpSpPr>
          <p:grpSpPr>
            <a:xfrm>
              <a:off x="5675040" y="2963520"/>
              <a:ext cx="2500560" cy="1625760"/>
              <a:chOff x="5675040" y="2963520"/>
              <a:chExt cx="2500560" cy="1625760"/>
            </a:xfrm>
          </p:grpSpPr>
          <p:sp>
            <p:nvSpPr>
              <p:cNvPr id="666" name="椭圆形标注 16"/>
              <p:cNvSpPr/>
              <p:nvPr/>
            </p:nvSpPr>
            <p:spPr>
              <a:xfrm>
                <a:off x="5675040" y="2963520"/>
                <a:ext cx="2372040" cy="1625760"/>
              </a:xfrm>
              <a:prstGeom prst="wedgeRoundRectCallout">
                <a:avLst>
                  <a:gd name="adj1" fmla="val -20833"/>
                  <a:gd name="adj2" fmla="val 62500"/>
                  <a:gd name="adj3" fmla="val 16667"/>
                </a:avLst>
              </a:prstGeom>
              <a:noFill/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7" name="矩形 17"/>
              <p:cNvSpPr/>
              <p:nvPr/>
            </p:nvSpPr>
            <p:spPr>
              <a:xfrm>
                <a:off x="5746320" y="3499920"/>
                <a:ext cx="2429280" cy="397080"/>
              </a:xfrm>
              <a:prstGeom prst="wedgeRoundRectCallout">
                <a:avLst>
                  <a:gd name="adj1" fmla="val -20842"/>
                  <a:gd name="adj2" fmla="val 65486"/>
                  <a:gd name="adj3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XXXXXXXXXX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8" name="椭圆 80"/>
            <p:cNvSpPr/>
            <p:nvPr/>
          </p:nvSpPr>
          <p:spPr>
            <a:xfrm>
              <a:off x="5959440" y="2874960"/>
              <a:ext cx="287280" cy="287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9" name="椭圆 81"/>
            <p:cNvSpPr/>
            <p:nvPr/>
          </p:nvSpPr>
          <p:spPr>
            <a:xfrm>
              <a:off x="5601960" y="2874960"/>
              <a:ext cx="287280" cy="287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671" name="TextBox 3"/>
          <p:cNvSpPr/>
          <p:nvPr/>
        </p:nvSpPr>
        <p:spPr>
          <a:xfrm>
            <a:off x="3094200" y="1333440"/>
            <a:ext cx="6192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3" name="圆角矩形 14" descr=""/>
          <p:cNvPicPr/>
          <p:nvPr/>
        </p:nvPicPr>
        <p:blipFill>
          <a:blip r:embed="rId2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674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675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6" name="同侧圆角矩形 19"/>
            <p:cNvGrpSpPr/>
            <p:nvPr/>
          </p:nvGrpSpPr>
          <p:grpSpPr>
            <a:xfrm>
              <a:off x="785880" y="1000440"/>
              <a:ext cx="1143360" cy="499320"/>
              <a:chOff x="785880" y="1000440"/>
              <a:chExt cx="1143360" cy="499320"/>
            </a:xfrm>
          </p:grpSpPr>
          <p:pic>
            <p:nvPicPr>
              <p:cNvPr id="677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046520"/>
                <a:ext cx="1072800" cy="453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8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88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79" name="TextBox 20"/>
            <p:cNvSpPr/>
            <p:nvPr/>
          </p:nvSpPr>
          <p:spPr>
            <a:xfrm>
              <a:off x="428760" y="157176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80" name="组合 18"/>
          <p:cNvGrpSpPr/>
          <p:nvPr/>
        </p:nvGrpSpPr>
        <p:grpSpPr>
          <a:xfrm>
            <a:off x="1824120" y="2852640"/>
            <a:ext cx="1019160" cy="1433880"/>
            <a:chOff x="1824120" y="2852640"/>
            <a:chExt cx="1019160" cy="1433880"/>
          </a:xfrm>
        </p:grpSpPr>
        <p:pic>
          <p:nvPicPr>
            <p:cNvPr id="681" name="图片 6" descr="user.png"/>
            <p:cNvPicPr/>
            <p:nvPr/>
          </p:nvPicPr>
          <p:blipFill>
            <a:blip r:embed="rId5"/>
            <a:stretch/>
          </p:blipFill>
          <p:spPr>
            <a:xfrm>
              <a:off x="1824120" y="2852640"/>
              <a:ext cx="1019160" cy="106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TextBox 7"/>
            <p:cNvSpPr/>
            <p:nvPr/>
          </p:nvSpPr>
          <p:spPr>
            <a:xfrm>
              <a:off x="2011680" y="3887640"/>
              <a:ext cx="7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83" name="TextBox 16"/>
          <p:cNvSpPr/>
          <p:nvPr/>
        </p:nvSpPr>
        <p:spPr>
          <a:xfrm>
            <a:off x="826920" y="4915080"/>
            <a:ext cx="38163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84" name="组合 21"/>
          <p:cNvGrpSpPr/>
          <p:nvPr/>
        </p:nvGrpSpPr>
        <p:grpSpPr>
          <a:xfrm>
            <a:off x="828720" y="4386240"/>
            <a:ext cx="3095640" cy="432000"/>
            <a:chOff x="828720" y="4386240"/>
            <a:chExt cx="3095640" cy="432000"/>
          </a:xfrm>
        </p:grpSpPr>
        <p:grpSp>
          <p:nvGrpSpPr>
            <p:cNvPr id="685" name="矩形 18"/>
            <p:cNvGrpSpPr/>
            <p:nvPr/>
          </p:nvGrpSpPr>
          <p:grpSpPr>
            <a:xfrm>
              <a:off x="828720" y="4386240"/>
              <a:ext cx="3095640" cy="432000"/>
              <a:chOff x="828720" y="4386240"/>
              <a:chExt cx="3095640" cy="432000"/>
            </a:xfrm>
          </p:grpSpPr>
          <p:pic>
            <p:nvPicPr>
              <p:cNvPr id="686" name="矩形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829080" y="4388760"/>
                <a:ext cx="3095280" cy="42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7" name=""/>
              <p:cNvSpPr/>
              <p:nvPr/>
            </p:nvSpPr>
            <p:spPr>
              <a:xfrm>
                <a:off x="828720" y="4386240"/>
                <a:ext cx="309420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8" name="矩形 13"/>
            <p:cNvGrpSpPr/>
            <p:nvPr/>
          </p:nvGrpSpPr>
          <p:grpSpPr>
            <a:xfrm>
              <a:off x="968760" y="4416840"/>
              <a:ext cx="1303920" cy="370440"/>
              <a:chOff x="968760" y="4416840"/>
              <a:chExt cx="1303920" cy="370440"/>
            </a:xfrm>
          </p:grpSpPr>
          <p:pic>
            <p:nvPicPr>
              <p:cNvPr id="689" name="矩形 13" descr=""/>
              <p:cNvPicPr/>
              <p:nvPr/>
            </p:nvPicPr>
            <p:blipFill>
              <a:blip r:embed="rId7"/>
              <a:stretch/>
            </p:blipFill>
            <p:spPr>
              <a:xfrm>
                <a:off x="971640" y="4418640"/>
                <a:ext cx="1301040" cy="36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0" name=""/>
              <p:cNvSpPr/>
              <p:nvPr/>
            </p:nvSpPr>
            <p:spPr>
              <a:xfrm>
                <a:off x="968760" y="4416840"/>
                <a:ext cx="1303200" cy="37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Verdana"/>
                    <a:ea typeface="微软雅黑"/>
                  </a:rPr>
                  <a:t>XXXXXX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Verdana"/>
                    <a:ea typeface="微软雅黑"/>
                  </a:rPr>
                  <a:t>：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91" name="TextBox 20"/>
          <p:cNvSpPr/>
          <p:nvPr/>
        </p:nvSpPr>
        <p:spPr>
          <a:xfrm>
            <a:off x="5364000" y="4915080"/>
            <a:ext cx="3240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92" name="组合 22"/>
          <p:cNvGrpSpPr/>
          <p:nvPr/>
        </p:nvGrpSpPr>
        <p:grpSpPr>
          <a:xfrm>
            <a:off x="5364000" y="4386240"/>
            <a:ext cx="3095640" cy="432000"/>
            <a:chOff x="5364000" y="4386240"/>
            <a:chExt cx="3095640" cy="432000"/>
          </a:xfrm>
        </p:grpSpPr>
        <p:grpSp>
          <p:nvGrpSpPr>
            <p:cNvPr id="693" name="矩形 23"/>
            <p:cNvGrpSpPr/>
            <p:nvPr/>
          </p:nvGrpSpPr>
          <p:grpSpPr>
            <a:xfrm>
              <a:off x="5364000" y="4386240"/>
              <a:ext cx="3095640" cy="432000"/>
              <a:chOff x="5364000" y="4386240"/>
              <a:chExt cx="3095640" cy="432000"/>
            </a:xfrm>
          </p:grpSpPr>
          <p:pic>
            <p:nvPicPr>
              <p:cNvPr id="694" name="矩形 23" descr=""/>
              <p:cNvPicPr/>
              <p:nvPr/>
            </p:nvPicPr>
            <p:blipFill>
              <a:blip r:embed="rId8"/>
              <a:stretch/>
            </p:blipFill>
            <p:spPr>
              <a:xfrm>
                <a:off x="5364000" y="4388760"/>
                <a:ext cx="3095640" cy="42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5" name=""/>
              <p:cNvSpPr/>
              <p:nvPr/>
            </p:nvSpPr>
            <p:spPr>
              <a:xfrm>
                <a:off x="5364000" y="4386240"/>
                <a:ext cx="309420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96" name="矩形 17"/>
            <p:cNvSpPr/>
            <p:nvPr/>
          </p:nvSpPr>
          <p:spPr>
            <a:xfrm>
              <a:off x="5473080" y="4415040"/>
              <a:ext cx="121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XXXXX</a:t>
              </a:r>
              <a:r>
                <a:rPr b="1" lang="zh-CN" sz="18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97" name="直接连接符 29"/>
          <p:cNvSpPr/>
          <p:nvPr/>
        </p:nvSpPr>
        <p:spPr>
          <a:xfrm flipV="1">
            <a:off x="755640" y="4287600"/>
            <a:ext cx="7704000" cy="4680"/>
          </a:xfrm>
          <a:prstGeom prst="line">
            <a:avLst/>
          </a:prstGeom>
          <a:ln w="12600">
            <a:solidFill>
              <a:srgbClr val="007e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98" name="组合 18"/>
          <p:cNvGrpSpPr/>
          <p:nvPr/>
        </p:nvGrpSpPr>
        <p:grpSpPr>
          <a:xfrm>
            <a:off x="6288120" y="2892600"/>
            <a:ext cx="1019160" cy="1433880"/>
            <a:chOff x="6288120" y="2892600"/>
            <a:chExt cx="1019160" cy="1433880"/>
          </a:xfrm>
        </p:grpSpPr>
        <p:pic>
          <p:nvPicPr>
            <p:cNvPr id="699" name="图片 6" descr="user.png"/>
            <p:cNvPicPr/>
            <p:nvPr/>
          </p:nvPicPr>
          <p:blipFill>
            <a:blip r:embed="rId9"/>
            <a:stretch/>
          </p:blipFill>
          <p:spPr>
            <a:xfrm>
              <a:off x="6288120" y="2892600"/>
              <a:ext cx="1019160" cy="106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TextBox 7"/>
            <p:cNvSpPr/>
            <p:nvPr/>
          </p:nvSpPr>
          <p:spPr>
            <a:xfrm>
              <a:off x="6475680" y="3927600"/>
              <a:ext cx="7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702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3" name="圆角矩形 14" descr=""/>
          <p:cNvPicPr/>
          <p:nvPr/>
        </p:nvPicPr>
        <p:blipFill>
          <a:blip r:embed="rId2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704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705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06" name="同侧圆角矩形 19"/>
            <p:cNvGrpSpPr/>
            <p:nvPr/>
          </p:nvGrpSpPr>
          <p:grpSpPr>
            <a:xfrm>
              <a:off x="785880" y="1000440"/>
              <a:ext cx="1143360" cy="499320"/>
              <a:chOff x="785880" y="1000440"/>
              <a:chExt cx="1143360" cy="499320"/>
            </a:xfrm>
          </p:grpSpPr>
          <p:pic>
            <p:nvPicPr>
              <p:cNvPr id="707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046520"/>
                <a:ext cx="1072800" cy="453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8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88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09" name="TextBox 20"/>
            <p:cNvSpPr/>
            <p:nvPr/>
          </p:nvSpPr>
          <p:spPr>
            <a:xfrm>
              <a:off x="428760" y="171468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10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11" name="组合 20"/>
          <p:cNvGrpSpPr/>
          <p:nvPr/>
        </p:nvGrpSpPr>
        <p:grpSpPr>
          <a:xfrm>
            <a:off x="714240" y="3335400"/>
            <a:ext cx="2446560" cy="1950840"/>
            <a:chOff x="714240" y="3335400"/>
            <a:chExt cx="2446560" cy="1950840"/>
          </a:xfrm>
        </p:grpSpPr>
        <p:sp>
          <p:nvSpPr>
            <p:cNvPr id="712" name="矩形标注 35"/>
            <p:cNvSpPr/>
            <p:nvPr/>
          </p:nvSpPr>
          <p:spPr>
            <a:xfrm>
              <a:off x="714240" y="3335400"/>
              <a:ext cx="2446560" cy="1950840"/>
            </a:xfrm>
            <a:prstGeom prst="wedgeRectCallout">
              <a:avLst>
                <a:gd name="adj1" fmla="val 26148"/>
                <a:gd name="adj2" fmla="val -62296"/>
              </a:avLst>
            </a:prstGeom>
            <a:solidFill>
              <a:srgbClr val="0070c0"/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3" name="圆角矩形 12"/>
            <p:cNvSpPr/>
            <p:nvPr/>
          </p:nvSpPr>
          <p:spPr>
            <a:xfrm>
              <a:off x="836280" y="3998880"/>
              <a:ext cx="2194200" cy="1152360"/>
            </a:xfrm>
            <a:prstGeom prst="wedgeRectCallout">
              <a:avLst>
                <a:gd name="adj1" fmla="val -20833"/>
                <a:gd name="adj2" fmla="val 62500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XXXX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14" name="组合 20"/>
          <p:cNvGrpSpPr/>
          <p:nvPr/>
        </p:nvGrpSpPr>
        <p:grpSpPr>
          <a:xfrm>
            <a:off x="3411360" y="3357720"/>
            <a:ext cx="2446560" cy="1950840"/>
            <a:chOff x="3411360" y="3357720"/>
            <a:chExt cx="2446560" cy="1950840"/>
          </a:xfrm>
        </p:grpSpPr>
        <p:sp>
          <p:nvSpPr>
            <p:cNvPr id="715" name="矩形标注 41"/>
            <p:cNvSpPr/>
            <p:nvPr/>
          </p:nvSpPr>
          <p:spPr>
            <a:xfrm>
              <a:off x="3411360" y="3357720"/>
              <a:ext cx="2446560" cy="1950840"/>
            </a:xfrm>
            <a:prstGeom prst="wedgeRectCallout">
              <a:avLst>
                <a:gd name="adj1" fmla="val -21754"/>
                <a:gd name="adj2" fmla="val -64416"/>
              </a:avLst>
            </a:prstGeom>
            <a:solidFill>
              <a:srgbClr val="c58d01"/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6" name="圆角矩形 42"/>
            <p:cNvSpPr/>
            <p:nvPr/>
          </p:nvSpPr>
          <p:spPr>
            <a:xfrm>
              <a:off x="3533400" y="4021200"/>
              <a:ext cx="2194200" cy="1152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XXXX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17" name="组合 20"/>
          <p:cNvGrpSpPr/>
          <p:nvPr/>
        </p:nvGrpSpPr>
        <p:grpSpPr>
          <a:xfrm>
            <a:off x="6054840" y="3357720"/>
            <a:ext cx="2446200" cy="1950840"/>
            <a:chOff x="6054840" y="3357720"/>
            <a:chExt cx="2446200" cy="1950840"/>
          </a:xfrm>
        </p:grpSpPr>
        <p:sp>
          <p:nvSpPr>
            <p:cNvPr id="718" name="矩形标注 44"/>
            <p:cNvSpPr/>
            <p:nvPr/>
          </p:nvSpPr>
          <p:spPr>
            <a:xfrm>
              <a:off x="6054840" y="3357720"/>
              <a:ext cx="2446200" cy="1950840"/>
            </a:xfrm>
            <a:prstGeom prst="wedgeRectCallout">
              <a:avLst>
                <a:gd name="adj1" fmla="val -29078"/>
                <a:gd name="adj2" fmla="val -61564"/>
              </a:avLst>
            </a:prstGeom>
            <a:solidFill>
              <a:srgbClr val="b0105c"/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9" name="圆角矩形 45"/>
            <p:cNvSpPr/>
            <p:nvPr/>
          </p:nvSpPr>
          <p:spPr>
            <a:xfrm>
              <a:off x="6176880" y="4021200"/>
              <a:ext cx="2193840" cy="1152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XXX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VXIANLONG</cp:lastModifiedBy>
  <dcterms:modified xsi:type="dcterms:W3CDTF">2018-06-22T07:24:15Z</dcterms:modified>
  <cp:revision>74</cp:revision>
  <dc:subject/>
  <dc:title>幻灯片 1</dc:title>
</cp:coreProperties>
</file>