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A389-3CD7-4C32-BA9A-D35F218A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9934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8731-64E0-4720-84FA-D31D0EE5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FA19-19B1-4A9E-AAFC-E018E60A2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22AF-977D-45C5-94F1-71E2E6BB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D97C-2EB2-4238-80F8-48CE70AE4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056C-81AA-4203-98F5-389B5D51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0682-CD89-4942-8D43-BEC2814D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832C-445B-4A46-936D-2C790188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0E8A-678E-4871-AE31-5217A5A2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33E2-728F-44E7-849F-B7E1FC40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6643-A0F5-453A-B49F-0126E3D8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BA23-7FB5-44F9-AC49-D600B6B4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40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A277-091B-400D-BB8C-9D2258A5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D51B-FA6C-4197-AF25-05A722BC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60" y="39934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A2B3-D7DF-4D49-B939-CC6ED2D6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40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BAA6-1F48-4A49-B5A2-00671824D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080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324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36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080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324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D8AE-8075-435A-BA24-0E0EFD64B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059C-0551-4261-8A3F-4DE36638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AE0D-9C6E-460A-85B1-D3622702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A147-2DC9-4148-BAC5-D029F12A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E69C-67F3-4DAC-852B-9A04201F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64AC-94DF-4ACD-B55F-C7AC3B1E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0BD2-46A2-48D2-87BA-5CEE7FFD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F9F3-F39E-4347-8ADF-9EC1725A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2e04"/>
                </a:solidFill>
                <a:latin typeface="时尚中黑简体"/>
              </a:rPr>
              <a:t>Click to edit the title text format</a:t>
            </a: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02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2e04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lvl="1" marL="743040" indent="-285840">
              <a:spcBef>
                <a:spcPts val="499"/>
              </a:spcBef>
              <a:buClr>
                <a:srgbClr val="602e0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2e04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lvl="2" marL="1143000" indent="-228600">
              <a:spcBef>
                <a:spcPts val="499"/>
              </a:spcBef>
              <a:buClr>
                <a:srgbClr val="602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2e04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lvl="3" marL="1600200" indent="-228600">
              <a:spcBef>
                <a:spcPts val="499"/>
              </a:spcBef>
              <a:buClr>
                <a:srgbClr val="602e0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2e04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lvl="4" marL="2057400" indent="-228600">
              <a:spcBef>
                <a:spcPts val="499"/>
              </a:spcBef>
              <a:buClr>
                <a:srgbClr val="602e0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2e04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2e04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2e04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835E-D0B5-4F2E-A6DA-2BF274FCC1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669080" y="5445000"/>
            <a:ext cx="1501920" cy="150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1080" y="2677680"/>
            <a:ext cx="66960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02e04"/>
                </a:solidFill>
                <a:latin typeface="时尚中黑简体"/>
              </a:rPr>
              <a:t>Click to edit the title text format</a:t>
            </a:r>
            <a:endParaRPr b="1" lang="en-US" sz="36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05D9-E48E-4D71-B843-1FB630EEA5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2e04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602e04"/>
              </a:solidFill>
              <a:latin typeface="微软雅黑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2e04"/>
                </a:solidFill>
                <a:latin typeface="微软雅黑"/>
              </a:rPr>
              <a:t>Second Outline Level</a:t>
            </a:r>
            <a:endParaRPr b="0" lang="en-US" sz="1800" spc="-1" strike="noStrike">
              <a:solidFill>
                <a:srgbClr val="602e04"/>
              </a:solidFill>
              <a:latin typeface="微软雅黑"/>
            </a:endParaRPr>
          </a:p>
          <a:p>
            <a:pPr lvl="2" marL="914400" algn="ctr">
              <a:spcBef>
                <a:spcPts val="400"/>
              </a:spcBef>
              <a:buClr>
                <a:srgbClr val="602e0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02e04"/>
                </a:solidFill>
                <a:latin typeface="微软雅黑"/>
              </a:rPr>
              <a:t>Third Outline Level</a:t>
            </a:r>
            <a:endParaRPr b="0" lang="en-US" sz="1600" spc="-1" strike="noStrike">
              <a:solidFill>
                <a:srgbClr val="602e04"/>
              </a:solidFill>
              <a:latin typeface="微软雅黑"/>
            </a:endParaRPr>
          </a:p>
          <a:p>
            <a:pPr lvl="3" marL="1371600" algn="ctr">
              <a:spcBef>
                <a:spcPts val="349"/>
              </a:spcBef>
              <a:buClr>
                <a:srgbClr val="602e0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02e04"/>
                </a:solidFill>
                <a:latin typeface="微软雅黑"/>
              </a:rPr>
              <a:t>Fourth Outline Level</a:t>
            </a:r>
            <a:endParaRPr b="0" lang="en-US" sz="1400" spc="-1" strike="noStrike">
              <a:solidFill>
                <a:srgbClr val="602e04"/>
              </a:solidFill>
              <a:latin typeface="微软雅黑"/>
            </a:endParaRPr>
          </a:p>
          <a:p>
            <a:pPr lvl="4" marL="1828800" algn="ctr">
              <a:spcBef>
                <a:spcPts val="300"/>
              </a:spcBef>
              <a:buClr>
                <a:srgbClr val="602e0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02e04"/>
                </a:solidFill>
                <a:latin typeface="微软雅黑"/>
              </a:rPr>
              <a:t>Fifth Outline Level</a:t>
            </a:r>
            <a:endParaRPr b="0" lang="en-US" sz="1200" spc="-1" strike="noStrike">
              <a:solidFill>
                <a:srgbClr val="602e04"/>
              </a:solidFill>
              <a:latin typeface="微软雅黑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02e04"/>
                </a:solidFill>
                <a:latin typeface="微软雅黑"/>
              </a:rPr>
              <a:t>Sixth Outline Level</a:t>
            </a:r>
            <a:endParaRPr b="0" lang="en-US" sz="1200" spc="-1" strike="noStrike">
              <a:solidFill>
                <a:srgbClr val="602e04"/>
              </a:solidFill>
              <a:latin typeface="微软雅黑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02e04"/>
                </a:solidFill>
                <a:latin typeface="微软雅黑"/>
              </a:rPr>
              <a:t>Seventh Outline Level</a:t>
            </a:r>
            <a:endParaRPr b="0" lang="en-US" sz="1200" spc="-1" strike="noStrike">
              <a:solidFill>
                <a:srgbClr val="602e04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1080" y="2677680"/>
            <a:ext cx="66960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02e04"/>
                </a:solidFill>
                <a:latin typeface="时尚中黑简体"/>
              </a:rPr>
              <a:t>公交车逃生技巧</a:t>
            </a:r>
            <a:endParaRPr b="1" lang="en-US" sz="36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80720" y="3933360"/>
            <a:ext cx="4103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安全环保科</a:t>
            </a: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-</a:t>
            </a: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王雪娇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rcRect l="0" t="8409" r="29398" b="58024"/>
          <a:stretch/>
        </p:blipFill>
        <p:spPr>
          <a:xfrm>
            <a:off x="250920" y="5248440"/>
            <a:ext cx="41050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逃生注意点</a:t>
            </a: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02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1</a:t>
            </a: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、不要乱喊乱叫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-343080">
              <a:spcBef>
                <a:spcPts val="499"/>
              </a:spcBef>
              <a:buClr>
                <a:srgbClr val="602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2</a:t>
            </a: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、捂嘴弯腰跑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-343080">
              <a:spcBef>
                <a:spcPts val="499"/>
              </a:spcBef>
              <a:buClr>
                <a:srgbClr val="602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3</a:t>
            </a: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、身上有火勿奔跑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-343080">
              <a:spcBef>
                <a:spcPts val="499"/>
              </a:spcBef>
              <a:buClr>
                <a:srgbClr val="602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4</a:t>
            </a: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、上车后观察安全锤、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逃生窗、灭火器位置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861080" y="1628640"/>
            <a:ext cx="244152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771840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应对措施</a:t>
            </a: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发现公交车起火，第一反应应该怎么做？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判断形势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1</a:t>
            </a: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）火势可控，用车上灭火器灭火。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2</a:t>
            </a: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）火势不可控，想办法逃生。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注意点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1</a:t>
            </a: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）车上灭火器为干粉灭火器，不要对着人喷。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2</a:t>
            </a: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）灭火器的放置位置，一般在下车门附近和司机座位附近。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124000" y="4653000"/>
            <a:ext cx="464832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逃生通道</a:t>
            </a: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-</a:t>
            </a: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车门</a:t>
            </a: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9800" y="1628280"/>
            <a:ext cx="83520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1</a:t>
            </a: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、逃生首选通道</a:t>
            </a: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-</a:t>
            </a: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车门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1</a:t>
            </a: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）车门能正常开启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乘客就近从前后车门下车。先逃离乘客可协助司机，在门边疏导、保护。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2</a:t>
            </a: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）车门附近有火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用衣服抱住头，冲出去。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340000" y="3933720"/>
            <a:ext cx="402912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3)</a:t>
            </a: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车门打不开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-343080">
              <a:spcBef>
                <a:spcPts val="499"/>
              </a:spcBef>
              <a:buClr>
                <a:srgbClr val="602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目前，好多公交车都加装了应急断气开关，按此开关可在车门电路短路时，切断气路释放气压，手动开门。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-343080">
              <a:spcBef>
                <a:spcPts val="499"/>
              </a:spcBef>
              <a:buClr>
                <a:srgbClr val="602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司机座位旁和前后车门顶部，样子像电扇档位开关，车体外部也有，可求助路人从外部按下。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2720" y="3860640"/>
            <a:ext cx="3473640" cy="2160720"/>
          </a:xfrm>
          <a:prstGeom prst="rect">
            <a:avLst/>
          </a:prstGeom>
          <a:ln w="19080">
            <a:solidFill>
              <a:srgbClr val="c0504d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356080" y="3860640"/>
            <a:ext cx="2880000" cy="2160720"/>
          </a:xfrm>
          <a:prstGeom prst="rect">
            <a:avLst/>
          </a:prstGeom>
          <a:ln w="19080">
            <a:solidFill>
              <a:srgbClr val="c0504d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780000" y="3860640"/>
            <a:ext cx="1609560" cy="2160720"/>
          </a:xfrm>
          <a:prstGeom prst="rect">
            <a:avLst/>
          </a:prstGeom>
          <a:ln w="1908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9440" y="1628280"/>
            <a:ext cx="35989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02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部分公交车是早期的公交车，该开关是隐藏在车门上方的铁盒子内，需要打开顶盖才能转动开关。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356000" y="1701720"/>
            <a:ext cx="358164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逃生通道</a:t>
            </a: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-</a:t>
            </a: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车窗</a:t>
            </a: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4560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1</a:t>
            </a: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、推拉窗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-343080">
              <a:spcBef>
                <a:spcPts val="499"/>
              </a:spcBef>
              <a:buClr>
                <a:srgbClr val="602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一般空调车的最前面和最后面一排的车窗是可推拉的，非空调车的车窗都可推拉。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2</a:t>
            </a: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、非推拉窗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-343080">
              <a:spcBef>
                <a:spcPts val="499"/>
              </a:spcBef>
              <a:buClr>
                <a:srgbClr val="602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使用安全锤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-343080">
              <a:spcBef>
                <a:spcPts val="499"/>
              </a:spcBef>
              <a:buClr>
                <a:srgbClr val="602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高跟鞋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-343080">
              <a:spcBef>
                <a:spcPts val="499"/>
              </a:spcBef>
              <a:buClr>
                <a:srgbClr val="602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钥匙（成功率较低）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-343080">
              <a:spcBef>
                <a:spcPts val="499"/>
              </a:spcBef>
              <a:buClr>
                <a:srgbClr val="602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啥都没有（手扶座椅靠背，脚跟用力蹬玻璃）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140360" y="1413000"/>
            <a:ext cx="3962160" cy="2009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140360" y="3573360"/>
            <a:ext cx="403848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逃生通道</a:t>
            </a: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-</a:t>
            </a: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车顶天窗</a:t>
            </a: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785016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02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车顶逃生窗在正常情况下用来通风，紧急情况下，是一个重要的逃生出口，一般在车顶前后各有一个。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908000" y="2494080"/>
            <a:ext cx="53326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逃生通道</a:t>
            </a: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-</a:t>
            </a: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车顶天窗</a:t>
            </a: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9440" y="1628280"/>
            <a:ext cx="33829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02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转动红色开关，用力外推，即可打开。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213080" y="3933720"/>
            <a:ext cx="3416400" cy="2159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213080" y="1700280"/>
            <a:ext cx="33912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逃生通道</a:t>
            </a: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-</a:t>
            </a: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其他</a:t>
            </a: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38876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02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除了车门和逃生窗，一些新兴公交车上两侧还配有专门的逃生窗，窗户边缘有红色把手，打开塑料罩后，向上扭动把手，即可推开窗户逃生。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-343080">
              <a:spcBef>
                <a:spcPts val="499"/>
              </a:spcBef>
              <a:buClr>
                <a:srgbClr val="602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此外还有玻璃爆破装置，一般在自己驾驶座旁边，紧急情况下，司机按动该按钮，两边玻璃自动爆破。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930920" y="1557360"/>
            <a:ext cx="2881080" cy="17604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930920" y="3141720"/>
            <a:ext cx="29001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4-07-21T02:21:4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5</vt:lpwstr>
  </property>
</Properties>
</file>