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5A3-A055-46CE-894F-1B748B7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0B6-786A-48F9-B559-2A0E091E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AC4-F30C-4648-91E0-C0675E67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A7B-79C7-434A-9DBF-3FA72407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E9B3-0B88-404C-A1E2-768CA97E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1219-ECED-431B-A985-D030DE29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75C8-CEC1-46C8-BF46-D737178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6A83-019B-4842-8A45-4D3B1B02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F792A-8D9E-419B-8EE2-7701B65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7E752-58B7-45B6-B07D-8312A3E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DFF1-6B73-471B-A1D1-04CC6EC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E7C-1030-4BB4-88DB-A5B7DA9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D9815-45BE-4728-B3FF-CC6F854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E807D-A7FB-463B-B1BA-EB67C1B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FDC55-99E5-4EE6-983B-1874AE8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7111-575F-40C8-8E83-E91E625F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DF4D8-C590-4AB1-A9AA-1BE712C6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969-3DF9-4D70-9970-B7D7DD66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6BE-6A31-4FDA-A53D-A9CD7EF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495-4492-455F-B530-B5613A2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E89-4F6E-447F-879D-6CA331AB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25A-8528-49D5-B971-8A76D2B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7D1-66AA-46F6-9F85-E35C0A1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414-2723-4F01-BAF0-6140A28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0FDB-5589-49B5-91D2-7754EE04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B97-73B7-41FD-BCA4-A95866E4E7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149"/>
          <p:cNvSpPr/>
          <p:nvPr/>
        </p:nvSpPr>
        <p:spPr>
          <a:xfrm>
            <a:off x="3595680" y="4840200"/>
            <a:ext cx="44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九年级（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矩形 6151"/>
          <p:cNvSpPr/>
          <p:nvPr/>
        </p:nvSpPr>
        <p:spPr>
          <a:xfrm>
            <a:off x="395280" y="126828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40ffff"/>
                </a:solidFill>
                <a:latin typeface="Arial"/>
                <a:ea typeface="华文行楷"/>
              </a:rPr>
              <a:t>勤奋努力，刻苦学习，在期末创造辉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20833" descr="1308381522828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001000" cy="1738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初三的道路是不平坦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要是怕走这崎岖的山道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就只好留在山下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21857" descr="10195707867_500X667"/>
          <p:cNvPicPr/>
          <p:nvPr/>
        </p:nvPicPr>
        <p:blipFill>
          <a:blip r:embed="rId1"/>
          <a:stretch/>
        </p:blipFill>
        <p:spPr>
          <a:xfrm>
            <a:off x="1908000" y="1052640"/>
            <a:ext cx="3103560" cy="367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292360" y="1268280"/>
            <a:ext cx="3529080" cy="3673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爷，你别看我年龄小，其实我总结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初三可短暂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睡觉是一样一样的。眼一闭一睁高一就到了，嗯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21859"/>
          <p:cNvSpPr/>
          <p:nvPr/>
        </p:nvSpPr>
        <p:spPr>
          <a:xfrm>
            <a:off x="324000" y="530064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是短暂的，但只要我们从现在开始坚持学习，美好还是会留在我们的身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人生的第一步不是每天期盼就可以实现， 它需要我们的行动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一、良好的心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4920" y="2060280"/>
            <a:ext cx="604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心静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集中注意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乐观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充满自信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目标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8" action="ppaction://hlinksldjump"/>
              </a:rPr>
              <a:t>-----</a:t>
            </a: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9" action="ppaction://hlinksldjump"/>
              </a:rPr>
              <a:t>开动内驱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ffcc"/>
                </a:solidFill>
                <a:uFillTx/>
                <a:latin typeface="Arial"/>
                <a:hlinkClick r:id="rId10" action="ppaction://hlinksldjump"/>
              </a:rPr>
              <a:t>自省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1" action="ppaction://hlinksldjump"/>
              </a:rPr>
              <a:t>-----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加强意志力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84993"/>
          <p:cNvSpPr/>
          <p:nvPr/>
        </p:nvSpPr>
        <p:spPr>
          <a:xfrm>
            <a:off x="468360" y="1916280"/>
            <a:ext cx="7920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如果没有集中的注意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将渐渐失去方向；我们必将让短暂的复习时间消耗殆尽！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无聊的闲谈，是庸俗的交往，是频繁的打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分散着我们的注意力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注意力高度集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才能专注于学习，才有高效的复习，最大收益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84994"/>
          <p:cNvSpPr/>
          <p:nvPr/>
        </p:nvSpPr>
        <p:spPr>
          <a:xfrm>
            <a:off x="2771640" y="33336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隶书"/>
              </a:rPr>
              <a:t>从现在开始，我们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隶书"/>
              </a:rPr>
              <a:t>更加集中自己的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注意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心静、口紧、身正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92000" y="2060640"/>
            <a:ext cx="705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心中要有紧迫感和危机感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要将精力、时间用到学习上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少闲聊、多学习、勤思考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管好嘴、坐好位，身正心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效率高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87041"/>
          <p:cNvSpPr/>
          <p:nvPr/>
        </p:nvSpPr>
        <p:spPr>
          <a:xfrm>
            <a:off x="826920" y="2133720"/>
            <a:ext cx="7696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积极的人，像太阳，照到哪里哪里亮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消极的人，像月亮，初一十五不一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想法决定我们的生活和学习，有什么样的想法，就有什么样的未来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矩形 87042"/>
          <p:cNvSpPr txBox="1"/>
          <p:nvPr/>
        </p:nvSpPr>
        <p:spPr>
          <a:xfrm>
            <a:off x="3059280" y="549360"/>
            <a:ext cx="352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信心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6017"/>
          <p:cNvSpPr/>
          <p:nvPr/>
        </p:nvSpPr>
        <p:spPr>
          <a:xfrm>
            <a:off x="900000" y="3448080"/>
            <a:ext cx="7417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相信自己是最优秀的，相信自己是最努力的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坚信自己成功的人，已经成功了一半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矩形 86018"/>
          <p:cNvSpPr txBox="1"/>
          <p:nvPr/>
        </p:nvSpPr>
        <p:spPr>
          <a:xfrm>
            <a:off x="2124000" y="981000"/>
            <a:ext cx="48006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信自己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88065"/>
          <p:cNvSpPr/>
          <p:nvPr/>
        </p:nvSpPr>
        <p:spPr>
          <a:xfrm>
            <a:off x="0" y="2724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88066"/>
          <p:cNvSpPr/>
          <p:nvPr/>
        </p:nvSpPr>
        <p:spPr>
          <a:xfrm>
            <a:off x="395280" y="213372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  <a:ea typeface="幼圆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大厦巍然屹立，是因为有坚强的支柱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航船破浪前行，是因为有指示方向的罗盘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目标就是人生航船的罗盘！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88067"/>
          <p:cNvSpPr txBox="1"/>
          <p:nvPr/>
        </p:nvSpPr>
        <p:spPr>
          <a:xfrm>
            <a:off x="2340000" y="907920"/>
            <a:ext cx="5111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确立目标</a:t>
            </a:r>
            <a:endParaRPr b="0" lang="en-US" sz="5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眼前有一个目标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矩形 94211"/>
          <p:cNvSpPr/>
          <p:nvPr/>
        </p:nvSpPr>
        <p:spPr>
          <a:xfrm>
            <a:off x="539640" y="2060640"/>
            <a:ext cx="7488360" cy="367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具体操作中，很多聪明人的做法是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盯住眼前的那个同学，以他为赶超对象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再付出努力去超越他。当你做到这一点的时候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会有成就感的，也一定会越来越有信心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3554"/>
          <p:cNvSpPr/>
          <p:nvPr/>
        </p:nvSpPr>
        <p:spPr>
          <a:xfrm>
            <a:off x="971640" y="1557360"/>
            <a:ext cx="77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寒冷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面对</a:t>
            </a:r>
            <a:r>
              <a:rPr b="1" lang="zh-CN" sz="5400" spc="-1" strike="noStrike">
                <a:solidFill>
                  <a:srgbClr val="d60093"/>
                </a:solidFill>
                <a:latin typeface="华文新魏"/>
                <a:ea typeface="华文新魏"/>
              </a:rPr>
              <a:t>期末考试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你准备好了吗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心里有一种信念。它叫做坚持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骐骥一跃，不能十步；驽马十驾，功在不舍。锲而舍之，朽木不折；锲而不舍，金石可镂。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荀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矩形 78851"/>
          <p:cNvSpPr/>
          <p:nvPr/>
        </p:nvSpPr>
        <p:spPr>
          <a:xfrm>
            <a:off x="1547640" y="400536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自己松懈的时候，英国前首相丘吉尔是这么鞭策自己的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决不决不决不放弃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7885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04449"/>
          <p:cNvSpPr/>
          <p:nvPr/>
        </p:nvSpPr>
        <p:spPr>
          <a:xfrm>
            <a:off x="2556000" y="2125080"/>
            <a:ext cx="58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每个人都希望梦想成真，但成功似乎远在天边遥不可及，是倦怠和不自信让我们放弃努力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实，我们不必想以后的事，只要想着今天我要作些什么，明天我该作些什么，然后努力去完成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就象钟一样，每秒“滴答”摆一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功的喜悦就会慢慢浸润我们的生命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04450"/>
          <p:cNvSpPr txBox="1"/>
          <p:nvPr/>
        </p:nvSpPr>
        <p:spPr>
          <a:xfrm rot="5400000">
            <a:off x="-74880" y="2387520"/>
            <a:ext cx="2741760" cy="19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执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90113"/>
          <p:cNvSpPr txBox="1"/>
          <p:nvPr/>
        </p:nvSpPr>
        <p:spPr>
          <a:xfrm>
            <a:off x="3132000" y="333360"/>
            <a:ext cx="4397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坚持到底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" name="矩形 90114"/>
          <p:cNvSpPr/>
          <p:nvPr/>
        </p:nvSpPr>
        <p:spPr>
          <a:xfrm>
            <a:off x="755640" y="242100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成功者永不放弃，放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者决不会成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坚持到底，决不放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隶书"/>
              </a:rPr>
              <a:t>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成功的秘诀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二、正确的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2560" y="2204640"/>
            <a:ext cx="7704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时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效率优先、合理安排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复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做好计划、及时监控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考试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度紧张、稳打稳扎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脚下有一地汗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844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道酬勤”，就是说上天会照顾勤劳的人的愿望。其实，所有的成功者都是趟着汗水一路走来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离开了“勤”字，一切都没有意义。有了“勤”字，它一能补拙，二能出效益，三能节约时间。“勤”是一切的根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91137"/>
          <p:cNvSpPr/>
          <p:nvPr/>
        </p:nvSpPr>
        <p:spPr>
          <a:xfrm>
            <a:off x="304920" y="2959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91138"/>
          <p:cNvSpPr txBox="1"/>
          <p:nvPr/>
        </p:nvSpPr>
        <p:spPr>
          <a:xfrm>
            <a:off x="1908000" y="1052640"/>
            <a:ext cx="53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制定计划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1" name="矩形 91139"/>
          <p:cNvSpPr/>
          <p:nvPr/>
        </p:nvSpPr>
        <p:spPr>
          <a:xfrm>
            <a:off x="2495880" y="256536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成功永远属于有准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的人，没有详细的计划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就不会取得成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96257"/>
          <p:cNvSpPr/>
          <p:nvPr/>
        </p:nvSpPr>
        <p:spPr>
          <a:xfrm>
            <a:off x="-252360" y="2492280"/>
            <a:ext cx="939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96258"/>
          <p:cNvSpPr txBox="1"/>
          <p:nvPr/>
        </p:nvSpPr>
        <p:spPr>
          <a:xfrm>
            <a:off x="2268360" y="62064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采取行动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4" name="矩形 96259"/>
          <p:cNvSpPr/>
          <p:nvPr/>
        </p:nvSpPr>
        <p:spPr>
          <a:xfrm>
            <a:off x="2421360" y="2421000"/>
            <a:ext cx="4539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因为我奋斗，所以我快乐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奋斗改变命运，梦想让我们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众不同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行楷"/>
              </a:rPr>
              <a:t>复习小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280" y="119664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重视基础、重视课本，做好基本题，练好基本功，拿到基本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重视归纳总结，对做错的题目要及时纠正。要充分总结错题，养成分析错误，改正错误的好习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努力培养思考问题、分析问题、解决问题的能力，要在老师的统一安排下，强化专题训练，提高解题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突出“五练”，练规范、练速度、练重点、练技巧、练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要学会总结，会一题要懂一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16000" y="1196640"/>
            <a:ext cx="741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考试是三分水平，七分心理。这句话是说明了心理素质影响水平发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对待考试要做到“不烦恼、不害怕、不着急、不骄傲”，用一颗平常心来对待成绩和名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要劳逸结合，保证考试时拥有充沛的精力和积极的心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考试要先易后难，稳打稳扎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应试小方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97281"/>
          <p:cNvSpPr/>
          <p:nvPr/>
        </p:nvSpPr>
        <p:spPr>
          <a:xfrm>
            <a:off x="826920" y="1484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距离考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只有两个礼拜了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同学们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加油吧！！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12641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图片 112642" descr="1504241138-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12643"/>
          <p:cNvSpPr txBox="1"/>
          <p:nvPr/>
        </p:nvSpPr>
        <p:spPr>
          <a:xfrm>
            <a:off x="914400" y="1201680"/>
            <a:ext cx="68007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现在试想一下如果现在仍不思进取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   </a:t>
            </a: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你的未来将会如何？！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图片 114690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图片 115714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！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图片 116738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16739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17761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图片 117762" descr="2004050511470102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6920" y="2500200"/>
            <a:ext cx="820872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于他们选择的生活，你有什么感想或启示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18785" descr="20091201082206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18786"/>
          <p:cNvSpPr/>
          <p:nvPr/>
        </p:nvSpPr>
        <p:spPr>
          <a:xfrm>
            <a:off x="826920" y="1268280"/>
            <a:ext cx="777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118787"/>
          <p:cNvSpPr/>
          <p:nvPr/>
        </p:nvSpPr>
        <p:spPr>
          <a:xfrm>
            <a:off x="1042920" y="1341360"/>
            <a:ext cx="770436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人生的道路虽然很漫长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但紧要处常常只有几步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特别是当人年轻的时候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   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没有一个人的生活道路是笔直的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没有岔道的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有些岔道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比如政治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事业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个人生活上的岔口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你走错一步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可以影响人生的一个时期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也可以影响一生</a:t>
            </a: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                                                                 </a:t>
            </a:r>
            <a:r>
              <a:rPr b="1" lang="en-US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                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初三是什么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0920" y="1916280"/>
            <a:ext cx="6842160" cy="4681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初三是人生的一次转折，是紧张的，充实的，是富有挑战性的，也是一个人坚强的毅力和顽强生命力的形成的重要阶段，也是一生中最美好的回忆阶段之一，因为她是成功与挫折，喜悦与悲伤的混合体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119811"/>
          <p:cNvSpPr/>
          <p:nvPr/>
        </p:nvSpPr>
        <p:spPr>
          <a:xfrm>
            <a:off x="770760" y="2781360"/>
            <a:ext cx="789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初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2:54:27Z</dcterms:created>
  <dc:creator>USER</dc:creator>
  <dc:description/>
  <cp:keywords/>
  <dc:language>en-US</dc:language>
  <cp:lastModifiedBy>ASUS</cp:lastModifiedBy>
  <dcterms:modified xsi:type="dcterms:W3CDTF">2020-01-03T05:43:27Z</dcterms:modified>
  <cp:revision>84</cp:revision>
  <dc:subject/>
  <dc:title>传染病管理制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41</vt:lpwstr>
  </property>
</Properties>
</file>