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AE43-77E4-4E24-B92A-56AC09CB1D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891-2CC3-46E8-9871-B7195DECFFA6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E75-EC95-4270-9FEB-B44723E0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361-B801-41CB-BBC2-4E771954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277-5199-4E56-9CC7-F039C150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274-0CCA-4B91-98A8-2DDC088C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3DE-482D-4AD6-BAFE-CC07A4FC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6739-BB39-4148-B38C-08A29AF5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A0DC-37D3-4C0B-A141-3DE42E3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C16A-71CF-4156-B27D-0C3367F1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F9D7-0BF1-44AC-AB43-915EC66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2586-2374-4C5C-9BEE-33FC2456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5FF-F776-42D2-920C-DF92C98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30E-9BF5-449C-A5E1-A1030E4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993E-5165-4819-A85B-445BD16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785-F98D-4FA7-83A9-418FE4ED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7CFF-4919-4EB0-AB08-0A5A3BC6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F0D5-05C2-436B-AC82-336D672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92E6-83AB-4B81-90BA-DF218B29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875-4ACF-482E-9F82-5151F7D7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6EF-C84D-4118-88CC-E3B09F34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EEB-4356-45EB-A116-3C29129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3E7-DFF5-4F01-9AA1-F9C8F3E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A07-2390-49BB-BCF6-487F372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850-DC1A-4256-8816-731A30B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0FD-CAFE-4391-87E3-42E2E1CA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39C-8A5F-4ED1-8BAE-B9E21813E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373-0786-4CB9-AA77-2730548FE2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0"/>
          <p:cNvSpPr/>
          <p:nvPr/>
        </p:nvSpPr>
        <p:spPr>
          <a:xfrm rot="21465600">
            <a:off x="4114800" y="5410080"/>
            <a:ext cx="1504800" cy="990720"/>
          </a:xfrm>
          <a:prstGeom prst="pie">
            <a:avLst/>
          </a:prstGeom>
          <a:solidFill>
            <a:srgbClr val="993300"/>
          </a:solidFill>
          <a:ln cap="rnd" w="0">
            <a:solidFill>
              <a:srgbClr val="ff000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dbbd71"/>
                </a:solidFill>
                <a:latin typeface="Arial"/>
              </a:rPr>
              <a:t>物业秩序维护员服务</a:t>
            </a:r>
            <a:br>
              <a:rPr sz="5400"/>
            </a:br>
            <a:r>
              <a:rPr b="1" lang="zh-CN" sz="5400" spc="-1" strike="noStrike">
                <a:solidFill>
                  <a:srgbClr val="dbbd71"/>
                </a:solidFill>
                <a:latin typeface="Arial"/>
              </a:rPr>
              <a:t>礼仪知识培训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5410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主讲人  野   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4876920" y="2286000"/>
            <a:ext cx="2819160" cy="1447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图片 6" descr="psbCA642HCL.jpg"/>
          <p:cNvPicPr/>
          <p:nvPr/>
        </p:nvPicPr>
        <p:blipFill>
          <a:blip r:embed="rId1"/>
          <a:stretch/>
        </p:blipFill>
        <p:spPr>
          <a:xfrm>
            <a:off x="6400800" y="2514600"/>
            <a:ext cx="2743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临上岗前检查下列各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制服武装带须扣紧，靴子要擦亮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仪容要清洁（勤剔须、洗发、剪指甲、理发等）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头发梳理整齐，帽子要戴正，身体无异味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衣袋和裤袋切勿胀起，工号牌要佩戴整齐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认真检查对讲机等工具的性能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交接班前要认真查阅交班记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做好遗留问题交接，同时做好上传下达工作，切勿草率行动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工作礼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所有进入公司的业主和客户要使用文明用语，当业主和客人查询的时候要微笑欢迎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所接待的每一位业主和客户做到有问必答、耐心周到。首先要留心聆听，然后正确回答所有的问题。对于不了解的情况要主动协助查问（客户部和其它部门等），给予帮助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有投诉的时候应该保持镇定，耐心地听，并积极地面对和处理问题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于不服从管理的业主和客户，做到不恶语相加、不使用暴力，做到耐心解释，以理服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工作礼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总之，工作礼貌要做到以下六项：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微笑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动问候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次到位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业主称谓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指挥疏导服务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礼仪性服务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每个细微的工作都向业主和客户展示人性化的服务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秩序维护员服务礼仪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针对秩序维护员的工作性质，规范秩序维护员的个人修养和服务标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33520" y="3276720"/>
            <a:ext cx="832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133720" y="4648320"/>
            <a:ext cx="10476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bbd71"/>
                </a:solidFill>
                <a:latin typeface="Arial"/>
              </a:rPr>
              <a:t>秩序维护员服务礼仪的工作性质及内容：</a:t>
            </a: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ahoma"/>
              </a:rPr>
              <a:t>性质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00"/>
                </a:solidFill>
                <a:latin typeface="Tahoma"/>
              </a:rPr>
              <a:t>一、</a:t>
            </a:r>
            <a:r>
              <a:rPr b="0" lang="zh-CN" sz="2400" spc="-1" strike="noStrike">
                <a:solidFill>
                  <a:srgbClr val="f8a500"/>
                </a:solidFill>
                <a:latin typeface="Tahoma"/>
              </a:rPr>
              <a:t>忠于职守、竭诚服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秩序维护员要有强烈的责任心，工作认真负责，精神振奋，尽职尽责，信守职责，主动、周到、热情地为业主和客户服务，尽自己最大的力量满足业主和客户的需要，确保业主和单位的安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在日常生活和工作中又要满腔热情地救助危难，关心、帮助他人，这也是一个公民应具备的起码的社会责任要求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只有这样，才能牢固树立起全心全意为业主和顾客提供高质量、高水平的安全服务的思想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ahoma"/>
              </a:rPr>
              <a:t>二、机智勇敢、不畏艰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处在承担防范安全的第一线，不可避免地要同各种违法犯罪行为作斗争，作为一名秩序维护员，要具有不怕苦、不怕难、不畏艰险、不怕牺牲的精神，在业主和顾客的财产和生命受到侵害时，敢于挺身而出，机智勇敢，巧妙灵活地坚决与违法犯罪分子作斗争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ahoma"/>
              </a:rPr>
              <a:t>三、文明执勤、五心奉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执勤工作中，对业主和客户要使用文明语言（您好、我可以帮你吗、请、走好、谢谢、等）讲文明、讲礼貌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尊重他人，态度和善（轻言细语）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依法办事时，以理服人，五心体现（爱心、知心、贴心、诚心、细心，站在业主的角度，做到为业主所想，为业主所急）。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这样才能赢得业主和访客们的支持、信任和理解，从而把秩序维护员服务工作做得更好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             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  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是我们荣鼎物业的服务理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爱                                 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贴                    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4648320" y="380880"/>
            <a:ext cx="1047600" cy="914400"/>
          </a:xfrm>
          <a:prstGeom prst="pi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5"/>
          <p:cNvSpPr/>
          <p:nvPr/>
        </p:nvSpPr>
        <p:spPr>
          <a:xfrm rot="19872600">
            <a:off x="1599840" y="3352680"/>
            <a:ext cx="1047600" cy="91440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209680" y="2133720"/>
            <a:ext cx="76320" cy="75960"/>
          </a:xfrm>
          <a:prstGeom prst="pi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8"/>
          <p:cNvSpPr/>
          <p:nvPr/>
        </p:nvSpPr>
        <p:spPr>
          <a:xfrm rot="19707000">
            <a:off x="2209680" y="4723920"/>
            <a:ext cx="104796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9"/>
          <p:cNvSpPr/>
          <p:nvPr/>
        </p:nvSpPr>
        <p:spPr>
          <a:xfrm rot="2200200">
            <a:off x="5790960" y="3428640"/>
            <a:ext cx="1047600" cy="914400"/>
          </a:xfrm>
          <a:prstGeom prst="pi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10"/>
          <p:cNvSpPr/>
          <p:nvPr/>
        </p:nvSpPr>
        <p:spPr>
          <a:xfrm rot="1978800">
            <a:off x="4876560" y="4572000"/>
            <a:ext cx="1047600" cy="914400"/>
          </a:xfrm>
          <a:prstGeom prst="pi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3809880" y="5943600"/>
            <a:ext cx="1047960" cy="914400"/>
          </a:xfrm>
          <a:prstGeom prst="pi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WordArt 13"/>
          <p:cNvSpPr txBox="1"/>
          <p:nvPr/>
        </p:nvSpPr>
        <p:spPr>
          <a:xfrm>
            <a:off x="3352680" y="685800"/>
            <a:ext cx="4572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秩序维护员服务礼仪的素质要求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秩序维护员素质要求的基本方面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丰富的物业从业知识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随机应变的物业从业能力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立体式的物业从业观念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成熟的物业从业心理 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优质服务意识 ：规范服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超常服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人性化服务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人性化服务的构成 ：地区要素、物业要素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开发公司要素、业主用户要素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、对待投诉的态度： 不害怕，并主动地去寻找投诉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处理投诉要求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保持冷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认真听取意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表示同情理解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给予关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不转移目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记录要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把将要采取的措施告诉业主和客人并征得业主和客人的同意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目    录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秩序维护员礼仪的概述和特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职业道德规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纪律规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着装要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临上岗前检查服务指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工作礼貌表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什么是秩序维护员服务礼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的工作性质及内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的素质要求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服务标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形象规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固定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流动岗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秩序维护员服务礼仪标准：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机智勇敢的秩序维护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热情周到的服务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有机的统一体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技术娴熟的消防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三者有机的统一体就是我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服务标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952880" y="2209680"/>
            <a:ext cx="609840" cy="2362320"/>
          </a:xfrm>
          <a:custGeom>
            <a:avLst/>
            <a:gdLst>
              <a:gd name="textAreaLeft" fmla="*/ 0 w 609840"/>
              <a:gd name="textAreaRight" fmla="*/ 220320 w 6098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具体做法：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在业主和客人活动场所禁止干私人事情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上班前、工作中不允许喝酒，吃有刺激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性气味的食物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工作时不扎堆闲聊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在业主和客人活动场所不得跑步，坚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说话轻，行走轻，操作轻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任何时候在业主和客人活动场所禁止不雅行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工作中做到“眼勤、嘴勤、手勤、腿勤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微笑永驻脸上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保持服装整洁，仪表大方，头脑清醒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态度温和有礼，做事有始有终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接听电话用语规范，语气柔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与业主和客人乱开玩笑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善于观察业主和客人的需求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当业主和客人投诉时，不可好胜争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要边操作边和业主、客人说话，心不在焉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要旁听和加入业主和客人谈话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与业主和客人抢道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2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 尽量记住业主和客人姓名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 遵守公司规定，爱护公物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 不要围观意外或其他特别事件。 物业秩序维护员服务礼仪服务十要点：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礼节多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动作快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脑筋活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做事勤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微笑甜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效率高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说话轻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嘴巴亲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肚量大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争执让一点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秩序维护员服务礼仪形象规则：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服务形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也称为安全管理员、保安员、安保员。不管称谓如何，我们都应明确自身形象在物业管理公司的第一形象值。在各项工作上，不仅仅代表公司形像，同时也是自己的脸面。即应该在仪表仪态、操作姿态、服务表现上完善自身形象打造，为公司、自己留下第一眼先声夺人的高品位标志形象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形体礼仪：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站姿：两臂自然下垂，挺胸抬头，精神饱满。勿将手插在裤袋，不能流露出疲倦的样子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走姿：步伐端正，轻盈，肩部不得左右摇晃，做到挺胸抬头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遇有任何事情发生，应冷静处理，切勿表现惊慌失措。对不能处置的事件及时上报主管、部门经理和公司领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242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、岗位形象：</a:t>
            </a:r>
            <a:br>
              <a:rPr sz="3600"/>
            </a:b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着装整洁，站姿端正，仪态严谨，表情庄敬，步履稳重，目光有神，操作规范，军警风纪。</a:t>
            </a:r>
            <a:br>
              <a:rPr sz="32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图片 4" descr="psuCAB5MWMF.jpg"/>
          <p:cNvPicPr/>
          <p:nvPr/>
        </p:nvPicPr>
        <p:blipFill>
          <a:blip r:embed="rId1"/>
          <a:srcRect l="0" t="0" r="65527" b="0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实操形象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固定岗：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进车写卡 ①站位、站姿。站姿呈工作状态立正式或挎立式。身体微侧于汽车通道一方，关注车辆进入情况。值岗时无业务需要不得走离站位； ②迎候礼节。汽车行至拦截坡前时，值岗人员应致礼表示迎接，再侧身取车辆进入记时卡； ③迎卡姿式。目视司机，右手将记时卡递交司机，以左手平指示意，要求动作规范，彬彬有礼； ④让进礼节。递卡后，值岗人员双臂应按规定动作行让进礼，要体现公司对来车乘员的热情接待与礼貌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（一）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秩序维护员礼仪概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秩序维护员礼仪是秩序维护员文明行为的道德规范与标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秩序维护员的生活行为规范与待人处事的准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对秩序维护员仪表、仪容、言谈、举止、待人、接物等到方面的具体规定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秩序维护员个人礼仪是秩序维护员个人道德品质、文化素养、教养良知等精神内涵的外在表现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它不仅是衡量秩序维护员个人道德水准高低和修养程度的尺度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而且也是衡量秩序维护部队伍精神文明建设的重要标志。所以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秩序维护员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礼仪不仅代表秩序维护员个人形象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更代表秩序维护部队伍的整体形象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秩序维护部服务业赢得声誉和客户信赖的基本条件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出车验卡收费 ①站姿、站位。值岗人员呈工作状态站姿，身体微侧向车来向； ②出车致礼。车停拦截坡前时，值岗人员应向司机立正敬礼，并 准备接卡、记时、收费； ③验卡收费。验卡时，值岗人员以右手接卡，熟练地验卡、计时收费，并应向司机报明收费数据，如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您的车计费停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×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钟，请交停车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×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放行车辆示意放行时，值岗人员应平伸左臂，目注出车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3)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不需记卡收费进出车辆，可只按进出车迎让和送别礼节操作指示行车操作形象。向前手伸一臂，另一臂同时向行车方向示意摆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4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人出入答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人出入，应作注目、点头致意迎送礼节操作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贵宾、领导人员、业主陪同客人出入，应敬礼致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③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凡遇询问，应先向问询者敬礼，然后回答问题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④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应熟知区内路段和楼号单元，回答应明确快捷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⑤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与询问者交谈时，应注意使用下列敬语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先生（小姐），要我帮您做什么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请问，找哪个部门、楼号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等。对询问者不可以盘查或其他不敬语对答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流动岗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、站姿与走姿流动岗秩序维护员在流动值勤中，经常作站姿与走姿的交替形态。站要求站正、站直、站稳，走要求走正规步伐、走直线、走稳重。站、走的姿态都不得松松垮垮、随随便便、散散漫漫、懈懈怠怠，不可作散步式、遛哒式、消闲式。站姿、走姿都要端正精神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、查询凡发现有可疑的人与现象，应作有礼貌的查询。 如见有陌生人从楼内进出，则可上前询问，问询方式可为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先生（小姐），请问找谁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 如见有人携物从楼内走出者，应先判明有无可疑之处，如有可疑，作应上前查询，查询语言为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先生（小姐），请留步，带出什么东西？可否查看一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等。盘查往往会引起对方反感，盘查无疑点后，应表示歉意，语言表示为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不起，耽误您了，请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被查对方如有不满表示，应解说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在对不起，这是例行公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对于盘问后的人员，都应有道歉、敬礼、礼送等表示。敬礼要规正，礼送要作请行手式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）、进入车辆指挥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①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凡进防区内装、卸货物车辆或其他车辆，应按以下程序操作：示意停车、指示分流车辆放行进出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示意停车操作形象。向来车前方上扬左臂，上扬左掌与臂成直角，五指并拢，按交警停车指示姿式操作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指示行车操作形象。向前手伸一臂，另一臂同时向行车方向示意摆动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④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流车辆操作形象。对于可入区停靠车辆，应在指示进出后，作敬礼和问候操作。问候语言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欢迎光临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；对于暂时无车位进入防区内车辆，应作说明，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防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区内暂无车位，请停靠对面路边，多谢合作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暂无法进出，请稍候便为您安排，谢谢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4" descr="psuCAU4N22T.jpg"/>
          <p:cNvPicPr/>
          <p:nvPr/>
        </p:nvPicPr>
        <p:blipFill>
          <a:blip r:embed="rId1"/>
          <a:stretch/>
        </p:blipFill>
        <p:spPr>
          <a:xfrm>
            <a:off x="36360" y="228600"/>
            <a:ext cx="9107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4" descr="psu.jpg"/>
          <p:cNvPicPr/>
          <p:nvPr/>
        </p:nvPicPr>
        <p:blipFill>
          <a:blip r:embed="rId1"/>
          <a:stretch/>
        </p:blipFill>
        <p:spPr>
          <a:xfrm>
            <a:off x="222120" y="533520"/>
            <a:ext cx="8813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4" descr="psuCAXM8AP7.jpg"/>
          <p:cNvPicPr/>
          <p:nvPr/>
        </p:nvPicPr>
        <p:blipFill>
          <a:blip r:embed="rId1"/>
          <a:stretch/>
        </p:blipFill>
        <p:spPr>
          <a:xfrm>
            <a:off x="-6480" y="380880"/>
            <a:ext cx="9156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4" descr="psbCARUZL8D.jpg"/>
          <p:cNvPicPr/>
          <p:nvPr/>
        </p:nvPicPr>
        <p:blipFill>
          <a:blip r:embed="rId1"/>
          <a:stretch/>
        </p:blipFill>
        <p:spPr>
          <a:xfrm>
            <a:off x="-6480" y="380880"/>
            <a:ext cx="9156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（二）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秩序维护员礼仪的特点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员礼仪是以个人为支点。秩序维护部礼仪是针对秩序维护员个人自身行为的规定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对秩序维护部组织行为的限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员礼仪以尊敬为原则。只有尊敬他人，才能赢得别人对自己的尊敬。奉行尊敬的原则，旨在建立人与人之间相互尊重和友好合作的新型关系，有利于避免或缓解一些不必要的冲突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4" descr="psbCAX1H7BA.jpg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3" descr="ABUIABACGAAgkfaj-AQovsWJLDCgBjjY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3" descr="sy_20091012202647565018.jpg"/>
          <p:cNvPicPr/>
          <p:nvPr/>
        </p:nvPicPr>
        <p:blipFill>
          <a:blip r:embed="rId1"/>
          <a:srcRect l="0" t="0" r="0" b="568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车纠纷处理操作形象。行车纠纷和争执多发生在防区内暂无车位，来车不服从指挥，要强行进出的问题上，如遇此纠纷，应按劝说、解释、请求谅解的原则处理，尽可能避免争吵。操作语言应多道歉、多安慰，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在暂无车位，谢谢合作，请稍候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不起，暂无法进出，我会尽快为您安排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等。值班人员应做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你火我不火，你急我客气，你吵我道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如遇无法劝说、不听行车指挥，强行进出的车辆，应报告上级主管、部门经理和公司领导处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）、对讲机使用时的文明用语：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讲时，请呼对方岗位或姓名。例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×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语言要规范、文明、礼貌，例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收到、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请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。语言要简洁明了，例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明白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照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。讲话结束时，要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完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 物业秩序维护员看似简单的职业，其实要学的东西都是很细很繁的，只有用较高的秩序维护员服务礼仪意识去要求自己，我们才能做的更好，更让业主和客户满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．岗位交接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岗位换岗交接，应按规交接礼节进行，先由接岗人敬礼，交岗人还礼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双方致礼后，交岗人应报明岗上业务情况，然后撤岗，与接岗人易位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．值岗禁忌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值岗人员禁忌仪容不整，禁忌精神懈怠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值岗人员禁忌擅自离岗，禁忌与他人聊天，禁忌在岗时做其他与岗位无关事项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禁忌让闲杂人员在岗位附近逗留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Tahoma"/>
              </a:rPr>
              <a:t>④</a:t>
            </a:r>
            <a:r>
              <a:rPr b="0" lang="zh-CN" sz="3200" spc="-1" strike="noStrike">
                <a:solidFill>
                  <a:srgbClr val="dbbd71"/>
                </a:solidFill>
                <a:latin typeface="Tahoma"/>
              </a:rPr>
              <a:t>除交接岗外，其他事务禁忌在岗亭内外办理。如需办理，在不影响岗位的情况下，离岗位在视线范围下不影响工作可以去处理。交接岗礼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bbd71"/>
                </a:solidFill>
                <a:latin typeface="Tahoma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图片 4" descr="119792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谢谢大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914400" y="3886200"/>
            <a:ext cx="7696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祝同仁们在自己的岗位上人格魅力倍增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员礼仪以修养为基础。个人礼仪是个人的公共道德修养在社会活动中的体现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它直接反映一个人内在的品格和文化修养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部礼仪以美好为目标。秩序维护部礼仪引导秩序维护员走向文明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其目标是实现真、善、美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部礼仪以长远为方针。秩序维护员只有经过长期不懈的努力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并随着社会文明程度的发展提高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断完善自我的行为活动，才能养成优良的品质，塑造良好形象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职业道德规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热爱本职、忠于职守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遵纪守法、勇于护法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不计得失、勇于奉献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文明执勤、礼貌待人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廉洁奉公、不牟私利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纪律规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严格遵守国家的法律、法规及公司的各项规章制度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从管理，听从指挥，廉洁奉公，敢于同违法犯罪分子作斗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坚守岗位，忠于职守，严格执行岗位责任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注意仪容整洁，讲究文明服务，礼貌待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值班时禁止喝酒、吸烟、玩手机、吃东西，不准嘻笑、打闹，不准会客、看书报、听广播，不准做与值班执勤无关的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纪律规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准包庇坏人，不准贪污受贿，不准徇私舞弊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准擅自带人进宿舍内留宿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爱护各种警械器具及通讯设备，不得丢失、损坏、转借和携带外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准利用休息之便作变相赌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严格执行请假制度，有事外出时必须请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着装要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按照物业公司要求着配发制服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装熨烫平整、衬衫衣领洁净、黑色靴子、深色袜子（站形象岗时须佩戴白色手套）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配戴通讯设备上岗时须调整音量到适合位置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发型前不得过眉、左右不得过耳、后不得过衬衫衣领，严禁留胡须、染发，并须统一跨立站姿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岗上须使用礼貌用语、并详细了解来访的业主和客户情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WM</cp:lastModifiedBy>
  <dcterms:modified xsi:type="dcterms:W3CDTF">2015-09-09T03:26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