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65D-C590-4DD1-8E40-4D7E0D85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76F-B188-43F8-B52A-6E43C163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F3AE-2656-4FF6-8E2F-D1A010C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D6207-33E5-4D01-97BF-3B6E5EB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00CC-92FD-4B1D-BB47-B9096F1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2C69-D7F6-426A-BF5F-BA10655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4FE8-1539-4364-9FAB-C8357F4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86D69-AC01-4D6C-BCF6-11124C0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554F4-CBF8-4636-A2A9-958B4485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D409F-2FC8-49B1-98B8-2A6708CC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8982-05BB-4D37-BEA9-17BB5980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FDC93-BEA8-4B9A-86F9-EC1BDD3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71-2516-47CC-BDBA-DC38FD89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11C24-CEEB-42DE-A450-8EB0C04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D3E03-0D4E-4F0D-833E-76DFE102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5854F-1242-49A7-B95B-AE18B6D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E8C5B-AA11-4E04-82F2-68850255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4270F-A756-4CDA-85F4-F2C6410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40BE-639B-49D9-8578-0FB24F3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D6E4B-528D-4E8D-BDE9-8163300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D9CB8-0B0F-4276-832D-77DAE5D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020F8-29CC-4FF7-9921-E4636875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092BA-B559-46A4-9C1F-C574DE3F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F9A-E97F-49FC-83EF-A8D96D5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DECB7-33B3-401B-A4F8-05569490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3579-35EF-4C0B-A3ED-24EDF1BA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F2DA4-BE2E-4181-B0A9-5E23999D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C82EB-C885-40A7-BD92-848C950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65F4-24A1-41A2-9D73-A3D5799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1EA7F-2778-4E77-B4FE-89F0DDB8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39EA-9BA8-4A2E-9CFE-54F6421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0EDA5-11B1-4BB0-91A4-1161C198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5635-6320-4C3F-908C-2F34BA1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478B1-3F7A-4506-BCE7-4B9843C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AA27-C570-4B64-A033-8A8681A7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6C1E3-770C-460C-BE75-40865B35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6DDF4-F86B-4912-88E6-2D6E128B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60643-DC51-45B2-890D-6B6DB265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639AD-F738-43E2-B6E4-439562CA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CF0C7-A527-4DD3-BB8B-9F2D608B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D91FA-6F4E-4BD7-A65E-ECD99FA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33E6-09AA-42D0-81FE-4FAE211B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CA594-46BF-4020-A0D7-03801C60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6AC60-AB82-4C54-8533-3C05861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EDF45-22C1-4DC3-92DB-185E8CC7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AE4-3A72-44F0-BD02-5775DC5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29BE2-A467-4A8C-9D5C-18B414A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DC9D-87C8-41A7-9EFF-270CEF6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3753B-1FD7-49C1-B63F-49FF97CF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B6D79-8E3C-4E00-A36B-FCB9520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41E14-DEB7-49F6-9C30-EF2328E2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2F44E-3470-408C-B5AD-33CBAE6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B631F-A067-4A7F-B6E5-9978E6C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FB6B5-56CE-43F6-9430-D0EDB55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44DB0-BA35-4A84-9DD2-ACD5ED8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B0E78-0779-457D-B1D8-96FA11B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AD6-1E95-4D56-A597-9A3A4F1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C08F8-9399-4413-9598-54F00644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774F8-CE83-46B7-8950-C720F74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D0100-CB3A-483F-A2F0-B1809EB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D09E3-5355-4F76-8ABF-65AC2F3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7B278-08F2-4E22-A63D-001DC245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3C989-6F17-4D99-8E4B-88DEFC42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EA4F9-F4EA-4EC9-916B-E682021C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DA2-F7A2-441F-A27D-6D79767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5F7-4D4A-44D8-8A0F-21A05FD9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C91-35EC-416E-9E1E-4D307335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505-FAC1-40DD-A574-AD8EC35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56A-6E7D-476C-B42A-1C136FD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77B0-0317-411D-91FD-8FF6B03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3C85-6275-48DE-A36D-6304F46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A73-419F-4BBD-899C-DFA8826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F0D9-E909-4613-855E-8A7FF7A6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EBAC-A32C-4B0D-98BF-933C2FA3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18B1-B3AE-48E2-93D6-0B3258D5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E2DE7-7B29-4687-B76D-15860EA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1051-834E-4397-AEB7-C5592BD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D262-D3D7-4DC4-B0C2-825F52E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EAD1-B8F1-4FC5-8103-A333AC8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3C1-F8B8-477C-B90E-E16A483B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B7DB-442F-4340-B121-D80B2C3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12C2-C724-42F3-895E-B92DE0D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E9A4-5377-48C8-840F-556A9BE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301D-EE7C-4051-AEE3-B17D769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2CFA-D3CC-453E-B171-21F54F59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5C40-35A3-4405-A58F-80532B66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DE96-A90D-48F4-AB1D-A2ECBC3E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E3AD-A130-499A-8F60-82C01664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2EE2-7453-476D-9EB8-B1D8D0A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0855-8F97-4D67-ADCE-F343117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131-D635-4BEA-ABAA-1D72C87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A570-CB5E-45D2-9DAB-950EC035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1923-DE2A-49C8-9E20-796636F2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CD0E-B171-4AFC-A38B-9BA0CCD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C7AC-7766-4D16-9216-EC0E0FB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DEED-6EF2-4881-BC1A-E06D11A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5DED-ECA3-4CA1-8F13-3B7DDB0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5B36-4A20-4085-BA0D-02EB18B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C6BD-50C5-4455-88A1-A6888F21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D0BA-9542-40C7-82BA-09FCBF94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2356F-A89E-4DF6-B65D-25A14F87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27B-CC51-420D-A46E-6B43EB3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33FB-5B99-49C9-A3AD-2716CD9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AAFF-EC34-47E1-97C4-F4BCCF8D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7064-9E9D-468B-9416-748A510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C338-9B55-42BB-8EA6-1478C010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E0CB-4571-4572-A0A3-AC92A18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81BD-F444-4D7F-B44D-B5366BD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7621-BE39-41E2-97FC-9694248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597C-8C0A-4628-879A-9206B3BE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E41E-7E5C-4CA4-9C17-A4A000D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09F1-A91B-456F-A340-48594697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5AF-9F4E-477E-BA05-17FC1145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9249-AEF6-4F43-9CF1-699378F4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BCD4-F04A-4363-85C9-3D8DCB2F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51DF-D378-47DA-B4C9-ACE001E8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6294-F7E8-41CB-9FA2-8B7770C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BF40-12AD-45C7-8519-4CDE68CA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995D-81B7-4FD1-95BD-1BF92026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AF229-CF49-486F-B618-E1A2380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6B98-1517-42D8-812E-AE19442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1C98-3182-4BE4-A2DB-CA01C46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39C2-A001-4C1C-B876-7FE1915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254-321E-438C-8148-3954C5A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F828-3234-4AEC-BF71-FF14BD4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0786-C3F9-4328-A5D5-458F465C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238F-0F37-4596-8BBB-A6BE03C4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E8BC-BDF6-489D-8608-D6CAD217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109C-4020-48EB-95AC-3B43137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97DB-C01B-40B7-B61E-E43CBA4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9FD4-FD44-4D21-9B4E-5593D93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EAEE4-8D1D-4E74-9B7E-ABACF4B9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AF15D-DE86-40C2-A207-293C9A8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E0B14-DE01-4E45-9D63-8CB5723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366-61B8-4261-B282-07BAA0F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64E3-79E9-46E5-8BE3-4FC105D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27E1-8A19-47EE-A005-79C38CE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D4567-79A6-44C4-847E-246CABD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7B0A1-B888-4F44-955A-36EDC8CA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1F7B-C7C3-4234-9424-8A654E3B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8B88-EC7D-4F41-A5ED-A8087862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8596-14CA-40EC-8520-8A8230D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FF21-AA07-4ADE-9730-97B9B58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77BF-5E76-4BD6-9C77-D3FD424A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57415-5824-49BD-9B7F-3B2FCDAF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645-D749-4DA0-9B3F-8340C7C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66640" y="236160"/>
            <a:ext cx="80107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0F9EF-79BB-4FA8-994D-577092F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5AC0-92BA-4494-A443-9172575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F0979-81C6-45D6-9E95-DEF5451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DC90-D3A9-4A97-9819-67D5DA8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640" y="3822480"/>
            <a:ext cx="801072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B581-1BCA-4733-9556-ACD5411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360" y="120132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64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1360" y="3822480"/>
            <a:ext cx="390888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0C08-7EB7-4FEA-A92B-0C1EECEF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7492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83560" y="120132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664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7492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83560" y="3822480"/>
            <a:ext cx="2579040" cy="23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5F571-0AF0-40B6-BA83-3BE1E2E5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23A32-8628-4807-B183-E2D36A63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B57AE-7A46-4017-8D1B-6DC70750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44B80-ED9E-400F-B97D-CF30B9FB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646-B492-4250-9265-48ADD239C2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D13D-A73B-4097-8EB2-530FBEC438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959-46A3-46E2-A9C2-DF55C42D17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31D-2171-4E1F-87FB-5EA2E1AB93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8CE4-B31F-4328-A382-F0D32B731F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AD3-9308-48B6-8C18-EF2F14C2C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AE5-9267-457D-9B18-EB2EAA39F8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7C8-A4A1-4551-9476-2F8BF625E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9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6264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6264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A3BB-0B44-419E-A757-3BDEB833ACD0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39F3-C762-42C5-B806-13D89BEF5841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7"/>
          <p:cNvGrpSpPr/>
          <p:nvPr/>
        </p:nvGrpSpPr>
        <p:grpSpPr>
          <a:xfrm>
            <a:off x="0" y="1901880"/>
            <a:ext cx="9144000" cy="4964040"/>
            <a:chOff x="0" y="1901880"/>
            <a:chExt cx="9144000" cy="4964040"/>
          </a:xfrm>
        </p:grpSpPr>
        <p:pic>
          <p:nvPicPr>
            <p:cNvPr id="42" name="图片 15" descr=""/>
            <p:cNvPicPr/>
            <p:nvPr/>
          </p:nvPicPr>
          <p:blipFill>
            <a:blip r:embed="rId2"/>
            <a:stretch/>
          </p:blipFill>
          <p:spPr>
            <a:xfrm>
              <a:off x="2204280" y="1901880"/>
              <a:ext cx="6939720" cy="49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16" descr=""/>
            <p:cNvPicPr/>
            <p:nvPr/>
          </p:nvPicPr>
          <p:blipFill>
            <a:blip r:embed="rId3"/>
            <a:srcRect l="0" t="0" r="49665" b="0"/>
            <a:stretch/>
          </p:blipFill>
          <p:spPr>
            <a:xfrm>
              <a:off x="0" y="1901880"/>
              <a:ext cx="3493080" cy="49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6264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6264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76B-BA70-4CA2-946F-5B515209DF41}" type="datetime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180-320B-4F9D-9181-B942C42662A0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A66-DF64-4661-B1B7-003BD61B9E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FEA-31E1-452A-9AEB-749099907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658-A401-4D62-8D6A-9556E2C114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8B38-2D60-4BE7-9EED-A528527D3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907-B272-45C1-A467-588393BF01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956-35A0-4AA8-80E4-C2A6A2EB29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080A-B3AE-4A53-A71B-F50A387970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9E05-46D9-40A5-A0A0-6BB6C60DA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D15C-1C79-4956-94BC-805A2AEDA4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37E-5DA6-4090-BF9F-A44904903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727-D101-4261-AA83-56BDA85803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8EB-267B-4D12-9F79-7E41D195B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3D6-A891-4344-87FC-D9B393E880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9AD3-AE78-41BB-B909-0EC4FEA81C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080" y="1326960"/>
            <a:ext cx="6078600" cy="12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bf0000"/>
                </a:solidFill>
                <a:latin typeface="Tempus Sans ITC"/>
              </a:rPr>
              <a:t>回顾</a:t>
            </a:r>
            <a:r>
              <a:rPr b="0" lang="zh-CN" sz="5000" spc="-1" strike="noStrike">
                <a:solidFill>
                  <a:srgbClr val="bf0000"/>
                </a:solidFill>
                <a:latin typeface="Tempus Sans ITC"/>
              </a:rPr>
              <a:t>201</a:t>
            </a:r>
            <a:r>
              <a:rPr b="0" lang="en-US" sz="5000" spc="-1" strike="noStrike">
                <a:solidFill>
                  <a:srgbClr val="bf0000"/>
                </a:solidFill>
                <a:latin typeface="Tempus Sans ITC"/>
              </a:rPr>
              <a:t>6</a:t>
            </a:r>
            <a:r>
              <a:rPr b="0" lang="zh-CN" sz="5000" spc="-1" strike="noStrike">
                <a:solidFill>
                  <a:srgbClr val="bf0000"/>
                </a:solidFill>
                <a:latin typeface="Tempus Sans ITC"/>
              </a:rPr>
              <a:t>，展望</a:t>
            </a:r>
            <a:r>
              <a:rPr b="0" lang="zh-CN" sz="5000" spc="-1" strike="noStrike">
                <a:solidFill>
                  <a:srgbClr val="bf0000"/>
                </a:solidFill>
                <a:latin typeface="Tempus Sans ITC"/>
              </a:rPr>
              <a:t>201</a:t>
            </a:r>
            <a:r>
              <a:rPr b="0" lang="en-US" sz="5000" spc="-1" strike="noStrike">
                <a:solidFill>
                  <a:srgbClr val="bf0000"/>
                </a:solidFill>
                <a:latin typeface="Tempus Sans ITC"/>
              </a:rPr>
              <a:t>7</a:t>
            </a:r>
            <a:endParaRPr b="0" lang="en-US" sz="50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403-BE7D-4425-BC26-FD62394B2871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四）歌声嘹亮 ，唱响红歌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0320" y="1359000"/>
            <a:ext cx="436536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“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迎国庆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·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祖国颂”大型歌咏比赛在南宁校区、黎塘校区同时举行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588" name="内容占位符 4" descr=""/>
          <p:cNvPicPr/>
          <p:nvPr/>
        </p:nvPicPr>
        <p:blipFill>
          <a:blip r:embed="rId2"/>
          <a:stretch/>
        </p:blipFill>
        <p:spPr>
          <a:xfrm>
            <a:off x="4865760" y="1243080"/>
            <a:ext cx="4125960" cy="305424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5" descr=""/>
          <p:cNvPicPr/>
          <p:nvPr/>
        </p:nvPicPr>
        <p:blipFill>
          <a:blip r:embed="rId3"/>
          <a:stretch/>
        </p:blipFill>
        <p:spPr>
          <a:xfrm>
            <a:off x="130320" y="3371760"/>
            <a:ext cx="4614840" cy="303048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6"/>
          <p:cNvSpPr/>
          <p:nvPr/>
        </p:nvSpPr>
        <p:spPr>
          <a:xfrm>
            <a:off x="5921280" y="47023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教职工激情开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053-0E9F-40E6-8DF7-CDFDD27144B6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236160"/>
            <a:ext cx="3406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同学们的精彩演出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94" name="内容占位符 4" descr=""/>
          <p:cNvPicPr/>
          <p:nvPr/>
        </p:nvPicPr>
        <p:blipFill>
          <a:blip r:embed="rId1"/>
          <a:stretch/>
        </p:blipFill>
        <p:spPr>
          <a:xfrm>
            <a:off x="76320" y="1214280"/>
            <a:ext cx="4278240" cy="3086280"/>
          </a:xfrm>
          <a:prstGeom prst="rect">
            <a:avLst/>
          </a:prstGeom>
          <a:ln w="0">
            <a:noFill/>
          </a:ln>
        </p:spPr>
      </p:pic>
      <p:pic>
        <p:nvPicPr>
          <p:cNvPr id="595" name="内容占位符 5" descr=""/>
          <p:cNvPicPr/>
          <p:nvPr/>
        </p:nvPicPr>
        <p:blipFill>
          <a:blip r:embed="rId2"/>
          <a:stretch/>
        </p:blipFill>
        <p:spPr>
          <a:xfrm>
            <a:off x="4452840" y="2209680"/>
            <a:ext cx="4603680" cy="3300480"/>
          </a:xfrm>
          <a:prstGeom prst="rect">
            <a:avLst/>
          </a:prstGeom>
          <a:ln w="0">
            <a:noFill/>
          </a:ln>
        </p:spPr>
      </p:pic>
      <p:sp>
        <p:nvSpPr>
          <p:cNvPr id="596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3D9B-FDD0-4B9A-8C1D-DBED2564C2EC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五）埃博拉出血热、登革热疫情引起我们的重视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1326960"/>
            <a:ext cx="427824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校医室针对埃博拉和登革热防控知识制作了板报宣传，组织学生积极学习有关知识，提高对疫情的认知和防控能力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学校对外围绿化带、化粪池、垃圾池、水沟、下水道、学生宿舍、食堂等重点区域喷杀蚊虫，并给学生宿舍发放了万友灭蟑灭蚊烟熏片进行灭蚊熏杀，为师生节后返学营造良好的环境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00" name="内容占位符 4" descr=""/>
          <p:cNvPicPr/>
          <p:nvPr/>
        </p:nvPicPr>
        <p:blipFill>
          <a:blip r:embed="rId3"/>
          <a:stretch/>
        </p:blipFill>
        <p:spPr>
          <a:xfrm>
            <a:off x="4327560" y="1409760"/>
            <a:ext cx="4641840" cy="3379680"/>
          </a:xfrm>
          <a:prstGeom prst="rect">
            <a:avLst/>
          </a:prstGeom>
          <a:ln w="0">
            <a:noFill/>
          </a:ln>
        </p:spPr>
      </p:pic>
      <p:sp>
        <p:nvSpPr>
          <p:cNvPr id="601" name="矩形 5"/>
          <p:cNvSpPr/>
          <p:nvPr/>
        </p:nvSpPr>
        <p:spPr>
          <a:xfrm>
            <a:off x="5983200" y="50817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a2b"/>
                </a:solidFill>
                <a:latin typeface="Arial"/>
              </a:rPr>
              <a:t>学生宿舍进行灭蚊熏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59A5-FD5E-49C4-BE20-BD037172CF97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109440" y="330120"/>
            <a:ext cx="925344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六）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10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月，新生杯、优胜杯篮球赛如火如荼进行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1248840"/>
            <a:ext cx="425592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f0000"/>
                </a:solidFill>
                <a:latin typeface="Calibri"/>
              </a:rPr>
              <a:t>篮球赛是展示班级风采的群英会，不仅展示了球员们超群的球技，更体现了团队合作精神和场上场下的集体荣誉感，提高班级的凝聚力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06" name="内容占位符 4" descr=""/>
          <p:cNvPicPr/>
          <p:nvPr/>
        </p:nvPicPr>
        <p:blipFill>
          <a:blip r:embed="rId3"/>
          <a:stretch/>
        </p:blipFill>
        <p:spPr>
          <a:xfrm>
            <a:off x="4495680" y="1708200"/>
            <a:ext cx="4538880" cy="34401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4"/>
          <a:stretch/>
        </p:blipFill>
        <p:spPr>
          <a:xfrm>
            <a:off x="109440" y="2801880"/>
            <a:ext cx="4267440" cy="2967120"/>
          </a:xfrm>
          <a:prstGeom prst="rect">
            <a:avLst/>
          </a:prstGeom>
          <a:ln w="0">
            <a:noFill/>
          </a:ln>
        </p:spPr>
      </p:pic>
      <p:sp>
        <p:nvSpPr>
          <p:cNvPr id="608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9AC-D008-4B33-9A40-6BE4A4AC590A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七）掀运动风暴 ，展学子风采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99520" y="1201680"/>
            <a:ext cx="41958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12" name="内容占位符 4" descr=""/>
          <p:cNvPicPr/>
          <p:nvPr/>
        </p:nvPicPr>
        <p:blipFill>
          <a:blip r:embed="rId2"/>
          <a:stretch/>
        </p:blipFill>
        <p:spPr>
          <a:xfrm>
            <a:off x="4867200" y="1839960"/>
            <a:ext cx="4135680" cy="315576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5" descr=""/>
          <p:cNvPicPr/>
          <p:nvPr/>
        </p:nvPicPr>
        <p:blipFill>
          <a:blip r:embed="rId3"/>
          <a:stretch/>
        </p:blipFill>
        <p:spPr>
          <a:xfrm>
            <a:off x="98280" y="2776680"/>
            <a:ext cx="4664160" cy="2873160"/>
          </a:xfrm>
          <a:prstGeom prst="rect">
            <a:avLst/>
          </a:prstGeom>
          <a:ln w="0">
            <a:noFill/>
          </a:ln>
        </p:spPr>
      </p:pic>
      <p:sp>
        <p:nvSpPr>
          <p:cNvPr id="61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8BE-A513-40E3-948C-139A7894C45C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355320"/>
            <a:ext cx="80103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八） 我的青春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0760" y="1134720"/>
            <a:ext cx="39294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18" name="内容占位符 4" descr=""/>
          <p:cNvPicPr/>
          <p:nvPr/>
        </p:nvPicPr>
        <p:blipFill>
          <a:blip r:embed="rId2"/>
          <a:stretch/>
        </p:blipFill>
        <p:spPr>
          <a:xfrm>
            <a:off x="141120" y="2671920"/>
            <a:ext cx="3929400" cy="261936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5" descr=""/>
          <p:cNvPicPr/>
          <p:nvPr/>
        </p:nvPicPr>
        <p:blipFill>
          <a:blip r:embed="rId3"/>
          <a:stretch/>
        </p:blipFill>
        <p:spPr>
          <a:xfrm>
            <a:off x="4200480" y="1293840"/>
            <a:ext cx="4213440" cy="205272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6" descr=""/>
          <p:cNvPicPr/>
          <p:nvPr/>
        </p:nvPicPr>
        <p:blipFill>
          <a:blip r:embed="rId4"/>
          <a:stretch/>
        </p:blipFill>
        <p:spPr>
          <a:xfrm>
            <a:off x="4200480" y="3559320"/>
            <a:ext cx="4213440" cy="3073320"/>
          </a:xfrm>
          <a:prstGeom prst="rect">
            <a:avLst/>
          </a:prstGeom>
          <a:ln w="0">
            <a:noFill/>
          </a:ln>
        </p:spPr>
      </p:pic>
      <p:sp>
        <p:nvSpPr>
          <p:cNvPr id="621" name="文本框 7"/>
          <p:cNvSpPr/>
          <p:nvPr/>
        </p:nvSpPr>
        <p:spPr>
          <a:xfrm>
            <a:off x="504720" y="2108160"/>
            <a:ext cx="30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精彩开场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"/>
          <p:cNvSpPr/>
          <p:nvPr/>
        </p:nvSpPr>
        <p:spPr>
          <a:xfrm>
            <a:off x="5138640" y="84312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校园十大歌手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9"/>
          <p:cNvSpPr/>
          <p:nvPr/>
        </p:nvSpPr>
        <p:spPr>
          <a:xfrm>
            <a:off x="8088120" y="3932280"/>
            <a:ext cx="729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十大歌手文艺展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BEB2-BC60-49F5-AC02-D76CF2C6EE3A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九）立诚于心，树信于行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1884240"/>
            <a:ext cx="2928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12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月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5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日晚，首届校园文化艺术节内容之 “立诚于心，树信于行”演讲比赛黎塘赛区决赛在灯光球场举行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28" name="内容占位符 6" descr=""/>
          <p:cNvPicPr/>
          <p:nvPr/>
        </p:nvPicPr>
        <p:blipFill>
          <a:blip r:embed="rId2"/>
          <a:stretch/>
        </p:blipFill>
        <p:spPr>
          <a:xfrm>
            <a:off x="3090960" y="1469880"/>
            <a:ext cx="5867280" cy="4386240"/>
          </a:xfrm>
          <a:prstGeom prst="rect">
            <a:avLst/>
          </a:prstGeom>
          <a:ln w="0">
            <a:noFill/>
          </a:ln>
        </p:spPr>
      </p:pic>
      <p:sp>
        <p:nvSpPr>
          <p:cNvPr id="629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2BF2-29D5-4057-BB57-D06EF28B0512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二、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2016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年你收获了什么？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632" name="内容占位符 5" descr=""/>
          <p:cNvPicPr/>
          <p:nvPr/>
        </p:nvPicPr>
        <p:blipFill>
          <a:blip r:embed="rId1"/>
          <a:stretch/>
        </p:blipFill>
        <p:spPr>
          <a:xfrm>
            <a:off x="4495680" y="1201680"/>
            <a:ext cx="4430880" cy="34894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0" y="1201320"/>
            <a:ext cx="44956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在学校里你参加了哪些活动？收获了什么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学习上有什么收获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生活上有什么收获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请同学们花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分钟的时间将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2016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年你的收获写下来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962-2E79-4515-8AA5-516A55928F59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680" y="744120"/>
            <a:ext cx="19814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反省自己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66640" y="2034720"/>
            <a:ext cx="39290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2016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年你完成目标了吗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你是否尽力去做事了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你有充分利用时间吗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你做事足够认真吗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38" name="内容占位符 4" descr=""/>
          <p:cNvPicPr/>
          <p:nvPr/>
        </p:nvPicPr>
        <p:blipFill>
          <a:blip r:embed="rId5"/>
          <a:stretch/>
        </p:blipFill>
        <p:spPr>
          <a:xfrm>
            <a:off x="4800600" y="1044720"/>
            <a:ext cx="3995640" cy="4475160"/>
          </a:xfrm>
          <a:prstGeom prst="rect">
            <a:avLst/>
          </a:prstGeom>
          <a:ln w="0">
            <a:noFill/>
          </a:ln>
        </p:spPr>
      </p:pic>
      <p:sp>
        <p:nvSpPr>
          <p:cNvPr id="639" name="灯片编号占位符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89BF-854E-4460-81F5-19339D952797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三、展望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2017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642" name="内容占位符 4" descr=""/>
          <p:cNvPicPr/>
          <p:nvPr/>
        </p:nvPicPr>
        <p:blipFill>
          <a:blip r:embed="rId1"/>
          <a:stretch/>
        </p:blipFill>
        <p:spPr>
          <a:xfrm>
            <a:off x="566640" y="1201680"/>
            <a:ext cx="3929040" cy="46879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4648320" y="1890720"/>
            <a:ext cx="39290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2017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年即将来临，你准备好了吗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请同学们花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分钟的时间思考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2017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年的目标和计划并写下来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4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4C9-DC42-4517-A7DD-4C0183DE4AD3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66640" y="36648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一、回顾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66640" y="1201320"/>
            <a:ext cx="801072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0000"/>
                </a:solidFill>
                <a:latin typeface="Calibri"/>
              </a:rPr>
              <a:t>2016</a:t>
            </a:r>
            <a:r>
              <a:rPr b="1" lang="zh-CN" sz="3000" spc="-1" strike="noStrike">
                <a:solidFill>
                  <a:srgbClr val="8f0000"/>
                </a:solidFill>
                <a:latin typeface="Calibri"/>
              </a:rPr>
              <a:t>年已悄然离去，但留下了满满的回忆。</a:t>
            </a:r>
            <a:endParaRPr b="0" lang="en-US" sz="3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f0000"/>
                </a:solidFill>
                <a:latin typeface="Calibri"/>
              </a:rPr>
              <a:t>让我们一起回忆走过的</a:t>
            </a:r>
            <a:r>
              <a:rPr b="1" lang="en-US" sz="3000" spc="-1" strike="noStrike">
                <a:solidFill>
                  <a:srgbClr val="8f0000"/>
                </a:solidFill>
                <a:latin typeface="Calibri"/>
              </a:rPr>
              <a:t>2016</a:t>
            </a:r>
            <a:r>
              <a:rPr b="1" lang="zh-CN" sz="3000" spc="-1" strike="noStrike">
                <a:solidFill>
                  <a:srgbClr val="8f0000"/>
                </a:solidFill>
                <a:latin typeface="Calibri"/>
              </a:rPr>
              <a:t>年。</a:t>
            </a:r>
            <a:endParaRPr b="0" lang="en-US" sz="3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542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9B69-099E-4C28-AC0F-681011428876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2017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年，你又将拥有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365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天去追逐你的梦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66280" y="1642680"/>
            <a:ext cx="82076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每一个人的路都不可能是平坦的，所以路上才会有那么多虽然艰难却依然努力前行的勇敢者，沉舟侧畔千帆过，病树前头万木春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同学们，新的一年开启新的希望，新的空间承载新的梦想，拂去岁月之尘，我们应该以焕然一新的面貌去迎接曙光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作为中职生，我们应该时刻绷紧脑子里的弦，做到分秒必争，学好专业知识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同学们，期末考试又将来临了，怎样才能打一场漂亮的胜仗呢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同学们，技能展示汇报会和元旦晚会即将开始，你准备好了吗？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sp>
        <p:nvSpPr>
          <p:cNvPr id="648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32A-728D-4277-88FC-BE5D048832EA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     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新年寄语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1960" y="1495080"/>
            <a:ext cx="88390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做一个简单的人，踏实而务实。不沉溺幻想，不庸人自扰。要快乐，要开朗，要坚韧，要温暖，对人真诚。要诚恳，要坦然，要慷慨，要宽容，要有平常心。永远对生活充满希望，对于困境与磨难，微笑面对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652" name="图片 4" descr=""/>
          <p:cNvPicPr/>
          <p:nvPr/>
        </p:nvPicPr>
        <p:blipFill>
          <a:blip r:embed="rId2"/>
          <a:stretch/>
        </p:blipFill>
        <p:spPr>
          <a:xfrm>
            <a:off x="0" y="2690640"/>
            <a:ext cx="9144000" cy="4167360"/>
          </a:xfrm>
          <a:prstGeom prst="rect">
            <a:avLst/>
          </a:prstGeom>
          <a:ln w="0">
            <a:noFill/>
          </a:ln>
        </p:spPr>
      </p:pic>
      <p:sp>
        <p:nvSpPr>
          <p:cNvPr id="653" name="灯片编号占位符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6F7-399B-4C23-BFF3-0A6478BE230A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页脚占位符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39920" y="1941480"/>
            <a:ext cx="4294080" cy="15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f0000"/>
                </a:solidFill>
                <a:latin typeface="Tempus Sans ITC"/>
              </a:rPr>
              <a:t>谢谢观赏！</a:t>
            </a:r>
            <a:endParaRPr b="0" lang="en-US" sz="60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656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D59-49F2-4D26-8B0A-51DA14F45B23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a2b"/>
                </a:solidFill>
                <a:latin typeface="Tempus Sans ITC"/>
              </a:rPr>
              <a:t>（一）新生来到校园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45" name="内容占位符 9" descr=""/>
          <p:cNvPicPr/>
          <p:nvPr/>
        </p:nvPicPr>
        <p:blipFill>
          <a:blip r:embed="rId1"/>
          <a:stretch/>
        </p:blipFill>
        <p:spPr>
          <a:xfrm>
            <a:off x="4202280" y="1424160"/>
            <a:ext cx="4789440" cy="3538440"/>
          </a:xfrm>
          <a:prstGeom prst="rect">
            <a:avLst/>
          </a:prstGeom>
          <a:ln w="0">
            <a:noFill/>
          </a:ln>
        </p:spPr>
      </p:pic>
      <p:sp>
        <p:nvSpPr>
          <p:cNvPr id="546" name="矩形 10"/>
          <p:cNvSpPr/>
          <p:nvPr/>
        </p:nvSpPr>
        <p:spPr>
          <a:xfrm>
            <a:off x="6001920" y="514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新生报到现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9D7-A4F4-481B-9014-2D45F7279D87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66640" y="445680"/>
            <a:ext cx="37116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新生入学，老生接待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50" name="内容占位符 6" descr=""/>
          <p:cNvPicPr/>
          <p:nvPr/>
        </p:nvPicPr>
        <p:blipFill>
          <a:blip r:embed="rId1"/>
          <a:stretch/>
        </p:blipFill>
        <p:spPr>
          <a:xfrm>
            <a:off x="103320" y="2712960"/>
            <a:ext cx="4468680" cy="2979720"/>
          </a:xfrm>
          <a:prstGeom prst="rect">
            <a:avLst/>
          </a:prstGeom>
          <a:ln w="0">
            <a:noFill/>
          </a:ln>
        </p:spPr>
      </p:pic>
      <p:pic>
        <p:nvPicPr>
          <p:cNvPr id="551" name="内容占位符 8" descr=""/>
          <p:cNvPicPr/>
          <p:nvPr/>
        </p:nvPicPr>
        <p:blipFill>
          <a:blip r:embed="rId2"/>
          <a:stretch/>
        </p:blipFill>
        <p:spPr>
          <a:xfrm>
            <a:off x="4675320" y="698400"/>
            <a:ext cx="4381200" cy="2841840"/>
          </a:xfrm>
          <a:prstGeom prst="rect">
            <a:avLst/>
          </a:prstGeom>
          <a:ln w="0">
            <a:noFill/>
          </a:ln>
        </p:spPr>
      </p:pic>
      <p:sp>
        <p:nvSpPr>
          <p:cNvPr id="552" name="矩形 7"/>
          <p:cNvSpPr/>
          <p:nvPr/>
        </p:nvSpPr>
        <p:spPr>
          <a:xfrm>
            <a:off x="103320" y="20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班主任助理向新生和家长介绍</a:t>
            </a:r>
            <a:r>
              <a:rPr b="1" lang="en-US" sz="1800" spc="-1" strike="noStrike">
                <a:solidFill>
                  <a:srgbClr val="292a2b"/>
                </a:solidFill>
                <a:latin typeface="Arial"/>
                <a:ea typeface="宋体"/>
              </a:rPr>
              <a:t>IC</a:t>
            </a: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卡使用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9"/>
          <p:cNvSpPr/>
          <p:nvPr/>
        </p:nvSpPr>
        <p:spPr>
          <a:xfrm>
            <a:off x="6098760" y="4022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志愿者协助新生搬运行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977E-A322-44C2-85AD-C35C7305756D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二）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9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月，新生开始了军训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57" name="内容占位符 4" descr=""/>
          <p:cNvPicPr/>
          <p:nvPr/>
        </p:nvPicPr>
        <p:blipFill>
          <a:blip r:embed="rId1"/>
          <a:stretch/>
        </p:blipFill>
        <p:spPr>
          <a:xfrm>
            <a:off x="3832200" y="1353960"/>
            <a:ext cx="4942080" cy="3413160"/>
          </a:xfrm>
          <a:prstGeom prst="rect">
            <a:avLst/>
          </a:prstGeom>
          <a:ln w="0">
            <a:noFill/>
          </a:ln>
        </p:spPr>
      </p:pic>
      <p:sp>
        <p:nvSpPr>
          <p:cNvPr id="558" name="文本框 5"/>
          <p:cNvSpPr/>
          <p:nvPr/>
        </p:nvSpPr>
        <p:spPr>
          <a:xfrm>
            <a:off x="4202280" y="536724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军训动员大会开启了</a:t>
            </a:r>
            <a:r>
              <a:rPr b="0" lang="en-US" sz="1800" spc="-1" strike="noStrike">
                <a:solidFill>
                  <a:srgbClr val="2a2a2b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天军训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9B4-D7F9-458A-ADFA-80A43AB35E10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天气炎热，依然坚持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62" name="内容占位符 9" descr=""/>
          <p:cNvPicPr/>
          <p:nvPr/>
        </p:nvPicPr>
        <p:blipFill>
          <a:blip r:embed="rId1"/>
          <a:stretch/>
        </p:blipFill>
        <p:spPr>
          <a:xfrm>
            <a:off x="4735440" y="838080"/>
            <a:ext cx="4233960" cy="3372120"/>
          </a:xfrm>
          <a:prstGeom prst="rect">
            <a:avLst/>
          </a:prstGeom>
          <a:ln w="0">
            <a:noFill/>
          </a:ln>
        </p:spPr>
      </p:pic>
      <p:pic>
        <p:nvPicPr>
          <p:cNvPr id="563" name="内容占位符 8" descr=""/>
          <p:cNvPicPr/>
          <p:nvPr/>
        </p:nvPicPr>
        <p:blipFill>
          <a:blip r:embed="rId2"/>
          <a:stretch/>
        </p:blipFill>
        <p:spPr>
          <a:xfrm>
            <a:off x="119160" y="2362320"/>
            <a:ext cx="4464000" cy="2977920"/>
          </a:xfrm>
          <a:prstGeom prst="rect">
            <a:avLst/>
          </a:prstGeom>
          <a:ln w="0">
            <a:noFill/>
          </a:ln>
        </p:spPr>
      </p:pic>
      <p:sp>
        <p:nvSpPr>
          <p:cNvPr id="564" name="矩形 10"/>
          <p:cNvSpPr/>
          <p:nvPr/>
        </p:nvSpPr>
        <p:spPr>
          <a:xfrm>
            <a:off x="1256400" y="1579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教官正在指导同学们改正动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1"/>
          <p:cNvSpPr/>
          <p:nvPr/>
        </p:nvSpPr>
        <p:spPr>
          <a:xfrm>
            <a:off x="5818680" y="4707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a2b"/>
                </a:solidFill>
                <a:latin typeface="Arial"/>
                <a:ea typeface="宋体"/>
              </a:rPr>
              <a:t>同学们正在刻苦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F2C-D231-47A5-B0C7-B70DB03A16D1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867960"/>
            <a:ext cx="44528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0000"/>
                </a:solidFill>
                <a:latin typeface="Tempus Sans ITC"/>
              </a:rPr>
              <a:t>军训汇报会，努力终有回报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69" name="内容占位符 4" descr=""/>
          <p:cNvPicPr/>
          <p:nvPr/>
        </p:nvPicPr>
        <p:blipFill>
          <a:blip r:embed="rId1"/>
          <a:stretch/>
        </p:blipFill>
        <p:spPr>
          <a:xfrm>
            <a:off x="195120" y="2035080"/>
            <a:ext cx="4453200" cy="3843360"/>
          </a:xfrm>
          <a:prstGeom prst="rect">
            <a:avLst/>
          </a:prstGeom>
          <a:ln w="0">
            <a:noFill/>
          </a:ln>
        </p:spPr>
      </p:pic>
      <p:pic>
        <p:nvPicPr>
          <p:cNvPr id="570" name="内容占位符 5" descr=""/>
          <p:cNvPicPr/>
          <p:nvPr/>
        </p:nvPicPr>
        <p:blipFill>
          <a:blip r:embed="rId2"/>
          <a:stretch/>
        </p:blipFill>
        <p:spPr>
          <a:xfrm>
            <a:off x="4648320" y="743040"/>
            <a:ext cx="4267080" cy="4014720"/>
          </a:xfrm>
          <a:prstGeom prst="rect">
            <a:avLst/>
          </a:prstGeom>
          <a:ln w="0">
            <a:noFill/>
          </a:ln>
        </p:spPr>
      </p:pic>
      <p:sp>
        <p:nvSpPr>
          <p:cNvPr id="571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BD06-39DE-470F-8174-C30ED02D63A0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（三）</a:t>
            </a:r>
            <a:r>
              <a:rPr b="0" lang="en-US" sz="2800" spc="-1" strike="noStrike">
                <a:solidFill>
                  <a:srgbClr val="bf0000"/>
                </a:solidFill>
                <a:latin typeface="Tempus Sans ITC"/>
              </a:rPr>
              <a:t>9</a:t>
            </a: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月，校团委举办中秋节游园活动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1785600"/>
            <a:ext cx="28526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“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我们的节日</a:t>
            </a:r>
            <a:r>
              <a:rPr b="1" lang="en-US" sz="2000" spc="-1" strike="noStrike">
                <a:solidFill>
                  <a:srgbClr val="8f0000"/>
                </a:solidFill>
                <a:latin typeface="Calibri"/>
              </a:rPr>
              <a:t>•</a:t>
            </a:r>
            <a:r>
              <a:rPr b="1" lang="zh-CN" sz="2000" spc="-1" strike="noStrike">
                <a:solidFill>
                  <a:srgbClr val="8f0000"/>
                </a:solidFill>
                <a:latin typeface="Calibri"/>
              </a:rPr>
              <a:t>中秋”游园活动。</a:t>
            </a:r>
            <a:endParaRPr b="0" lang="en-US" sz="2000" spc="-1" strike="noStrike">
              <a:solidFill>
                <a:srgbClr val="8f0000"/>
              </a:solidFill>
              <a:latin typeface="Calibri"/>
            </a:endParaRPr>
          </a:p>
        </p:txBody>
      </p:sp>
      <p:pic>
        <p:nvPicPr>
          <p:cNvPr id="575" name="内容占位符 4" descr=""/>
          <p:cNvPicPr/>
          <p:nvPr/>
        </p:nvPicPr>
        <p:blipFill>
          <a:blip r:embed="rId2"/>
          <a:stretch/>
        </p:blipFill>
        <p:spPr>
          <a:xfrm>
            <a:off x="2808360" y="1468440"/>
            <a:ext cx="5943600" cy="3963960"/>
          </a:xfrm>
          <a:prstGeom prst="rect">
            <a:avLst/>
          </a:prstGeom>
          <a:ln w="0">
            <a:noFill/>
          </a:ln>
        </p:spPr>
      </p:pic>
      <p:sp>
        <p:nvSpPr>
          <p:cNvPr id="576" name="文本框 5"/>
          <p:cNvSpPr/>
          <p:nvPr/>
        </p:nvSpPr>
        <p:spPr>
          <a:xfrm>
            <a:off x="5280120" y="556272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2a2b"/>
                </a:solidFill>
                <a:latin typeface="Arial"/>
                <a:ea typeface="宋体"/>
              </a:rPr>
              <a:t>游园活动现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26E-A0B7-40A5-9981-70E1D7F3693D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66640" y="236160"/>
            <a:ext cx="80107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f0000"/>
                </a:solidFill>
                <a:latin typeface="Tempus Sans ITC"/>
              </a:rPr>
              <a:t>丰富多彩的小游戏</a:t>
            </a:r>
            <a:endParaRPr b="0" lang="en-US" sz="2800" spc="-1" strike="noStrike">
              <a:solidFill>
                <a:srgbClr val="bf0000"/>
              </a:solidFill>
              <a:latin typeface="Tempus Sans ITC"/>
            </a:endParaRPr>
          </a:p>
        </p:txBody>
      </p:sp>
      <p:pic>
        <p:nvPicPr>
          <p:cNvPr id="580" name="内容占位符 4" descr=""/>
          <p:cNvPicPr/>
          <p:nvPr/>
        </p:nvPicPr>
        <p:blipFill>
          <a:blip r:embed="rId1"/>
          <a:stretch/>
        </p:blipFill>
        <p:spPr>
          <a:xfrm>
            <a:off x="98280" y="1378080"/>
            <a:ext cx="4550040" cy="3395520"/>
          </a:xfrm>
          <a:prstGeom prst="rect">
            <a:avLst/>
          </a:prstGeom>
          <a:ln w="0">
            <a:noFill/>
          </a:ln>
        </p:spPr>
      </p:pic>
      <p:pic>
        <p:nvPicPr>
          <p:cNvPr id="581" name="内容占位符 5" descr=""/>
          <p:cNvPicPr/>
          <p:nvPr/>
        </p:nvPicPr>
        <p:blipFill>
          <a:blip r:embed="rId2"/>
          <a:stretch/>
        </p:blipFill>
        <p:spPr>
          <a:xfrm>
            <a:off x="4762440" y="2166840"/>
            <a:ext cx="4272120" cy="3446640"/>
          </a:xfrm>
          <a:prstGeom prst="rect">
            <a:avLst/>
          </a:prstGeom>
          <a:ln w="0">
            <a:noFill/>
          </a:ln>
        </p:spPr>
      </p:pic>
      <p:sp>
        <p:nvSpPr>
          <p:cNvPr id="582" name="矩形 6"/>
          <p:cNvSpPr/>
          <p:nvPr/>
        </p:nvSpPr>
        <p:spPr>
          <a:xfrm>
            <a:off x="1796040" y="4773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a2b"/>
                </a:solidFill>
                <a:latin typeface="Arial"/>
              </a:rPr>
              <a:t>吹蜡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6598440" y="161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a2b"/>
                </a:solidFill>
                <a:latin typeface="Arial"/>
              </a:rPr>
              <a:t>气球水上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FC7-68DF-4A1F-B4ED-7951B0C5AD13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SUS</cp:lastModifiedBy>
  <dcterms:modified xsi:type="dcterms:W3CDTF">2019-08-26T09:33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